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6.png" ContentType="image/png"/>
  <Override PartName="/ppt/media/image11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9.gif" ContentType="image/gi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FE1B-CD86-4ED8-8AB5-3890D6AF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D36A-F43C-46F0-A79B-589C4642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A357-D464-4648-9B71-882241E3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B5E4-3ADD-4430-9CDB-E7120292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46F5-9C05-4102-9D4A-45C55A60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3F96-FFF5-4915-A852-C2FEE6B6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FABE-D3A3-4C19-95AB-A97A94CC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1D83-719D-4BA1-817A-580281FB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A78B-600F-4878-AA85-CD1723F8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5330-39EA-4607-A638-4BCF10F7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F117-2D1B-4C92-BC7F-ECB95274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2923-86B1-4A17-BBF8-98227F94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F0CC-F63D-4E24-A66E-1AE603DE9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ff"/>
                </a:solidFill>
                <a:latin typeface="Arial Black"/>
              </a:rPr>
              <a:t>Present Simple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70167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ff"/>
                </a:solidFill>
                <a:latin typeface="Arial"/>
              </a:rPr>
              <a:t>(To be, do, do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ff"/>
                </a:solidFill>
                <a:latin typeface="Arial"/>
              </a:rPr>
              <a:t>have (has), c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ff"/>
                </a:solidFill>
                <a:latin typeface="Arial"/>
              </a:rPr>
              <a:t>Y.Y.Smirn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ff"/>
                </a:solidFill>
                <a:latin typeface="Arial"/>
              </a:rPr>
              <a:t>School </a:t>
            </a:r>
            <a:r>
              <a:rPr b="1" i="1" lang="ru-RU" sz="2800" spc="-1" strike="noStrike">
                <a:solidFill>
                  <a:srgbClr val="6600ff"/>
                </a:solidFill>
                <a:latin typeface="Arial"/>
              </a:rPr>
              <a:t>№</a:t>
            </a:r>
            <a:r>
              <a:rPr b="1" i="1" lang="en-US" sz="2800" spc="-1" strike="noStrike">
                <a:solidFill>
                  <a:srgbClr val="6600ff"/>
                </a:solidFill>
                <a:latin typeface="Arial"/>
              </a:rPr>
              <a:t>6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ff"/>
                </a:solidFill>
                <a:latin typeface="Arial"/>
              </a:rPr>
              <a:t>Saint-Peter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ff"/>
                </a:solidFill>
                <a:latin typeface="Arial"/>
              </a:rPr>
              <a:t>201</a:t>
            </a:r>
            <a:r>
              <a:rPr b="1" i="1" lang="ru-RU" sz="2800" spc="-1" strike="noStrike">
                <a:solidFill>
                  <a:srgbClr val="6600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после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подлежаще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оит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лагол действия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еред ним ставится вспомогательный глагол </a:t>
            </a: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(doe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отрицательная частица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no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n’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(do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watch T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does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n’t</a:t>
            </a: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 (does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mming-pool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does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n’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r mother to c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does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n’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w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2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26920" y="981000"/>
            <a:ext cx="734544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ood luck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ee you later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124000" y="981000"/>
            <a:ext cx="3529080" cy="935280"/>
            <a:chOff x="2124000" y="981000"/>
            <a:chExt cx="3529080" cy="935280"/>
          </a:xfrm>
        </p:grpSpPr>
        <p:sp>
          <p:nvSpPr>
            <p:cNvPr id="44" name=""/>
            <p:cNvSpPr/>
            <p:nvPr/>
          </p:nvSpPr>
          <p:spPr>
            <a:xfrm>
              <a:off x="2124000" y="981000"/>
              <a:ext cx="3529080" cy="93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>
              <a:off x="3276720" y="1197000"/>
              <a:ext cx="10191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</a:rPr>
                <a:t>to b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1187280" y="2852640"/>
            <a:ext cx="1439640" cy="649440"/>
            <a:chOff x="1187280" y="2852640"/>
            <a:chExt cx="1439640" cy="649440"/>
          </a:xfrm>
        </p:grpSpPr>
        <p:sp>
          <p:nvSpPr>
            <p:cNvPr id="47" name=""/>
            <p:cNvSpPr/>
            <p:nvPr/>
          </p:nvSpPr>
          <p:spPr>
            <a:xfrm>
              <a:off x="1187280" y="2852640"/>
              <a:ext cx="1439640" cy="649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1547640" y="2925720"/>
              <a:ext cx="6379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</a:rPr>
                <a:t>am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708360" y="3860640"/>
            <a:ext cx="1439640" cy="649440"/>
            <a:chOff x="3708360" y="3860640"/>
            <a:chExt cx="1439640" cy="649440"/>
          </a:xfrm>
        </p:grpSpPr>
        <p:sp>
          <p:nvSpPr>
            <p:cNvPr id="50" name=""/>
            <p:cNvSpPr/>
            <p:nvPr/>
          </p:nvSpPr>
          <p:spPr>
            <a:xfrm>
              <a:off x="3708360" y="3860640"/>
              <a:ext cx="1439640" cy="649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4282920" y="3931920"/>
              <a:ext cx="3240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</a:rPr>
                <a:t>i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56360" y="4869000"/>
            <a:ext cx="1440000" cy="649080"/>
            <a:chOff x="6156360" y="4869000"/>
            <a:chExt cx="1440000" cy="649080"/>
          </a:xfrm>
        </p:grpSpPr>
        <p:sp>
          <p:nvSpPr>
            <p:cNvPr id="53" name=""/>
            <p:cNvSpPr/>
            <p:nvPr/>
          </p:nvSpPr>
          <p:spPr>
            <a:xfrm>
              <a:off x="6156360" y="4869000"/>
              <a:ext cx="1440000" cy="64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6516720" y="4941720"/>
              <a:ext cx="66672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</a:rPr>
                <a:t>ar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 flipH="1">
            <a:off x="1908000" y="1916280"/>
            <a:ext cx="122400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67280" y="1916280"/>
            <a:ext cx="288720" cy="20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03640" y="1916280"/>
            <a:ext cx="1873440" cy="30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1333440" cy="838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19280" y="3789360"/>
            <a:ext cx="1541520" cy="1584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484360" y="472428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708360" y="5373720"/>
            <a:ext cx="1152720" cy="822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6227640" y="3716280"/>
            <a:ext cx="2606760" cy="10018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468360" y="1197000"/>
            <a:ext cx="792000" cy="647640"/>
            <a:chOff x="468360" y="1197000"/>
            <a:chExt cx="792000" cy="647640"/>
          </a:xfrm>
        </p:grpSpPr>
        <p:sp>
          <p:nvSpPr>
            <p:cNvPr id="64" name=""/>
            <p:cNvSpPr/>
            <p:nvPr/>
          </p:nvSpPr>
          <p:spPr>
            <a:xfrm>
              <a:off x="468360" y="1197000"/>
              <a:ext cx="79200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755640" y="1268280"/>
              <a:ext cx="11448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</a:rPr>
                <a:t>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187280" y="4724280"/>
            <a:ext cx="792360" cy="648000"/>
            <a:chOff x="1187280" y="4724280"/>
            <a:chExt cx="792360" cy="648000"/>
          </a:xfrm>
        </p:grpSpPr>
        <p:sp>
          <p:nvSpPr>
            <p:cNvPr id="67" name=""/>
            <p:cNvSpPr/>
            <p:nvPr/>
          </p:nvSpPr>
          <p:spPr>
            <a:xfrm>
              <a:off x="1187280" y="4724280"/>
              <a:ext cx="792360" cy="64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1258920" y="4797360"/>
              <a:ext cx="5904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</a:rPr>
                <a:t>H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268360" y="5661000"/>
            <a:ext cx="792000" cy="647640"/>
            <a:chOff x="2268360" y="5661000"/>
            <a:chExt cx="792000" cy="647640"/>
          </a:xfrm>
        </p:grpSpPr>
        <p:sp>
          <p:nvSpPr>
            <p:cNvPr id="70" name=""/>
            <p:cNvSpPr/>
            <p:nvPr/>
          </p:nvSpPr>
          <p:spPr>
            <a:xfrm>
              <a:off x="2268360" y="5661000"/>
              <a:ext cx="79200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2268360" y="5734080"/>
              <a:ext cx="7207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</a:rPr>
                <a:t>Sh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356000" y="6021360"/>
            <a:ext cx="792360" cy="647640"/>
            <a:chOff x="4356000" y="6021360"/>
            <a:chExt cx="792360" cy="647640"/>
          </a:xfrm>
        </p:grpSpPr>
        <p:sp>
          <p:nvSpPr>
            <p:cNvPr id="73" name=""/>
            <p:cNvSpPr/>
            <p:nvPr/>
          </p:nvSpPr>
          <p:spPr>
            <a:xfrm>
              <a:off x="4356000" y="6021360"/>
              <a:ext cx="79236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4645080" y="6092640"/>
              <a:ext cx="2379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</a:rPr>
                <a:t>I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867280" y="3500280"/>
            <a:ext cx="936720" cy="720720"/>
            <a:chOff x="5867280" y="3500280"/>
            <a:chExt cx="936720" cy="720720"/>
          </a:xfrm>
        </p:grpSpPr>
        <p:sp>
          <p:nvSpPr>
            <p:cNvPr id="76" name=""/>
            <p:cNvSpPr/>
            <p:nvPr/>
          </p:nvSpPr>
          <p:spPr>
            <a:xfrm>
              <a:off x="5867280" y="3500280"/>
              <a:ext cx="93672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5938920" y="3643200"/>
              <a:ext cx="7142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</a:rPr>
                <a:t>W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948360" y="2852640"/>
            <a:ext cx="934920" cy="718920"/>
            <a:chOff x="6948360" y="2852640"/>
            <a:chExt cx="934920" cy="718920"/>
          </a:xfrm>
        </p:grpSpPr>
        <p:sp>
          <p:nvSpPr>
            <p:cNvPr id="79" name=""/>
            <p:cNvSpPr/>
            <p:nvPr/>
          </p:nvSpPr>
          <p:spPr>
            <a:xfrm>
              <a:off x="6948360" y="2852640"/>
              <a:ext cx="934920" cy="71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6948360" y="2995560"/>
              <a:ext cx="90468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</a:rPr>
                <a:t>They</a:t>
              </a:r>
              <a:endPara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8028000" y="3429000"/>
            <a:ext cx="971640" cy="718920"/>
            <a:chOff x="8028000" y="3429000"/>
            <a:chExt cx="971640" cy="718920"/>
          </a:xfrm>
        </p:grpSpPr>
        <p:sp>
          <p:nvSpPr>
            <p:cNvPr id="82" name=""/>
            <p:cNvSpPr/>
            <p:nvPr/>
          </p:nvSpPr>
          <p:spPr>
            <a:xfrm>
              <a:off x="8028000" y="3429000"/>
              <a:ext cx="971640" cy="71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8199720" y="3500280"/>
              <a:ext cx="7999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</a:rPr>
                <a:t>You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042920" y="2708280"/>
            <a:ext cx="863640" cy="719280"/>
            <a:chOff x="1042920" y="2708280"/>
            <a:chExt cx="863640" cy="719280"/>
          </a:xfrm>
        </p:grpSpPr>
        <p:sp>
          <p:nvSpPr>
            <p:cNvPr id="85" name=""/>
            <p:cNvSpPr/>
            <p:nvPr/>
          </p:nvSpPr>
          <p:spPr>
            <a:xfrm>
              <a:off x="1042920" y="2708280"/>
              <a:ext cx="863640" cy="7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1403280" y="2781360"/>
              <a:ext cx="13356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I</a:t>
              </a:r>
              <a:endPara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979640" y="1484280"/>
            <a:ext cx="863640" cy="719280"/>
            <a:chOff x="1979640" y="1484280"/>
            <a:chExt cx="863640" cy="719280"/>
          </a:xfrm>
        </p:grpSpPr>
        <p:sp>
          <p:nvSpPr>
            <p:cNvPr id="88" name=""/>
            <p:cNvSpPr/>
            <p:nvPr/>
          </p:nvSpPr>
          <p:spPr>
            <a:xfrm>
              <a:off x="1979640" y="1484280"/>
              <a:ext cx="863640" cy="7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2268360" y="1555560"/>
              <a:ext cx="3430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is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435640" y="1341360"/>
            <a:ext cx="863280" cy="719280"/>
            <a:chOff x="5435640" y="1341360"/>
            <a:chExt cx="863280" cy="719280"/>
          </a:xfrm>
        </p:grpSpPr>
        <p:sp>
          <p:nvSpPr>
            <p:cNvPr id="91" name=""/>
            <p:cNvSpPr/>
            <p:nvPr/>
          </p:nvSpPr>
          <p:spPr>
            <a:xfrm>
              <a:off x="5435640" y="1341360"/>
              <a:ext cx="863280" cy="7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5506920" y="1412640"/>
              <a:ext cx="5810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am</a:t>
              </a:r>
              <a:endPara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380360" y="1341360"/>
            <a:ext cx="863640" cy="719280"/>
            <a:chOff x="7380360" y="1341360"/>
            <a:chExt cx="863640" cy="719280"/>
          </a:xfrm>
        </p:grpSpPr>
        <p:sp>
          <p:nvSpPr>
            <p:cNvPr id="94" name=""/>
            <p:cNvSpPr/>
            <p:nvPr/>
          </p:nvSpPr>
          <p:spPr>
            <a:xfrm>
              <a:off x="7380360" y="1341360"/>
              <a:ext cx="863640" cy="7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7451640" y="1414440"/>
              <a:ext cx="6289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are</a:t>
              </a:r>
              <a:endPara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067280" y="2637000"/>
            <a:ext cx="3313080" cy="718920"/>
            <a:chOff x="4067280" y="2637000"/>
            <a:chExt cx="3313080" cy="718920"/>
          </a:xfrm>
        </p:grpSpPr>
        <p:sp>
          <p:nvSpPr>
            <p:cNvPr id="97" name=""/>
            <p:cNvSpPr/>
            <p:nvPr/>
          </p:nvSpPr>
          <p:spPr>
            <a:xfrm>
              <a:off x="4067280" y="2637000"/>
              <a:ext cx="3313080" cy="71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4643280" y="2709720"/>
              <a:ext cx="1761840" cy="57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a student</a:t>
              </a:r>
              <a:endPara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042920" y="3860640"/>
            <a:ext cx="863640" cy="719280"/>
            <a:chOff x="1042920" y="3860640"/>
            <a:chExt cx="863640" cy="719280"/>
          </a:xfrm>
        </p:grpSpPr>
        <p:sp>
          <p:nvSpPr>
            <p:cNvPr id="100" name=""/>
            <p:cNvSpPr/>
            <p:nvPr/>
          </p:nvSpPr>
          <p:spPr>
            <a:xfrm>
              <a:off x="1042920" y="3860640"/>
              <a:ext cx="863640" cy="7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1187280" y="3933720"/>
              <a:ext cx="6001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We</a:t>
              </a:r>
              <a:endPara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140360" y="3860640"/>
            <a:ext cx="3240000" cy="719280"/>
            <a:chOff x="4140360" y="3860640"/>
            <a:chExt cx="3240000" cy="719280"/>
          </a:xfrm>
        </p:grpSpPr>
        <p:sp>
          <p:nvSpPr>
            <p:cNvPr id="103" name=""/>
            <p:cNvSpPr/>
            <p:nvPr/>
          </p:nvSpPr>
          <p:spPr>
            <a:xfrm>
              <a:off x="4140360" y="3860640"/>
              <a:ext cx="3240000" cy="7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4716360" y="3933720"/>
              <a:ext cx="16952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teachers</a:t>
              </a:r>
              <a:endPara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042920" y="4869000"/>
            <a:ext cx="863640" cy="718920"/>
            <a:chOff x="1042920" y="4869000"/>
            <a:chExt cx="863640" cy="718920"/>
          </a:xfrm>
        </p:grpSpPr>
        <p:sp>
          <p:nvSpPr>
            <p:cNvPr id="106" name=""/>
            <p:cNvSpPr/>
            <p:nvPr/>
          </p:nvSpPr>
          <p:spPr>
            <a:xfrm>
              <a:off x="1042920" y="4869000"/>
              <a:ext cx="863640" cy="71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1116000" y="4941720"/>
              <a:ext cx="7142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She</a:t>
              </a:r>
              <a:endPara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140360" y="4869000"/>
            <a:ext cx="3240000" cy="718920"/>
            <a:chOff x="4140360" y="4869000"/>
            <a:chExt cx="3240000" cy="718920"/>
          </a:xfrm>
        </p:grpSpPr>
        <p:sp>
          <p:nvSpPr>
            <p:cNvPr id="109" name=""/>
            <p:cNvSpPr/>
            <p:nvPr/>
          </p:nvSpPr>
          <p:spPr>
            <a:xfrm>
              <a:off x="4140360" y="4869000"/>
              <a:ext cx="3240000" cy="71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4859280" y="4941720"/>
              <a:ext cx="1552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a doctor</a:t>
              </a:r>
              <a:endPara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971640" y="5734080"/>
            <a:ext cx="863640" cy="719280"/>
            <a:chOff x="971640" y="5734080"/>
            <a:chExt cx="863640" cy="719280"/>
          </a:xfrm>
        </p:grpSpPr>
        <p:sp>
          <p:nvSpPr>
            <p:cNvPr id="112" name=""/>
            <p:cNvSpPr/>
            <p:nvPr/>
          </p:nvSpPr>
          <p:spPr>
            <a:xfrm>
              <a:off x="971640" y="5734080"/>
              <a:ext cx="863640" cy="7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1116000" y="5805360"/>
              <a:ext cx="6955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You</a:t>
              </a:r>
              <a:endPara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140360" y="5734080"/>
            <a:ext cx="3313080" cy="719280"/>
            <a:chOff x="4140360" y="5734080"/>
            <a:chExt cx="3313080" cy="719280"/>
          </a:xfrm>
        </p:grpSpPr>
        <p:sp>
          <p:nvSpPr>
            <p:cNvPr id="115" name=""/>
            <p:cNvSpPr/>
            <p:nvPr/>
          </p:nvSpPr>
          <p:spPr>
            <a:xfrm>
              <a:off x="4140360" y="5734080"/>
              <a:ext cx="3313080" cy="7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4716360" y="5805720"/>
              <a:ext cx="177120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my friend</a:t>
              </a:r>
              <a:endPara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851280" y="1341360"/>
            <a:ext cx="863640" cy="719280"/>
            <a:chOff x="3851280" y="1341360"/>
            <a:chExt cx="863640" cy="719280"/>
          </a:xfrm>
        </p:grpSpPr>
        <p:sp>
          <p:nvSpPr>
            <p:cNvPr id="118" name=""/>
            <p:cNvSpPr/>
            <p:nvPr/>
          </p:nvSpPr>
          <p:spPr>
            <a:xfrm>
              <a:off x="3851280" y="1341360"/>
              <a:ext cx="863640" cy="7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3995640" y="1413000"/>
              <a:ext cx="6289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are</a:t>
              </a:r>
              <a:endPara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Bodoni MT Black"/>
              </a:rPr>
              <a:t>Заполните пропус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33333E-006 L -0.32083 0.18912 E">
                                      <p:cBhvr>
                                        <p:cTn id="94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33333E-006 L -0.14184 0.36759 E">
                                      <p:cBhvr>
                                        <p:cTn id="98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0.07881 0.50417 E">
                                      <p:cBhvr>
                                        <p:cTn id="10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33333E-006 L -0.51979 0.65115 E">
                                      <p:cBhvr>
                                        <p:cTn id="106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084720" y="549360"/>
            <a:ext cx="1430640" cy="1655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796000" y="2637000"/>
            <a:ext cx="1430280" cy="1655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 flipH="1">
            <a:off x="7235640" y="2708280"/>
            <a:ext cx="1515960" cy="1584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9640" y="765000"/>
            <a:ext cx="5472360" cy="115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3068640"/>
            <a:ext cx="547200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5013360"/>
            <a:ext cx="691380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55640" y="981000"/>
            <a:ext cx="4753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It ........ a c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24000" y="3213000"/>
            <a:ext cx="504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They ........ ca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050920" y="907920"/>
            <a:ext cx="49536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i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484360" y="3357720"/>
            <a:ext cx="885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ar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1280" y="5084640"/>
            <a:ext cx="62658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I ...... a cat too.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332000" y="5229360"/>
            <a:ext cx="94284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am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rcRect l="12473" t="19021" r="6199" b="0"/>
          <a:stretch/>
        </p:blipFill>
        <p:spPr>
          <a:xfrm>
            <a:off x="7380360" y="4867200"/>
            <a:ext cx="144144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924360" y="4581360"/>
            <a:ext cx="934920" cy="6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ot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08360" y="2060640"/>
            <a:ext cx="9349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ot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Comic Sans MS"/>
              </a:rPr>
              <a:t>Отрицательные предл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1989000"/>
            <a:ext cx="9349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24000" y="1989000"/>
            <a:ext cx="1079640" cy="79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284640"/>
            <a:ext cx="1008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3284640"/>
            <a:ext cx="9352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80000" y="4508640"/>
            <a:ext cx="1152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4508640"/>
            <a:ext cx="1008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4508640"/>
            <a:ext cx="11509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08720" y="3213000"/>
            <a:ext cx="280836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92720" y="1989000"/>
            <a:ext cx="30956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35280" y="1989000"/>
            <a:ext cx="10810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780000" y="3284640"/>
            <a:ext cx="9349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ot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/>
          <p:nvPr/>
        </p:nvSpPr>
        <p:spPr>
          <a:xfrm>
            <a:off x="5364000" y="4437000"/>
            <a:ext cx="30956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08360" y="3213000"/>
            <a:ext cx="11509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116000" y="2060640"/>
            <a:ext cx="171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I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68360" y="2060640"/>
            <a:ext cx="78120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am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508720" y="2060640"/>
            <a:ext cx="244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lazy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71640" y="3284640"/>
            <a:ext cx="5047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It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340000" y="3284640"/>
            <a:ext cx="6476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i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796000" y="3284640"/>
            <a:ext cx="2232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good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26920" y="4581360"/>
            <a:ext cx="86688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We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411280" y="4581360"/>
            <a:ext cx="723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are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580000" y="4508640"/>
            <a:ext cx="266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dancers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9786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Comic Sans MS"/>
              </a:rPr>
              <a:t>Вопросительные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1916280"/>
            <a:ext cx="936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3429000"/>
            <a:ext cx="1297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51280" y="1916280"/>
            <a:ext cx="3168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4797360"/>
            <a:ext cx="137016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3357720"/>
            <a:ext cx="2664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51280" y="4797360"/>
            <a:ext cx="237636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979640" y="1989000"/>
            <a:ext cx="14292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I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771640" y="1989000"/>
            <a:ext cx="1008000" cy="719280"/>
            <a:chOff x="2771640" y="1989000"/>
            <a:chExt cx="1008000" cy="719280"/>
          </a:xfrm>
        </p:grpSpPr>
        <p:sp>
          <p:nvSpPr>
            <p:cNvPr id="168" name=""/>
            <p:cNvSpPr/>
            <p:nvPr/>
          </p:nvSpPr>
          <p:spPr>
            <a:xfrm>
              <a:off x="2771640" y="1989000"/>
              <a:ext cx="1008000" cy="7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2914560" y="2060640"/>
              <a:ext cx="7045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am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70" name=""/>
          <p:cNvSpPr txBox="1"/>
          <p:nvPr/>
        </p:nvSpPr>
        <p:spPr>
          <a:xfrm>
            <a:off x="3924360" y="1989000"/>
            <a:ext cx="2735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an actr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164360" y="1989000"/>
            <a:ext cx="31428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?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740720" y="1341360"/>
            <a:ext cx="1152360" cy="647640"/>
            <a:chOff x="7740720" y="1341360"/>
            <a:chExt cx="1152360" cy="647640"/>
          </a:xfrm>
        </p:grpSpPr>
        <p:sp>
          <p:nvSpPr>
            <p:cNvPr id="173" name=""/>
            <p:cNvSpPr/>
            <p:nvPr/>
          </p:nvSpPr>
          <p:spPr>
            <a:xfrm>
              <a:off x="7740720" y="1341360"/>
              <a:ext cx="115236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7812000" y="1413000"/>
              <a:ext cx="10080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Yes, I am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7596360" y="2205000"/>
            <a:ext cx="1547640" cy="647640"/>
            <a:chOff x="7596360" y="2205000"/>
            <a:chExt cx="1547640" cy="647640"/>
          </a:xfrm>
        </p:grpSpPr>
        <p:sp>
          <p:nvSpPr>
            <p:cNvPr id="176" name=""/>
            <p:cNvSpPr/>
            <p:nvPr/>
          </p:nvSpPr>
          <p:spPr>
            <a:xfrm>
              <a:off x="7596360" y="2205000"/>
              <a:ext cx="15476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7667640" y="2276640"/>
              <a:ext cx="12445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No, I'm no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627280" y="3429000"/>
            <a:ext cx="936360" cy="647640"/>
            <a:chOff x="2627280" y="3429000"/>
            <a:chExt cx="936360" cy="647640"/>
          </a:xfrm>
        </p:grpSpPr>
        <p:sp>
          <p:nvSpPr>
            <p:cNvPr id="179" name=""/>
            <p:cNvSpPr/>
            <p:nvPr/>
          </p:nvSpPr>
          <p:spPr>
            <a:xfrm>
              <a:off x="2627280" y="3429000"/>
              <a:ext cx="93636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2770200" y="3429000"/>
              <a:ext cx="72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is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627280" y="4869000"/>
            <a:ext cx="1081080" cy="647640"/>
            <a:chOff x="2627280" y="4869000"/>
            <a:chExt cx="1081080" cy="647640"/>
          </a:xfrm>
        </p:grpSpPr>
        <p:sp>
          <p:nvSpPr>
            <p:cNvPr id="182" name=""/>
            <p:cNvSpPr/>
            <p:nvPr/>
          </p:nvSpPr>
          <p:spPr>
            <a:xfrm>
              <a:off x="2627280" y="4869000"/>
              <a:ext cx="108108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2843280" y="4869000"/>
              <a:ext cx="72360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are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84" name=""/>
          <p:cNvSpPr txBox="1"/>
          <p:nvPr/>
        </p:nvSpPr>
        <p:spPr>
          <a:xfrm>
            <a:off x="6443640" y="3284640"/>
            <a:ext cx="458640" cy="77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?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164360" y="3068640"/>
            <a:ext cx="1655640" cy="720720"/>
            <a:chOff x="7164360" y="3068640"/>
            <a:chExt cx="1655640" cy="720720"/>
          </a:xfrm>
        </p:grpSpPr>
        <p:sp>
          <p:nvSpPr>
            <p:cNvPr id="186" name=""/>
            <p:cNvSpPr/>
            <p:nvPr/>
          </p:nvSpPr>
          <p:spPr>
            <a:xfrm>
              <a:off x="7164360" y="3068640"/>
              <a:ext cx="165564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7236000" y="3141720"/>
              <a:ext cx="1439640" cy="57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Yes, he i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020000" y="3860640"/>
            <a:ext cx="1800000" cy="648000"/>
            <a:chOff x="7020000" y="3860640"/>
            <a:chExt cx="1800000" cy="648000"/>
          </a:xfrm>
        </p:grpSpPr>
        <p:sp>
          <p:nvSpPr>
            <p:cNvPr id="189" name=""/>
            <p:cNvSpPr/>
            <p:nvPr/>
          </p:nvSpPr>
          <p:spPr>
            <a:xfrm>
              <a:off x="7020000" y="3860640"/>
              <a:ext cx="1800000" cy="64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7093080" y="3933720"/>
              <a:ext cx="16556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No, he isn'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91" name=""/>
          <p:cNvSpPr txBox="1"/>
          <p:nvPr/>
        </p:nvSpPr>
        <p:spPr>
          <a:xfrm>
            <a:off x="6300720" y="4653000"/>
            <a:ext cx="36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?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020000" y="4653000"/>
            <a:ext cx="1944720" cy="720720"/>
            <a:chOff x="7020000" y="4653000"/>
            <a:chExt cx="1944720" cy="720720"/>
          </a:xfrm>
        </p:grpSpPr>
        <p:sp>
          <p:nvSpPr>
            <p:cNvPr id="193" name=""/>
            <p:cNvSpPr/>
            <p:nvPr/>
          </p:nvSpPr>
          <p:spPr>
            <a:xfrm>
              <a:off x="7020000" y="4653000"/>
              <a:ext cx="194472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7093080" y="4797360"/>
              <a:ext cx="180468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Yes, we ar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7020000" y="5589720"/>
            <a:ext cx="1800000" cy="718920"/>
            <a:chOff x="7020000" y="5589720"/>
            <a:chExt cx="1800000" cy="718920"/>
          </a:xfrm>
        </p:grpSpPr>
        <p:sp>
          <p:nvSpPr>
            <p:cNvPr id="196" name=""/>
            <p:cNvSpPr/>
            <p:nvPr/>
          </p:nvSpPr>
          <p:spPr>
            <a:xfrm>
              <a:off x="7020000" y="5589720"/>
              <a:ext cx="1798560" cy="71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7020000" y="5661000"/>
              <a:ext cx="180000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No, we aren'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98" name=""/>
          <p:cNvSpPr txBox="1"/>
          <p:nvPr/>
        </p:nvSpPr>
        <p:spPr>
          <a:xfrm>
            <a:off x="1332000" y="3429000"/>
            <a:ext cx="86364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51280" y="3429000"/>
            <a:ext cx="2449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a doct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258920" y="4797360"/>
            <a:ext cx="100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067280" y="4797360"/>
            <a:ext cx="1944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peop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1389 C -0.00139 -0.01713 -0.00156 -0.01875 -0.00938 -0.0206 C -0.01111 -0.02245 -0.01267 -0.02315 -0.01701 -0.02407 C -0.02639 -0.03055 -0.04462 -0.03241 -0.06406 -0.03333 C -0.07622 -0.03403 -0.08524 -0.03495 -0.09844 -0.03542 C -0.12188 -0.0368 -0.14809 -0.03611 -0.17066 -0.03565 C -0.17865 -0.03518 -0.1875 -0.03403 -0.19427 -0.03264 C -0.20295 -0.03055 -0.19549 -0.03171 -0.20295 -0.03079 C -0.20868 -0.02893 -0.21684 -0.02801 -0.22378 -0.02685 C -0.22951 -0.02569 -0.23368 -0.02384 -0.23941 -0.02292 C -0.24965 -0.0206 -0.25972 -0.01875 -0.26892 -0.0162 C -0.27483 -0.01458 -0.2901 -0.01088 -0.29097 -0.00764 C -0.29132 -0.00532 -0.29097 -0.00255 -0.29097 0.00023 L -0.28958 -0.00255 E">
                                      <p:cBhvr>
                                        <p:cTn id="169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47 -0.05949 C 0.02882 -0.07407 0.01754 -0.09514 0.00608 -0.10023 C 0.00261 -0.10717 0.00035 -0.10787 -0.00503 -0.11134 C -0.01302 -0.11666 -0.00503 -0.11389 -0.01476 -0.11875 C -0.0283 -0.12546 -0.04357 -0.12662 -0.05781 -0.12801 C -0.11736 -0.12685 -0.14184 -0.13125 -0.18837 -0.11875 C -0.19028 -0.11759 -0.19201 -0.1162 -0.19392 -0.11504 C -0.19531 -0.11435 -0.1967 -0.11389 -0.19809 -0.11319 C -0.20191 -0.11088 -0.2092 -0.10578 -0.2092 -0.10555 C -0.21285 -0.09861 -0.21753 -0.09722 -0.2217 -0.09097 C -0.22743 -0.08241 -0.23073 -0.07338 -0.23698 -0.06504 C -0.2375 -0.06319 -0.23732 -0.06088 -0.23837 -0.05949 C -0.2408 -0.05625 -0.2467 -0.05208 -0.2467 -0.05185 C -0.24722 -0.04838 -0.24687 -0.04444 -0.24809 -0.04097 C -0.24965 -0.03657 -0.25434 -0.03565 -0.25642 -0.03171 C -0.26024 -0.02453 -0.26041 -0.02014 -0.26614 -0.01504 C -0.26701 -0.01319 -0.26753 -0.01088 -0.26892 -0.00949 C -0.27239 -0.00578 -0.27951 -0.00972 -0.27587 -0.00023 E">
                                      <p:cBhvr>
                                        <p:cTn id="187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96 -0.04723 C 0.02587 -0.05787 0.02153 -0.05857 0.01823 -0.0676 C 0.00921 -0.09167 0.00313 -0.1007 -0.01388 -0.11574 C -0.01718 -0.11899 -0.02291 -0.11667 -0.02621 -0.11945 C -0.0401 -0.1294 -0.02916 -0.125 -0.0401 -0.12871 C -0.05017 -0.1375 -0.06736 -0.13519 -0.0776 -0.13612 C -0.0809 -0.13681 -0.08437 -0.13704 -0.0875 -0.13797 C -0.09149 -0.13889 -0.09861 -0.14167 -0.09861 -0.14144 C -0.12673 -0.14098 -0.15486 -0.14098 -0.18316 -0.13982 C -0.19583 -0.13936 -0.20642 -0.12454 -0.21788 -0.11945 C -0.22882 -0.10487 -0.23993 -0.09005 -0.2526 -0.07871 C -0.25347 -0.0757 -0.25434 -0.07246 -0.25538 -0.06945 C -0.25607 -0.06737 -0.25746 -0.06598 -0.25816 -0.06389 C -0.25885 -0.06158 -0.25868 -0.0588 -0.25954 -0.05649 C -0.26527 -0.04306 -0.26388 -0.06112 -0.26927 -0.03982 C -0.271 -0.03311 -0.27187 -0.02732 -0.27482 -0.0213 C -0.27534 -0.01875 -0.27552 -0.01621 -0.27621 -0.01389 C -0.27691 -0.01181 -0.27882 -0.01065 -0.27899 -0.00834 C -0.27951 -0.00394 -0.2776 0.00023 -0.2776 0.00463 L -0.27621 -0.00649 E">
                                      <p:cBhvr>
                                        <p:cTn id="204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member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(запомни)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английском предложении после 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подлежащег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(действующего лиц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гда стоит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глаго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My na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l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ve g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d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un and jum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W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k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play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Вопросительные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My na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l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your na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ve g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d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yo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y p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un and jum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W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k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play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D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yo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k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listen to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Do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s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the musical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3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3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3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3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3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3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30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30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трицательные 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в предложени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казуем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жено глаголами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 be, have g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has got),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одальными глагол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о после него ставится отрицательная частица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classm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new 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n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lay ch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13:28:45Z</dcterms:created>
  <dc:creator>SPed</dc:creator>
  <dc:description/>
  <dc:language>en-US</dc:language>
  <cp:lastModifiedBy>user</cp:lastModifiedBy>
  <dcterms:modified xsi:type="dcterms:W3CDTF">2013-10-09T05:28:06Z</dcterms:modified>
  <cp:revision>11</cp:revision>
  <dc:subject/>
  <dc:title>Слайд 1</dc:title>
</cp:coreProperties>
</file>