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7C8-3752-4FC9-A28E-16C5D702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7E8-4450-40AE-A66B-0AB96DB2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6E1-B37A-4A07-881D-44382306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556-1BF3-4606-B6CE-0C33C0A3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9100-0CA8-483C-B169-1921E0BA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EE79-52B0-47EE-95EE-1879229C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A3D5-AB9D-4F1B-A287-0596B67B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37C6-DAFE-4C49-978F-281FABEC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E853-2531-4536-A53D-0D4B4A0C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0BAE-F1E6-463F-8DF0-1DFCF6AE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BB7A-12D1-405A-8290-67C9427A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493-1F40-4127-8F4B-7644FF4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FEE2-2088-4226-A8C3-AF27C10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4D61-C0B8-4CAF-AFC4-A12111D9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B11C-8540-4C85-ABF2-915320B6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6A85-8A11-4B74-86E0-1C80544A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0BF8-D060-483C-AD2C-9E57B18C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2AE-0916-4F27-8C2F-92084ED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9AB-9638-414B-849F-71DDB0BD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93C-CA83-4A1B-8510-0E014B7A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0C7-E0D3-4861-90D8-7A10F050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A95-2A57-462B-84A4-B00BCFC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0BA-25F8-4B74-9E34-2A1FCE7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871-C9D6-4189-B299-1D2449C5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FB26-2EF1-4528-A179-B5F7A4D1A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740C-83EC-416E-B820-DB36821EF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91440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a2e"/>
                </a:solidFill>
                <a:latin typeface="Arial"/>
              </a:rPr>
              <a:t>Тема урока</a:t>
            </a:r>
            <a:br>
              <a:rPr sz="5400"/>
            </a:br>
            <a:r>
              <a:rPr b="0" lang="en-US" sz="5400" spc="-1" strike="noStrike">
                <a:solidFill>
                  <a:srgbClr val="eeea2e"/>
                </a:solidFill>
                <a:latin typeface="Arial"/>
              </a:rPr>
              <a:t>«Сообщество. Экосистема. Биогеоценоз»</a:t>
            </a:r>
            <a:endParaRPr b="0" lang="en-US" sz="54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Гимнастика для глаз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Игра:»Дрессированная муха»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1680" y="1676520"/>
          <a:ext cx="8540640" cy="44226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1152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1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10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1.32948E-006 L -4.44444E-006 -0.15607 E">
                                      <p:cBhvr>
                                        <p:cTn id="23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0.15607 L 0.22049 -0.15607 E">
                                      <p:cBhvr>
                                        <p:cTn id="23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2049 -0.15607 L 0.22049 -0.33433 E">
                                      <p:cBhvr>
                                        <p:cTn id="23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2049 -0.33433 L 0.4566 -0.33433 E">
                                      <p:cBhvr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4566 -0.33433 L 0.4566 -0.17711 E">
                                      <p:cBhvr>
                                        <p:cTn id="24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4566 -0.17711 L 0.22049 -0.17711 E">
                                      <p:cBhvr>
                                        <p:cTn id="24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2049 -0.15607 L 0.22049 -0.00925 E">
                                      <p:cBhvr>
                                        <p:cTn id="24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0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2049 -0.00925 L -4.44444E-006 -0.00925 E">
                                      <p:cBhvr>
                                        <p:cTn id="25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23a9"/>
                </a:solidFill>
                <a:latin typeface="Arial"/>
              </a:rPr>
              <a:t>УЭ-3 Викторина </a:t>
            </a:r>
            <a:br>
              <a:rPr sz="4400"/>
            </a:br>
            <a:r>
              <a:rPr b="1" lang="en-US" sz="3200" spc="-1" strike="noStrike">
                <a:solidFill>
                  <a:srgbClr val="8c23a9"/>
                </a:solidFill>
                <a:latin typeface="Arial"/>
              </a:rPr>
              <a:t>«Знаешь ли ты природные сообщества?»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 Густой темный лес с примесью пихт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ловый л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5580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23a9"/>
                </a:solidFill>
                <a:latin typeface="Arial"/>
              </a:rPr>
              <a:t>УЭ-3 Викторина </a:t>
            </a:r>
            <a:br>
              <a:rPr sz="4000"/>
            </a:br>
            <a:r>
              <a:rPr b="1" lang="en-US" sz="2800" spc="-1" strike="noStrike">
                <a:solidFill>
                  <a:srgbClr val="8c23a9"/>
                </a:solidFill>
                <a:latin typeface="Arial"/>
              </a:rPr>
              <a:t>«Знаешь ли ты природные сообщества?»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 Деревья прекрасно приспособлены к условиям лютых морозов, на зиму сбрасывают хвою и имеют поверхностные корневые системы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лиственнич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л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67280" y="3141720"/>
            <a:ext cx="4752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23a9"/>
                </a:solidFill>
                <a:latin typeface="Arial"/>
              </a:rPr>
              <a:t>УЭ-3 Викторина </a:t>
            </a:r>
            <a:br>
              <a:rPr sz="4000"/>
            </a:br>
            <a:r>
              <a:rPr b="1" lang="en-US" sz="2800" spc="-1" strike="noStrike">
                <a:solidFill>
                  <a:srgbClr val="8c23a9"/>
                </a:solidFill>
                <a:latin typeface="Arial"/>
              </a:rPr>
              <a:t>«Знаешь ли ты природные сообщества?»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. За этим сообществом закрепилась дурная слава «гнилых» мест. Это переувлажненный участок земной поверхности, характерная черта которого – недостаток кислорода, поэтому там образуется тор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фагн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оло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4681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10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23a9"/>
                </a:solidFill>
                <a:latin typeface="Arial"/>
              </a:rPr>
              <a:t>УЭ-3 Викторина </a:t>
            </a:r>
            <a:br>
              <a:rPr sz="4000"/>
            </a:br>
            <a:r>
              <a:rPr b="1" lang="en-US" sz="2800" spc="-1" strike="noStrike">
                <a:solidFill>
                  <a:srgbClr val="8c23a9"/>
                </a:solidFill>
                <a:latin typeface="Arial"/>
              </a:rPr>
              <a:t>«Знаешь ли ты природные сообщества?»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8423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. Это растительное сообщество образовано засухо- и морозоустойчивыми многолетними растениями, преимущественно дерновинными злаками. Характерны: недостаток воды и засоленность поч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е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37080" y="3960720"/>
            <a:ext cx="4643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23a9"/>
                </a:solidFill>
                <a:latin typeface="Arial"/>
              </a:rPr>
              <a:t>УЭ-3 Викторина </a:t>
            </a:r>
            <a:br>
              <a:rPr sz="4000"/>
            </a:br>
            <a:r>
              <a:rPr b="1" lang="en-US" sz="2800" spc="-1" strike="noStrike">
                <a:solidFill>
                  <a:srgbClr val="8c23a9"/>
                </a:solidFill>
                <a:latin typeface="Arial"/>
              </a:rPr>
              <a:t>«Знаешь ли ты природные сообщества?»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 Животные этого сообщества быстро бегают или очень подвижны, что позволяет им спасаться от преследования (заяц, тушканчик, ящерицы, ежи и т.д.), летом они ведут в основном ночной образ жизни, когда спадает жа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усты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00720" y="4005360"/>
            <a:ext cx="4643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4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УЭ – 4 Графические схемы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3360" y="404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часть атмосф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биосфера      часть литосф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вся гидросф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3430440"/>
            <a:ext cx="4284720" cy="3427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92360" y="1557360"/>
            <a:ext cx="0" cy="16556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492360" y="1557360"/>
            <a:ext cx="7207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492360" y="3213000"/>
            <a:ext cx="7207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492360" y="2421000"/>
            <a:ext cx="7207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89680" y="3614760"/>
            <a:ext cx="405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тун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естественная       оке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экосистема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искусственная        аквариум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УЭ – 4 Графические схемы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2276640"/>
            <a:ext cx="0" cy="13683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429000"/>
            <a:ext cx="0" cy="72072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1700280"/>
            <a:ext cx="0" cy="72072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700000" y="3645000"/>
            <a:ext cx="576360" cy="14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700000" y="2276640"/>
            <a:ext cx="576360" cy="14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84360" y="1700280"/>
            <a:ext cx="576360" cy="14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084360" y="2421000"/>
            <a:ext cx="576360" cy="14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156000" y="3429000"/>
            <a:ext cx="576360" cy="14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156000" y="4149720"/>
            <a:ext cx="576360" cy="14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540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500"/>
                            </p:stCondLst>
                            <p:childTnLst>
                              <p:par>
                                <p:cTn id="5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9396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раст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биоценоз         животное нас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биогеоценоз                              микроорганиз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экотоп            атмосф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поч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УЭ – 4 Графические схемы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2492280"/>
            <a:ext cx="0" cy="10796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1989000"/>
            <a:ext cx="0" cy="10796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3500280"/>
            <a:ext cx="0" cy="5763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27280" y="2492280"/>
            <a:ext cx="2160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27280" y="3573360"/>
            <a:ext cx="2160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716360" y="198900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16360" y="249228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16360" y="306864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716360" y="350028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407664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4176720" cy="2781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076720" y="4335480"/>
            <a:ext cx="3780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0"/>
                            </p:stCondLst>
                            <p:childTnLst>
                              <p:par>
                                <p:cTn id="6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000"/>
                            </p:stCondLst>
                            <p:childTnLst>
                              <p:par>
                                <p:cTn id="6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500"/>
                            </p:stCondLst>
                            <p:childTnLst>
                              <p:par>
                                <p:cTn id="7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7500"/>
                            </p:stCondLst>
                            <p:childTnLst>
                              <p:par>
                                <p:cTn id="7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8000"/>
                            </p:stCondLst>
                            <p:childTnLst>
                              <p:par>
                                <p:cTn id="7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Bernard MT Condensed"/>
              </a:rPr>
              <a:t>Всем  учащимся успехов, а гостям отличного настроения!</a:t>
            </a:r>
            <a:endParaRPr b="0" lang="en-US" sz="60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2dc"/>
                                      </p:to>
                                    </p:animClr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a2dc"/>
                                      </p:to>
                                    </p:animClr>
                                    <p:set>
                                      <p:cBhvr>
                                        <p:cTn id="31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Arial Unicode MS"/>
              </a:rPr>
              <a:t>Спасибо за выполненную работу!</a:t>
            </a:r>
            <a:br>
              <a:rPr sz="6000"/>
            </a:br>
            <a:r>
              <a:rPr b="1" lang="en-US" sz="6000" spc="-1" strike="noStrike">
                <a:solidFill>
                  <a:srgbClr val="66ff33"/>
                </a:solidFill>
                <a:latin typeface="Arial Unicode MS"/>
              </a:rPr>
              <a:t>Молодцы!!!</a:t>
            </a:r>
            <a:endParaRPr b="0" lang="en-US" sz="60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3,-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3,-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УЭ-1 Тестовое задание (ответы)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4956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нание законов, по которым развиваются биотические сообщества, дает н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эколог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Элементы систем непрерывно друг с друг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взаимодействую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56000" y="980640"/>
            <a:ext cx="4788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осистемы образуются при взаимодействии между собой разных видо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популя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ль регуляторов, поддерживающих устойчивое функционирование сложных природных систем выполняе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взаимодействие ви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УЭ-1 Тестовое задание (ответы)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956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иды связаны не только друг с другом, но и 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неживой приро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ля обозначения элементарной природной экосистемы экологи часто используют терми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«биогеоценоз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691920"/>
            <a:ext cx="4788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экосистемах между живой и неживой природой происходит непрерывный обмен энергией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вещест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раница биогеоценоза устанавливается, как правило, по границе важнейшего компонента биогеоценоза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фитоцено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1823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10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УЭ-2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765000"/>
          <a:ext cx="9144000" cy="60926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просы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тветы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1. Что такое сообщество (биоценоз)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Совокупность видов растений и животных, длительное время существующих в определенном пространстве и представляющих собой определенное экологическое единство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2. Чем похожи сообщества, возникающие в сходных по географическому положению и природным условиям районах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В них обнаруживается сходство видов и сходство связей между ним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5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104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УЭ-2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052640"/>
          <a:ext cx="9144000" cy="5805000"/>
        </p:xfrm>
        <a:graphic>
          <a:graphicData uri="http://schemas.openxmlformats.org/drawingml/2006/table">
            <a:tbl>
              <a:tblPr/>
              <a:tblGrid>
                <a:gridCol w="3708360"/>
                <a:gridCol w="543564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тв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Times New Roman"/>
                          <a:ea typeface="Times New Roman"/>
                        </a:rPr>
                        <a:t>3. Что обеспечивает взаимодействие видов в сообществ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  <a:ea typeface="Times New Roman"/>
                        </a:rPr>
                        <a:t>Эффективное использование ресурсов сообщества, препятствует бесконтрольному росту численности тех или иных организмов.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  <a:ea typeface="Times New Roman"/>
                        </a:rPr>
                        <a:t>4. Что такое экосистема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  <a:ea typeface="Times New Roman"/>
                        </a:rPr>
                        <a:t>Сообщество живых организмов вместе с физической средой их обитания, объединенное обменом веществ и энергии в единый комплекс.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10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УЭ-2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907920"/>
          <a:ext cx="9144000" cy="5949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тв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  <a:ea typeface="Times New Roman"/>
                        </a:rPr>
                        <a:t>5. Кто играет решающую роль в устойчивом круговороте веществ, происходящем в экосистемах?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  <a:ea typeface="Times New Roman"/>
                        </a:rPr>
                        <a:t>Живые организмы.</a:t>
                      </a: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6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6. Что используется при классификации наземных экосистем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Обычно используют признаки растительных сообществ, составляющих основу экосистем, и климатические (зональные) признаки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5:53:37Z</dcterms:created>
  <dc:creator>Виталя</dc:creator>
  <dc:description/>
  <dc:language>en-US</dc:language>
  <cp:lastModifiedBy>Виталя</cp:lastModifiedBy>
  <dcterms:modified xsi:type="dcterms:W3CDTF">2009-02-07T09:58:30Z</dcterms:modified>
  <cp:revision>17</cp:revision>
  <dc:subject/>
  <dc:title>Тема «Сообщество. Экосистема. Биогеоценоз»</dc:title>
</cp:coreProperties>
</file>