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gif" ContentType="image/gif"/>
  <Override PartName="/ppt/media/image22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gif" ContentType="image/gif"/>
  <Override PartName="/ppt/media/image19.wmf" ContentType="image/x-wmf"/>
  <Override PartName="/ppt/media/image21.wmf" ContentType="image/x-wmf"/>
  <Override PartName="/ppt/media/image24.wmf" ContentType="image/x-wmf"/>
  <Override PartName="/ppt/media/image23.wmf" ContentType="image/x-wmf"/>
  <Override PartName="/ppt/media/image20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AEE-B8DC-4D78-82E3-7195B39C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701-D0D0-4D57-BB29-BB2B017E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F61C4-8CAB-44B4-BFDA-7D63DE90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0126B-6B3B-4AD2-9C88-9F90937D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6DA89-5B3F-4053-8A81-4E6BDF31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BE1FB-4EA4-4C18-8475-4188AFD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F92CC-7A6F-4AD8-AA79-F245DE2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939E5-FBB5-4F67-90D0-3A96AEE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D94D4-936B-4551-9B14-9220E671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F0C32-4F34-4829-8097-B34A4219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AC704-0433-4859-AA30-DA2405D9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BCE44-898C-47DF-A480-7AFB2CA8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063-5A0B-49BB-B087-3A35FF66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E4CA4-5365-4298-8C6B-EC681C64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236C8-5A27-4F63-8695-5F8BFE5C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3AB66-3FF9-4FAF-8D25-F0A72373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29423-8813-45B9-B332-9C13D239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7853E-0479-4123-93CD-DD220FF8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84DA1-42AA-4D5A-BCE9-532085E0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74260-0F98-480E-82F4-012F9C7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B876D-D0CE-4CC8-BD33-5462270F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87D04-1A1A-4046-9EFB-00AFDB35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372F2-3D90-46DA-99B3-49ABA82F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562-93B7-41C0-AB20-68D683C4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A415E-FD8C-4282-B0EE-284E99B1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28677-227D-4A21-922C-1F9763EB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BEA57-8445-4BCC-8C2C-8FAC2134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A12BA-E49C-434F-9780-B121599A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D2620-62DC-4C22-AC25-4CBFA5C7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33BD4-B0FC-4394-B6DA-9231A746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192A3-9061-4CC0-BB6C-C028001A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90E42-5E83-4890-98CF-2E407BA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A7D4F-CC92-4A7C-96B6-03D33DDD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AD20D-BE6D-46B9-90AD-17D7B5E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A29F-B30E-4E2D-BE3E-ED6DBC31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FAD61-5CF8-4A67-8264-77345B44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49879-13D0-4B13-8C21-20F7200B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0D7B4-3AC3-4283-8A8F-0CB2AC29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BB66-6B04-416C-B1C2-20F77A84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52BB-FF0A-4850-8F42-D78E4A42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ADB6-21F1-49AB-A5E2-5EAA77A6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A43F-0FB1-4A05-ADAE-0F1BFBFF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CBF6-E25E-4B93-BEBE-121963C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5E0F-23DB-48BE-87ED-7BA87A4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7D3-1B8F-4996-AF26-2F279F9E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2066-BDD4-4110-8689-C31CFF34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F1CA-5D46-4573-97D4-0936753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DE09-8CD6-45CF-867F-76ED0681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8D52-00F7-464B-BEAA-19E7F12E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33B7-F02C-4A53-B3F9-B470C7B9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8C10-43FE-4667-BFEB-416F8476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6D951-6D33-4248-B5AE-1AE11382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C8FA-A85D-4921-9DBA-265B5654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073D-2C57-464F-A91F-45224D0E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4C3E-7BC9-4FE0-9AC4-270EE0B1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383-BC32-42C9-B75A-6B659FEC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C52F-E470-4983-AEC9-97BA0B50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7E71-E8A5-4F10-977B-70CE1134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92F7-AB26-4003-ACE6-866DB51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85B2-0FBF-4028-9EB8-41A2CB9F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528A-4091-4807-90F0-8754F687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344F-0037-4B4F-82B2-B0032A95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9CBF-5A7B-4DA7-83EC-81F3318B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B388-C30C-4C0F-9CE6-1D21E7F6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D2CA0-0DBE-4410-807D-BF5A70A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4DAF-92A3-41CD-8051-0C5D9469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006-5DD6-47C9-8139-53843960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CDAE-784F-47FC-8B09-A57E266C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8013-D5B6-4DA8-8786-F769AD72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7D9A7-3EF2-400E-8463-C1C94404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3DCF-24D8-4563-93EE-460C9BBE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1B442-B455-4E53-9CDA-2866BF3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E4DC0-E19A-4DB4-AD24-1CA0280B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30687-18A6-46E6-80DE-727475CB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A6A4-1C19-42A8-8CB6-DC41DA1D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FDEB-1D6B-40CD-A571-84B0FB6E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0B061-72C4-46C6-BA1A-EF73581B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1D0-245E-4B13-8123-17D529E6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8121B-36F8-4403-A410-54198DD0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468C1-B228-41ED-9665-73E36F69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22ABB-5C9A-4729-B858-AEE3716B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49B9-9093-40FB-82FB-65400DD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549B7-9661-469E-8611-173BC777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C73D-BDD4-4312-AEBD-5B51305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8F56-F898-4801-82F3-5486859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2EC6E-2E88-4AC5-8517-A8AA69A8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4C38-BE0D-429F-A44F-FA09AED8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79CE-CCC5-49B7-8542-8A099B73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BF4-916C-42A0-9B9A-BA8AA84D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6020-38A8-455C-8055-66CA6906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780D5-B3BC-4FF2-89FE-6453862E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CB60-D2D9-4895-9EC1-47941424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9549-32C0-4F46-BE34-A91A7BE4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B0C2-CD0E-45CA-9646-0FEAE40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82977-0B2F-4AD0-9F78-35C9F050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5F81B-9F08-4BA8-927C-E4E5F58D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E2B21-0345-49CD-ADF7-A87F298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923EB-6542-40CE-80BC-8DCB7D0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68F63-2AA4-468E-9CFA-989B9FB8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78A-68CF-4741-86B4-31CD3AE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B9785-7F8A-4418-9E91-31D165A1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D7B0-EF32-418E-8FC8-6093751B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701FD-606D-4D07-954A-4867148D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6C3DD-AE19-48A1-9126-5A6D2A75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9296F-3006-4CDF-BC03-903C9B07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11B7B-D5E9-4D9B-84B8-525C188A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967FA-3315-4C77-AC6F-ADF501E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D7DF0-3EA5-4D71-B40F-DD6C50E5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C281-256D-4B8E-86DB-34D1A5F0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3BD77-D4B3-42FB-B130-BEA7DF03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0B8-C81B-4592-A541-8D80EF8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BF8F-585A-4488-AA16-8BE6D39E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87EBF-5C89-4920-8997-20BAA80C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E6C79-A406-4324-9832-10CCEB3E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C14E6-6604-455D-AACF-96D31E02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3F19E-E901-4548-893B-AFA5C823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2C8CD-3589-4D93-BCF1-781154EC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B3366-B92A-4C20-9429-7083F380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49ADE-0E3A-486C-81C7-1920C28E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F00B1-A600-4880-9012-51D06FD0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72F42-F332-4933-BA5D-CC5962D4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15E-E809-4DF9-9A06-B4BF083B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43FCB-75AD-48D3-95BB-9F5CC63F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84CCA-6721-4D7A-A5DA-7333506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5C269-837E-4651-9010-0779FB45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A0FA4-F8FF-4568-AA06-4DF980C7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93D2-3984-408A-AB05-B3C4534B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0CBB0-57C5-498C-96C0-384A00E7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6721-7183-4A33-8448-BB4F136F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99C2F-58CF-4DA1-95E6-060E64AE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3B3FA-29BB-4CAF-8620-43C33C86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4D5FE-1AC4-4180-9482-B8E91D89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7870-528A-461D-ABDE-7447ACFE14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28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312F-8654-4989-AC5A-C782228C1E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8A25-9EA3-439D-9DE5-4B59650041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5C59-8363-4A6B-B99E-D64377B699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A946-F307-463B-8B1A-A0AC7B953A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1197-2ADE-4507-A001-2B80C4BA7C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3D39-85AA-4189-843C-5F1341AC94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F837-2498-4E0F-8B9A-334B73C6E6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A224-C8AD-44A5-B49B-D78D7A121B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1129-B6A3-4AB5-B8D6-D26BD9A030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DA48-948C-4AB7-AB44-1FEC09BEFF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search?p=6&amp;text=&#1079;&#1072;&#1076;&#1072;&#1095;&#1080;%20&#1085;&#1072;%20&#1087;&#1086;&#1089;&#1083;&#1077;&#1076;&#1086;&#1074;&#1072;&#1090;&#1077;&#1083;&#1100;&#1085;&#1086;&#1077;%20&#1080;%20&#1087;&#1072;&#1088;&#1072;&#1083;&#1083;&#1077;&#1083;&#1100;&#1085;&#1086;&#1077;%20&#1089;&#1086;&#1077;&#1076;&#1080;&#1085;&#1077;&#1085;&#1080;&#1077;%20&#1087;&#1088;&#1086;&#1074;&#1086;&#1076;&#1085;&#1080;&#1082;&#1086;&#1074;&amp;spsite=army-auto.ru&amp;img_url=army-auto.ru/img/elektrika/elektrika_01c.jpg&amp;rpt=simage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71800" y="-678600"/>
            <a:ext cx="6580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ac0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Урок–закрепление  в 8 классе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Franklin Gothic Book"/>
              </a:rPr>
              <a:t>Учитель: Митрофанова Светлана Дмитриев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8"/>
          <p:cNvSpPr/>
          <p:nvPr/>
        </p:nvSpPr>
        <p:spPr>
          <a:xfrm>
            <a:off x="4572000" y="2421000"/>
            <a:ext cx="360" cy="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9"/>
          <p:cNvSpPr/>
          <p:nvPr/>
        </p:nvSpPr>
        <p:spPr>
          <a:xfrm>
            <a:off x="1428840" y="436680"/>
            <a:ext cx="696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араллельное и последовательное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соедин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255600" y="493560"/>
            <a:ext cx="8437680" cy="12319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457200" y="12855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Дано: </a:t>
            </a:r>
            <a:br>
              <a:rPr sz="3000"/>
            </a:b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= 2 Ом</a:t>
            </a:r>
            <a:br>
              <a:rPr sz="3000"/>
            </a:b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= 3 Ом</a:t>
            </a:r>
            <a:br>
              <a:rPr sz="3000"/>
            </a:b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= 0,5 А</a:t>
            </a:r>
            <a:br>
              <a:rPr sz="3000"/>
            </a:b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Решение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br>
              <a:rPr sz="3000"/>
            </a:b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= I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= I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; I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= I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= 0, 5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br>
              <a:rPr sz="3000"/>
            </a:b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= I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; U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= 0.5 x 2= 1 (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br>
              <a:rPr sz="3000"/>
            </a:b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= I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; U</a:t>
            </a:r>
            <a:r>
              <a:rPr b="0" lang="en-US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= 0.5 x 3= 1, 5 (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br>
              <a:rPr sz="3000"/>
            </a:b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= U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+U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; U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= 1+1, 5 = 2, 5 (В) </a:t>
            </a:r>
            <a:br>
              <a:rPr sz="3000"/>
            </a:b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, I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, U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=?</a:t>
            </a:r>
            <a:br>
              <a:rPr sz="3000"/>
            </a:b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br>
              <a:rPr sz="3000"/>
            </a:b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твет: I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= I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= 0, 5 А, U</a:t>
            </a:r>
            <a:r>
              <a:rPr b="0" lang="ru-RU" sz="3000" spc="-1" strike="noStrike" baseline="-25000">
                <a:solidFill>
                  <a:srgbClr val="4e3b30"/>
                </a:solidFill>
                <a:latin typeface="Franklin Gothic Book"/>
              </a:rPr>
              <a:t>u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= 2, 5 В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Rectangle 2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942400" cy="13032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4" name="Picture 7" descr=""/>
          <p:cNvPicPr/>
          <p:nvPr/>
        </p:nvPicPr>
        <p:blipFill>
          <a:blip r:embed="rId2"/>
          <a:stretch/>
        </p:blipFill>
        <p:spPr>
          <a:xfrm>
            <a:off x="785880" y="928800"/>
            <a:ext cx="8358120" cy="5214960"/>
          </a:xfrm>
          <a:prstGeom prst="rect">
            <a:avLst/>
          </a:prstGeom>
          <a:ln cap="sq" w="228600">
            <a:solidFill>
              <a:srgbClr val="ffff00"/>
            </a:solidFill>
            <a:miter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008000"/>
              </a:solidFill>
              <a:latin typeface="바탕"/>
            </a:endParaRPr>
          </a:p>
        </p:txBody>
      </p:sp>
      <p:pic>
        <p:nvPicPr>
          <p:cNvPr id="546" name="Picture 6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2864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ac00"/>
              </a:solidFill>
              <a:latin typeface="Franklin Gothic Medium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429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ac00"/>
              </a:solidFill>
              <a:latin typeface="Franklin Gothic Medium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4297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ac00"/>
              </a:solidFill>
              <a:latin typeface="Franklin Gothic Medium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3581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ac00"/>
              </a:solidFill>
              <a:latin typeface="Franklin Gothic Medium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8242560" cy="13888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Доктора Ватсона и Шерлока Холмса в новогоднюю ночь пригласили в гости друзья. И, вдруг, как гласит один из законов Мерфи: "Все, что должно сломаться, обязательно сломается, причем в самый неподходящий момент"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И, что же произошло? Когда хозяин дома стал включать елочную гирлянду для детей, одна из лампочек рассчитанных на напряжение в 3,5 В перегорел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Дети расстроились, хозяин в панике, ведь под рукой нет запасной лампочки. Надо спасать праздник, решил Холмс. И, попросив всех успокоиться, Холмс произнес магические слова и сделал одно действие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Ко всеобщей радости детей, гирлянда загорелась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Позже доктор Ватсон спросил у Холмса, что же он сделал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Что же ответил Холмс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90400" indent="-590400">
              <a:spcBef>
                <a:spcPts val="11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Приведите примеры соединений проводников у вас дома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590400" indent="-590400">
              <a:spcBef>
                <a:spcPts val="11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Повт. § 48, 49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590400" indent="-5904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№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853, 829, 832.(А.В.Перышкин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90400" indent="-5904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90400" indent="-59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Цель: закрепить ЗУН по теме «Параллельное и последовательное соединения проводников в электрической цепи»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Задачи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образовательные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продолжить формирование умений и навыков собирать простейшие электрические цеп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развивать навыки при решении задач по данной теме и тестированных задани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Воспитательные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продолжить воспитание отношение к физике как к экспериментальной науке;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продолжить работу по формированию умений работать в коллективе (высказывать свою точку зрения, анализировать ответ другого)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развивающие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продолжить развитие мышления, творческих и исследовательских способностей учащихся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6700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5"/>
          <p:cNvSpPr/>
          <p:nvPr/>
        </p:nvSpPr>
        <p:spPr>
          <a:xfrm>
            <a:off x="380880" y="1473120"/>
            <a:ext cx="426240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е проводников конец одного проводника соединяется с началом другого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ах изображены цепь последовательного соединения двух  лампочек и  схема такого со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сгорит одна из  лампочек, то цепь разомкнется и другая лампочка погасн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5" descr="http://festival.1september.ru/articles/511918/img5.jpg"/>
          <p:cNvPicPr/>
          <p:nvPr/>
        </p:nvPicPr>
        <p:blipFill>
          <a:blip r:embed="rId2"/>
          <a:stretch/>
        </p:blipFill>
        <p:spPr>
          <a:xfrm>
            <a:off x="4667400" y="2571840"/>
            <a:ext cx="447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Rectangle 2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242560" cy="16653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285840" y="785880"/>
            <a:ext cx="86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роводников их начала и концы имеют общие точки подключения к источнику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ParalelSxema"/>
          <p:cNvPicPr/>
          <p:nvPr/>
        </p:nvPicPr>
        <p:blipFill>
          <a:blip r:embed="rId2"/>
          <a:stretch/>
        </p:blipFill>
        <p:spPr>
          <a:xfrm>
            <a:off x="5357880" y="3929040"/>
            <a:ext cx="2484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Paralel2"/>
          <p:cNvPicPr/>
          <p:nvPr/>
        </p:nvPicPr>
        <p:blipFill>
          <a:blip r:embed="rId3"/>
          <a:stretch/>
        </p:blipFill>
        <p:spPr>
          <a:xfrm>
            <a:off x="762120" y="4038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5" descr=""/>
          <p:cNvPicPr/>
          <p:nvPr/>
        </p:nvPicPr>
        <p:blipFill>
          <a:blip r:embed="rId1"/>
          <a:stretch/>
        </p:blipFill>
        <p:spPr>
          <a:xfrm>
            <a:off x="-201600" y="-23760"/>
            <a:ext cx="8894880" cy="168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4" name="Object 2"/>
              <p:cNvSpPr txBox="1"/>
              <p:nvPr/>
            </p:nvSpPr>
            <p:spPr>
              <a:xfrm>
                <a:off x="3387600" y="1981080"/>
                <a:ext cx="1224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5" name="Rectangle 10"/>
          <p:cNvSpPr/>
          <p:nvPr/>
        </p:nvSpPr>
        <p:spPr>
          <a:xfrm>
            <a:off x="304920" y="100656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водников сила тока на всех участках цепи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295920" y="2403720"/>
            <a:ext cx="6869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закону Ома, напряж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проводниках рав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2900520" y="2887560"/>
                <a:ext cx="11379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4"/>
              <p:cNvSpPr txBox="1"/>
              <p:nvPr/>
            </p:nvSpPr>
            <p:spPr>
              <a:xfrm>
                <a:off x="4468680" y="2887560"/>
                <a:ext cx="11923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9" name="Rectangle 76"/>
          <p:cNvSpPr/>
          <p:nvPr/>
        </p:nvSpPr>
        <p:spPr>
          <a:xfrm>
            <a:off x="304920" y="3234240"/>
            <a:ext cx="86104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е напряж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обоих проводниках равно сумме напряжени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5"/>
              <p:cNvSpPr txBox="1"/>
              <p:nvPr/>
            </p:nvSpPr>
            <p:spPr>
              <a:xfrm>
                <a:off x="2214720" y="3886200"/>
                <a:ext cx="39574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Rectangle 83"/>
          <p:cNvSpPr/>
          <p:nvPr/>
        </p:nvSpPr>
        <p:spPr>
          <a:xfrm>
            <a:off x="303480" y="4342320"/>
            <a:ext cx="738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лектрическое сопротивление всей цепи. Отсюда следует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3581280" y="4800600"/>
                <a:ext cx="1544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3" name="Rectangle 86"/>
          <p:cNvSpPr/>
          <p:nvPr/>
        </p:nvSpPr>
        <p:spPr>
          <a:xfrm>
            <a:off x="304920" y="5259960"/>
            <a:ext cx="86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полное сопротивление цепи равно сумме сопротивлений отдельных провод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Rectangle 8" descr=""/>
          <p:cNvPicPr/>
          <p:nvPr/>
        </p:nvPicPr>
        <p:blipFill>
          <a:blip r:embed="rId1"/>
          <a:stretch/>
        </p:blipFill>
        <p:spPr>
          <a:xfrm>
            <a:off x="450720" y="384120"/>
            <a:ext cx="8242560" cy="148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5" name="Object 2"/>
              <p:cNvSpPr txBox="1"/>
              <p:nvPr/>
            </p:nvSpPr>
            <p:spPr>
              <a:xfrm>
                <a:off x="3505320" y="1828800"/>
                <a:ext cx="1446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6" name="Rectangle 9"/>
          <p:cNvSpPr/>
          <p:nvPr/>
        </p:nvSpPr>
        <p:spPr>
          <a:xfrm>
            <a:off x="571680" y="1384560"/>
            <a:ext cx="8420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пряж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всех участках цепи одинаковы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304920" y="2188080"/>
            <a:ext cx="86868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токо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и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отекающих по обоим проводникам, равна току в неразветвленной цеп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3613320" y="2720880"/>
                <a:ext cx="1187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9" name="Rectangle 21"/>
          <p:cNvSpPr/>
          <p:nvPr/>
        </p:nvSpPr>
        <p:spPr>
          <a:xfrm>
            <a:off x="317520" y="3124800"/>
            <a:ext cx="447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ывая на основании закона О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2743200" y="3505320"/>
                <a:ext cx="3087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и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Rectangle 23"/>
          <p:cNvSpPr/>
          <p:nvPr/>
        </p:nvSpPr>
        <p:spPr>
          <a:xfrm>
            <a:off x="304920" y="4174200"/>
            <a:ext cx="646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лектрическое сопротивление всей цепи, получим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5"/>
              <p:cNvSpPr txBox="1"/>
              <p:nvPr/>
            </p:nvSpPr>
            <p:spPr>
              <a:xfrm>
                <a:off x="3449520" y="4724280"/>
                <a:ext cx="1521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3" name="Rectangle 26"/>
          <p:cNvSpPr/>
          <p:nvPr/>
        </p:nvSpPr>
        <p:spPr>
          <a:xfrm>
            <a:off x="304920" y="5532480"/>
            <a:ext cx="86868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роводников величина, обратная общему сопротивлению цепи, равна сумме величин, обратных сопротивлениям параллельно включенных проводник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обирать цепи по предложенным  схемам. Проверить работу приборов, снять показания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Franklin Gothic Medium"/>
              </a:rPr>
              <a:t>, найти различия в показаниях, прокомментировать их. </a:t>
            </a:r>
            <a:br>
              <a:rPr sz="1300"/>
            </a:br>
            <a:endParaRPr b="0" lang="en-US" sz="1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35" name="Содержимое 3" descr="http://festival.1september.ru/articles/504143/img1.gif"/>
          <p:cNvPicPr/>
          <p:nvPr/>
        </p:nvPicPr>
        <p:blipFill>
          <a:blip r:embed="rId1"/>
          <a:stretch/>
        </p:blipFill>
        <p:spPr>
          <a:xfrm>
            <a:off x="1214280" y="278604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4" descr="http://festival.1september.ru/articles/504143/img3.gif"/>
          <p:cNvPicPr/>
          <p:nvPr/>
        </p:nvPicPr>
        <p:blipFill>
          <a:blip r:embed="rId2"/>
          <a:stretch/>
        </p:blipFill>
        <p:spPr>
          <a:xfrm>
            <a:off x="5143680" y="3071880"/>
            <a:ext cx="2309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538" name="Содержимое 3" descr="http://im7-tub.yandex.net/i?id=12225089&amp;tov=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6040" y="1554120"/>
            <a:ext cx="6064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Rectangle 2" descr=""/>
          <p:cNvPicPr/>
          <p:nvPr/>
        </p:nvPicPr>
        <p:blipFill>
          <a:blip r:embed="rId1"/>
          <a:stretch/>
        </p:blipFill>
        <p:spPr>
          <a:xfrm>
            <a:off x="646200" y="633240"/>
            <a:ext cx="792468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07:59Z</dcterms:created>
  <dc:creator>слушатель</dc:creator>
  <dc:description/>
  <dc:language>en-US</dc:language>
  <cp:lastModifiedBy>пользователь</cp:lastModifiedBy>
  <dcterms:modified xsi:type="dcterms:W3CDTF">2013-10-09T14:21:49Z</dcterms:modified>
  <cp:revision>51</cp:revision>
  <dc:subject/>
  <dc:title>Слайд 1</dc:title>
</cp:coreProperties>
</file>