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D8BD-8C2D-4B6A-93C0-2B9BC575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0DE9-6215-49F3-A84E-DE9FCB2B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01BC-BDAB-4332-B6FD-3A349254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2F0-8CFD-44E3-B2EA-42CCF05B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18D3-D0CF-404E-8BEA-3EB6E416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BE14-A811-40B2-9361-DDEDFE2A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1540-E9E5-4EFB-825B-B5A08EF1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B096-1A2B-4684-97C4-9C1C4C06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8261-9588-4F38-823A-A317A4BE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29A6-1940-431B-86CD-85EA12CE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3CE4-71CE-445C-9D19-9B846D06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517D-CEC6-4674-8961-99191DDF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682E-8914-4F6F-B25E-7972B1697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 rot="20985000">
            <a:off x="780840" y="432000"/>
            <a:ext cx="374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Выполнила: Валиева Гульназ Да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студентка 1 курса "Педагогическое образование" 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Группа: 921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эл. адрес: </a:t>
            </a:r>
            <a:r>
              <a:rPr b="0" i="1" lang="en-US" sz="1800" spc="-1" strike="noStrike">
                <a:solidFill>
                  <a:srgbClr val="a50021"/>
                </a:solidFill>
                <a:latin typeface="Arial"/>
              </a:rPr>
              <a:t>Valievagd@mai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20970600">
            <a:off x="1392120" y="588960"/>
            <a:ext cx="2208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3352680" y="2972520"/>
            <a:ext cx="5156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И закончить хотелось бы словами из песни, которые мне сейчас близки и понят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Каждый день рано утром вста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И иду в свой родной детский с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Утро дарит мне нежность сво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Я с улыбкой встречаю реб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А малыши, малы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Все для меня хоро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Сбылась моя меч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Дети любят и понимают мен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42674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3"/>
          <p:cNvSpPr/>
          <p:nvPr/>
        </p:nvSpPr>
        <p:spPr>
          <a:xfrm>
            <a:off x="457200" y="281844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a50021"/>
                </a:solidFill>
                <a:latin typeface="Arial"/>
              </a:rPr>
              <a:t>Спасибо за 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2133720" y="2209680"/>
            <a:ext cx="6095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алиева Гульназ Дамировна, 1978г.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оспитатель по обучению татар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МБДОУ №29 «Лукоморье» г.Альметьевска, 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306360" y="304920"/>
            <a:ext cx="69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Общие сведения о воспитате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2057400" y="1905480"/>
            <a:ext cx="5638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«На свете есть много разных професс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И в каждой есть прелесть сво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Но нет благородней, нужней и чудес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Чем та, кем работаю я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3124080" y="3277440"/>
            <a:ext cx="5715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Я, Валиева Гульназ Дамировна работаю воспитателем по обучению татарскому языку в детском саду №29 «Лукоморье» г.Альметьев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Выбор – кем быть? – определился сам собой. Конечно же, воспитателем. Годы учебы в педагогическом училище г. Бугульмы,  практика в детском саду, первые дни пребывания в группе с детьми, навсегда останутся в моей памя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320040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2666880" y="4800600"/>
            <a:ext cx="571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Воспитатель – для меня это, скорее, не профессия, а образ жизни. Каждый день я прихожу к детям, мы общаемся, занимаемся, и каждый раз для меня открывается новый мир, новая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91320" y="24382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895480" y="16002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52280" y="53352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2666880" y="4800600"/>
            <a:ext cx="571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Воспитатель – для меня это, скорее, не профессия, а образ жизни. Каждый день я прихожу к детям, мы общаемся, занимаемся, и каждый раз для меня открывается новый мир, новая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666880" y="4800600"/>
            <a:ext cx="571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Воспитатель – для меня это, скорее, не профессия, а образ жизни. Каждый день я прихожу к детям, мы общаемся, занимаемся, и каждый раз для меня открывается новый мир, новая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114800" y="1676520"/>
            <a:ext cx="3962520" cy="2685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2666880" y="466416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Как же быстро пролетели минуты и годы общения с детьми в своей любимой группе, где все сделано своими руками, выращены цветы на подоконнике, вымыты игрушки, подготовлен материал к завтрашнему занятию.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2666880" y="457920"/>
            <a:ext cx="4343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Совершенно неожиданно встал выбор следующего этапа моей профессиональной деятельности: мне предложили должность воспитателя по обучению татарскому языку. И вот уже 2 года совместно с моими любознательными дошкольниками  я постигаю мудрость и многогранность татарского я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2400120" cy="3200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172200" y="3276720"/>
            <a:ext cx="240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2666880" y="415800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Мне всегда интересно наблюдать, как ребенок учится называть знакомые предметы на другом, теперь уже на татарском языке, запоминает новые для него слова, учится правильному произношению. Я испытываю огромное чувство удовлетворенности, когда, наконец, с детьми начинаем просто общаться на татарском язы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3505320" y="4089240"/>
            <a:ext cx="50292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Стаж работы в детском саду начался с 2001года. За все время своей работы,я стремилась сделать процесс обучения второму языку интересным, занимательным, доступным для каждого ребенка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аиль</cp:lastModifiedBy>
  <dcterms:modified xsi:type="dcterms:W3CDTF">2013-01-06T15:08:3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