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C92-D894-41FE-A7E2-239435A4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97A-1DB0-4395-9DCC-75036C9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1C7-F8DF-4C2A-997C-4C74D1CE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A40-759D-406A-9C87-3907A6C2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D92-7F48-4DCF-A447-594393F3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977-5E30-4432-A353-76285157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3E2-DD10-46FD-A410-FC9F9A7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CED-7788-48BF-8BB4-D59DEB9A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3E8-7C98-44E2-9A90-E97C1297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F12-39A1-432B-995C-F361C7C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D40-02F3-4141-9A53-6430AC41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AD5-20DB-4FCB-88BC-8B58C80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1F08-B9D6-4FD3-B325-6D3A53627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5400" spc="-1" strike="noStrike">
                <a:solidFill>
                  <a:srgbClr val="0070c0"/>
                </a:solidFill>
                <a:latin typeface="Calibri"/>
              </a:rPr>
              <a:t>Сказка –ложь, да в ней намёк…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не веет светлым вдохновеньем Веселой зеленью долин, Ключей задумчивым журчаньем От русских сказок и былин. Прекрасен сказок мир воздушный, К нему с младенчества привык; Мне мил и дорог простодушный Животворящий их язы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8d5176038986.jpg"/>
          <p:cNvPicPr/>
          <p:nvPr/>
        </p:nvPicPr>
        <p:blipFill>
          <a:blip r:embed="rId1"/>
          <a:stretch/>
        </p:blipFill>
        <p:spPr>
          <a:xfrm>
            <a:off x="-6480" y="3932280"/>
            <a:ext cx="2799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0004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Цель: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оследить как русский народ через сказки учил детей относиться к старш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ормировать умение понимать главную идею произведений, правильно оценивать поступки герое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•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богащать и активизировать словарный запас, учить составлять расска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азвивать интерес к художественной литературе, память, мышление и вним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004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http://image.slidesharecdn.com/2-110512115151-phpapp01/95/slide-4-728.jpg?1305221564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http://image.slidesharecdn.com/2-110512115151-phpapp01/95/slide-5-728.jpg?1305221564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7" descr="http://image.slidesharecdn.com/2-110512115151-phpapp01/95/slide-6-728.jpg?1305221564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6" descr="http://image.slidesharecdn.com/2-110512115151-phpapp01/95/slide-7-728.jpg?1305221564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7" descr="http://image.slidesharecdn.com/2-110512115151-phpapp01/95/slide-8-728.jpg?1305221564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646"/>
          </a:solidFill>
          <a:ln w="5724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8d5176038986.jpg"/>
          <p:cNvPicPr/>
          <p:nvPr/>
        </p:nvPicPr>
        <p:blipFill>
          <a:blip r:embed="rId1"/>
          <a:stretch/>
        </p:blipFill>
        <p:spPr>
          <a:xfrm>
            <a:off x="133200" y="3822840"/>
            <a:ext cx="2799000" cy="2931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023272023.pn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6" descr="http://image.slidesharecdn.com/2-110512115151-phpapp01/95/slide-9-728.jpg?1305221564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8d5176038986.jpg"/>
          <p:cNvPicPr/>
          <p:nvPr/>
        </p:nvPicPr>
        <p:blipFill>
          <a:blip r:embed="rId4"/>
          <a:stretch/>
        </p:blipFill>
        <p:spPr>
          <a:xfrm>
            <a:off x="-6480" y="-6480"/>
            <a:ext cx="19386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09:12:04Z</dcterms:created>
  <dc:creator>Admin</dc:creator>
  <dc:description/>
  <dc:language>en-US</dc:language>
  <cp:lastModifiedBy>Владимир Степин</cp:lastModifiedBy>
  <dcterms:modified xsi:type="dcterms:W3CDTF">2013-10-05T14:54:47Z</dcterms:modified>
  <cp:revision>7</cp:revision>
  <dc:subject/>
  <dc:title>Слайд 1</dc:title>
</cp:coreProperties>
</file>