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036-3F7E-44AB-B0E2-018AFBB8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107-F4DB-46F3-95A1-215E27D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B3F-51B9-4E03-AFD0-FD769D68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BBE-6ECC-46D5-8597-88746807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9CEC-D1D7-4FCE-B89B-611E42E0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C1B9-8A44-4AFD-BE7C-32F3B58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3069-F5D8-4F20-AE9C-89A418E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D9D2-DF80-40B6-BD6B-76C8061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9CA5-3E9B-4CB9-8125-0C3899ED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B95-F7A4-4D86-BC6A-8992DF9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51F-8029-4EBF-B5F6-59D901F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1B5-238A-4D5E-B6A8-4B0635A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05E-2FA9-4D54-909E-411C6FF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EF82-25FC-430E-B667-DCAE673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4F89-624D-4FDB-8354-81F97B6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40C0-34BA-48A6-8279-59A29D67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449-375C-4C44-9597-933340EF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318-4C22-477C-BD96-7238A0B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B50-452D-484F-8F2A-53FF8BB0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D77-6EF6-4822-B0A2-4BAAAE5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FAE-6034-4C81-9E54-D38CA6D0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3D1-625D-46E8-98FF-7042369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7A1-4AB4-40AD-A45D-FEED339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78A-0EFB-4B93-81F3-5B8B9E6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63A-1749-4574-928F-A3D2E89DF7E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99C-E3A0-4463-9C43-7642E47CFA5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4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Урок алгебры в 7 кла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Разложение разности квадратов на множите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о, что не ясно, следует выяснить. То, что трудно творить, следует делать с великой настойчивостью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Работа в тетра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ahoma"/>
              </a:rPr>
              <a:t> № </a:t>
            </a:r>
            <a:r>
              <a:rPr b="0" lang="ru-RU" sz="3200" spc="-1" strike="noStrike">
                <a:solidFill>
                  <a:srgbClr val="0066cc"/>
                </a:solidFill>
                <a:latin typeface="Tahoma"/>
              </a:rPr>
              <a:t>890 (б, д, е, ж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б) ( х-9)(х+9)=0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х=9; -9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д) в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 ≥0  решени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е) ( х-1)(х+1)=0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х=1; -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ж) (2х-3)(2х+3)=0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х=1,5;-1,5</a:t>
            </a: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Вычислите, выберите правильный ответ и заполните таблицу. Зашифрованное слово – великий французский ученый-математик, философ, физик.. Назовите его имя. Чем он знаменит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  53²  - 32² =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Д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78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С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– 178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Ж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87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2.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   61² - 44² =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8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Е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78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В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-178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3.  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231² - 16² =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Ф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5130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К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53105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Г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-5310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4. 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21,3² -21,2² =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Л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0,357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А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3,57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О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35,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5.  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0,849² - 0,151² =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Ф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202,2771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2,022771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Р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0,202277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6.  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(6 2/3 )² – (5 1/3)² =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М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1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Т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6; </a:t>
            </a:r>
            <a:r>
              <a:rPr b="1" lang="ru-RU" sz="1600" spc="-1" strike="noStrike">
                <a:solidFill>
                  <a:srgbClr val="0033cc"/>
                </a:solidFill>
                <a:latin typeface="Tahoma"/>
              </a:rPr>
              <a:t>Д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. 12 1/3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ДЕКАР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774520"/>
            <a:ext cx="561636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ДЕКАРТ РЕНЕ (1596-16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французский философ, математик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физик,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создатель </a:t>
            </a: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аналитической геометрии и современной    алгебраической символики, с этого момента близкую к совреме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ahoma"/>
                <a:ea typeface="Times New Roman"/>
              </a:rPr>
              <a:t>ввел систему координат.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173640" y="476280"/>
            <a:ext cx="264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«Задание – экзамен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ст составлен по образцу материала для сдачи экзаменов в 9 классе в новой форме, то есть задания с выбором ответа, на соответствие, а в последнем задании надо написать только ответ. (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выполнение теста отводится 7 минут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повторить  правило разности квадратов 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выполнить  № 887, №893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одведение итог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Продолжи предло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Сегодня на уроке я научился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Сегодня на уроке мне понравилось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Сегодня на уроке я повтори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Сегодня на уроке я закрепи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Times New Roman"/>
              </a:rPr>
              <a:t>Сегодня на уроке я поставил себе оценку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Оценивание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28800" y="1928880"/>
          <a:ext cx="7118280" cy="3921120"/>
        </p:xfrm>
        <a:graphic>
          <a:graphicData uri="http://schemas.openxmlformats.org/drawingml/2006/table">
            <a:tbl>
              <a:tblPr/>
              <a:tblGrid>
                <a:gridCol w="4309920"/>
                <a:gridCol w="280836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ФИО учащихся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Домашне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Уст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Работа в тетр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Работа по карточке «Зашифрованное слов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Работа по карточке «Задание - экзаме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66cc"/>
                          </a:solidFill>
                          <a:latin typeface="Times New Roman"/>
                          <a:ea typeface="Times New Roman"/>
                        </a:rPr>
                        <a:t>Итоговая 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Итог уро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3" descr="MCj04244800000[1]"/>
          <p:cNvPicPr/>
          <p:nvPr/>
        </p:nvPicPr>
        <p:blipFill>
          <a:blip r:embed="rId1"/>
          <a:stretch/>
        </p:blipFill>
        <p:spPr>
          <a:xfrm>
            <a:off x="5724360" y="2349360"/>
            <a:ext cx="2867040" cy="302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MCj04244660000[1]"/>
          <p:cNvPicPr/>
          <p:nvPr/>
        </p:nvPicPr>
        <p:blipFill>
          <a:blip r:embed="rId2"/>
          <a:stretch/>
        </p:blipFill>
        <p:spPr>
          <a:xfrm>
            <a:off x="755640" y="1989000"/>
            <a:ext cx="36003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Цели уро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Формулирует правило разложения  разности квадратов на множители.</a:t>
            </a: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Выполняет разложение разности квадратов на множители.</a:t>
            </a: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Применяет формулу разности квадратов для тождественных преобразований выраж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Спасибо, ребята за урок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Молодцы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Урок окончен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№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885    а) (х - 8)(х + 8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б) (0,4 – с)(0,4 + с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в) (11 –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)(11 +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г) (5у – 9)(5у + 9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д) (12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– с)(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12b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+ с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(0,8х – 0,7у)(0,8х + 00,7у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ж)(ху – 0,5)(ху + 0,5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з) (с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– а)(с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+ 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и) (ах – 2у)(ах + 2у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№ </a:t>
            </a: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88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а) (х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- 3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х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+ 3);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б) (5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n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5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+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n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в)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(m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- а)(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m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+ а);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г) (у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- р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+ р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д) (с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³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d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³ +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d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е) (х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³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- 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х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³ +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43564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543564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7308720" y="537372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7308720" y="551664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ж)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- у)(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+ у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з)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m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n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m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+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n³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и)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+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к) (с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d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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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+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d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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л) 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- 4)(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 + 4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м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9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-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(9 +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  <a:ea typeface="Tahom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  <a:ea typeface="Tahoma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Устная работ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1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Times New Roman"/>
              </a:rPr>
              <a:t>Прочитайте выражения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(а – 10в)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²</a:t>
            </a: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 - (10в)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Times New Roman"/>
              </a:rPr>
              <a:t>(а + 10в)(а – 10в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Устная работ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11280" y="2852640"/>
            <a:ext cx="741672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ставьте выражение в виде квадрата одночлена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а) 4х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;     в)36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m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; д)9 ав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б) 0,25а; г)а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²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в;   е)0,16х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º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Ответьте на вопрос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Чему равна разность квадратов двух выражений? Напишите соответствующую формулу (на индивидуальных досках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Какие  преобразования мы можем выполнять, зная формулу разности квадрат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e4a8"/>
                </a:solidFill>
                <a:latin typeface="Times New Roman"/>
                <a:ea typeface="Times New Roman"/>
              </a:rPr>
              <a:t>Преобразования, которые можно выполнять, используя формулу разности квадра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</a:rPr>
              <a:t>раскладывать на множител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</a:rPr>
              <a:t>сокращенно умножать разность  двух выражений на их сум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</a:rPr>
              <a:t>решать уравне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</a:rPr>
              <a:t>упрощать выраж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Times New Roman"/>
              </a:rPr>
              <a:t>применять формулу для вычислений.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7:09:52Z</dcterms:created>
  <dc:creator>Лейла</dc:creator>
  <dc:description/>
  <dc:language>en-US</dc:language>
  <cp:lastModifiedBy>User</cp:lastModifiedBy>
  <dcterms:modified xsi:type="dcterms:W3CDTF">2013-10-09T09:02:12Z</dcterms:modified>
  <cp:revision>54</cp:revision>
  <dc:subject/>
  <dc:title>Формулы сокращенного умножения</dc:title>
</cp:coreProperties>
</file>