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B3C-9F42-4270-B551-7E3C661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84B-85B4-4608-A54E-3D18025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E09-6AB1-41A9-B2F8-95EEC9A4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D6D-86CD-40DE-B80C-39507AA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569-3D3D-4C9F-921A-F4B8E8A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598-D4EE-4261-8916-8D14322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217-A867-4C15-A2D2-379E522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AAF-10A6-4FFE-9007-4400D30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342-B50A-4433-BE4C-6866B41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C86-923A-4ECA-897E-75BE7D6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FD4-54F4-4841-8B98-7C59538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1D8-CEE2-4ABC-A8BA-385B15D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BA0-DE1E-4353-8F01-FB8321D35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задач по теме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triangle-bw[1].gif"/>
          <p:cNvPicPr/>
          <p:nvPr/>
        </p:nvPicPr>
        <p:blipFill>
          <a:blip r:embed="rId1"/>
          <a:stretch/>
        </p:blipFill>
        <p:spPr>
          <a:xfrm>
            <a:off x="2124000" y="1916280"/>
            <a:ext cx="4319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1022[1].jpg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без имени.tif"/>
          <p:cNvPicPr/>
          <p:nvPr/>
        </p:nvPicPr>
        <p:blipFill>
          <a:blip r:embed="rId1"/>
          <a:stretch/>
        </p:blipFill>
        <p:spPr>
          <a:xfrm>
            <a:off x="1332000" y="0"/>
            <a:ext cx="63356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1019[1].jpg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казать, что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DB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4" descr="Безымянный.png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924440"/>
          </a:xfrm>
          <a:prstGeom prst="rect">
            <a:avLst/>
          </a:prstGeom>
          <a:ln w="0">
            <a:noFill/>
          </a:ln>
        </p:spPr>
      </p:pic>
      <p:sp>
        <p:nvSpPr>
          <p:cNvPr id="48" name="Равнобедренный треугольник 45"/>
          <p:cNvSpPr/>
          <p:nvPr/>
        </p:nvSpPr>
        <p:spPr>
          <a:xfrm>
            <a:off x="5508720" y="404640"/>
            <a:ext cx="215640" cy="2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7:21:08Z</dcterms:created>
  <dc:creator>Наталья</dc:creator>
  <dc:description/>
  <dc:language>en-US</dc:language>
  <cp:lastModifiedBy>Наталья</cp:lastModifiedBy>
  <dcterms:modified xsi:type="dcterms:W3CDTF">2012-10-13T19:05:47Z</dcterms:modified>
  <cp:revision>11</cp:revision>
  <dc:subject/>
  <dc:title>Решение задач по теме треугольники</dc:title>
</cp:coreProperties>
</file>