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118-CA5F-446D-AC94-4E55B509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B24-476F-47E9-827F-515C62B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23752-389F-4A23-880D-1438F787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3796-3E6C-4DC5-9959-5EB05F20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8172-AB8C-4BC3-B93B-FF65858B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88F99-0D41-4C1C-B9F7-73E627D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6A415-5C37-4553-ABA5-396AF7B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6E79-E795-4828-B1C8-D01D4D2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9BC1B-43E1-41E4-96B9-B536B929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D088-4456-44B3-91FC-1B592A08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3DE0A-E66F-4BA2-B29B-BFD2DC56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7464A-F2BD-4C15-B4EF-5807BBB1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295-DD67-4072-B254-6B20D8E0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5B17F-E2E3-48F2-A097-7A6A361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A95E-149A-4CAE-B342-1D24FCB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41CB-3548-4DFD-9F98-397AB7B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D173A-53F6-4017-881C-3B71C8E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52F54-5372-459D-8BAE-62BC167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F52E3-151B-43A2-AA9D-6F53E67F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A62A5-D36E-43B4-A206-4F5FC10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3FAFA-EF1A-416D-8E08-3D8D316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BB3EE-5D87-4C9D-BE91-355208F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DDEF8-BD7F-4ABD-A2A7-4B0D7E19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D5E-C94B-48B2-8FEA-D82B4C5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944C1-2095-4EBB-B804-17C97F9E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8B358-C531-4071-B768-CB5B23CB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42A1-DA2B-4961-85AE-E31B6A9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EA8A-66FD-4DC6-86F3-E00BC49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53A54-8996-4A2F-A534-0DF3BF05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7EB83-81F0-400D-88E3-7A80B78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BA39-31E8-47B1-8B6C-F25A1F9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327E3-DF0B-4734-AE71-335E79C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D6E7-7C5A-45E8-8498-1150408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9A182-9668-4676-8F7C-B0F1D90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697-30F1-4C06-9D53-9B009643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90018-6198-4D57-B386-23F80D8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D9E5-2762-4455-BCC2-FC06A8CE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681C-864C-40B7-907D-786A7BAB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3C0BE-6F73-483C-B01A-B3846C19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6D468-EB2E-4527-BAAB-FC8EF49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98EC-DB6F-4578-B3FB-AC04DC1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0FFCD-2610-4783-9350-E61C754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34973-3469-4E96-B564-23F40E2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ED056-F18A-49E5-BC83-96BE437E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F16A6-ADCF-469B-93DA-012A4CB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6130-66FC-48C3-BCE8-62823CD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7EDF-90EE-4CE2-91E6-9B9438F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4DA33-9279-4D92-8873-2127533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3CC41-7BAB-45C7-BCD5-64D4B0AC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C040-D3E0-4D1A-98A5-4BFA67C8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D1C4-F5CE-4C1E-9FA1-43FD1400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DCCF-C9E5-458A-8D11-55C5882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B67-D9BD-403D-9BA1-72273AE8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FED-865F-49AD-9B60-8254C0E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6AF-9817-41A0-A0B6-28CEDD6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A33-9573-4E05-A01E-64C963D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71F-0724-4F98-BEDB-1725854C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39F-6B25-4C42-9684-2204E72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176A-BDBD-4A4C-8991-A53C9770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7828-9C38-4D45-A7EB-FD77FD96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C1C7-2901-43C9-BE1E-594652EE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91C1-BDE2-48E3-9EF6-EAA3BEE7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A9A5-3E18-4B69-A84F-1D35D176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FBF5-CEC0-407A-89C2-156A8C19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94FD-6DD8-4F4A-89BB-6984503B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69EF-51B3-4B24-B529-3232B724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3F48-33FE-42CC-A959-71B69669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F74-6943-47F9-B660-EF2262B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680F-D905-4102-8DDE-D2ED31E6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7C0F-A37C-4E5E-86BF-34E9E42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936C-8B71-4E02-9F11-A1CF8827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6C93-DAB8-4421-86C8-961635B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02ED-78DE-4F25-9EBE-85F28CA0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520A-4517-40AA-81C4-2C1F197B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1A46-AEA8-4BBF-BE9E-874BC76A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D7BE-F30C-4065-A3F5-0371C198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7EEA-5955-4F59-AB6E-0407F38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BF6C-BBFF-419D-9403-570C3A3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4D4-96B5-4BB3-B1C3-925EDB1C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2582-49BD-4E0E-9E33-D6C9AF14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092A3-2FC8-43DA-9E03-E0E57C1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AF48-0BF6-4FFA-B496-0D86461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B3D4-D191-4DB4-8CA7-6CB2FF3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6A09-4732-4987-8957-C6FE669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D2CE-7014-49D1-91F6-1334B36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A4DA9-926A-4FBA-B6BB-2AD98D16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4CA32-F6B7-415D-8F1A-A1022FAE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1A70-7661-4CA9-BCDC-40E9ACFA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610B-B14A-46CB-8788-9CCEB22E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B46-7739-4976-8E9B-9C5B7F33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9F04-3A9F-417D-A59A-B43D184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19F5-8F07-4B70-89A9-948977B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1DE9-17B6-44AA-953C-E3F63BD1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B165-0943-4A9A-A2D3-CA514E6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1DAA-CF29-42A9-A453-755DA94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ECB5-3C7D-4BD6-BE1A-B715DCA9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6B51-722C-4180-83DF-955E0CC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B84A-E9EC-4000-ABB4-ADD997D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53A1-6511-4257-B86D-63866EF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3E31-A889-4A60-B5BC-698D1220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798-4A3D-4169-9ECC-BE9F043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9553-C861-4983-9B02-205AE39C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4FA4-198D-4094-9D34-CF9B0F92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B4DA-F903-4204-B6A1-20E644BC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7FD3-E806-4F62-94E5-4E6721D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4030-0E2E-42DB-A364-5DAA78D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E8FBA-B938-4580-B8E2-C91DBB09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7595-A563-4819-A70F-AE998469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9908-E115-4D84-939C-B5B2F1B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8DB6-F183-4B58-900D-8424BA7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3CB05-71D7-47B1-B1F3-267EE4F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F1C-EA4C-4CD8-91DD-724F163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ADD1-4A25-4716-9F87-9159936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50DA-0237-46A0-88A7-79A4E93A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9ADD-A9AA-4DBA-A432-28948014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39B3-F79E-4AB5-92ED-04D95DAC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EF28-97F0-40E4-87BB-834818A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FEDA7-B19C-4CEB-9B54-329295AB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2BC1-960E-4470-A5A4-54E26D58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37A9-6335-4119-B1DB-1D8DBDFC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8079-FEA5-41E6-AE76-25B67B1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5EAA-0F74-423E-B728-5AAAD4B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5DD-C412-4946-ACF9-AA9C938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0FBB-D4A0-4C19-A64F-9F9B5F8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1AC7-644A-47DE-A2EB-2862214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41C91-7049-4B2E-809B-F16727B2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FA21-37DD-45D2-8E50-DA157CA9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654A-20BF-4FF8-9D26-967764C2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F844E-3406-4303-A5A1-C921FD37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EA18-547D-4D2D-8130-70EF7FB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D276-D396-4E1E-8EF9-94C4B16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46595-A557-4DCE-978D-2C4A5759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B771A-DAA7-4CB2-8611-72601450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85E-190D-4B62-B7D5-465337E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B485-69CE-485D-9FF2-4F9DD16A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FF4A-B17F-4B52-A29F-1FEE47D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37351-F897-4AEC-80D0-8556B8E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C8AF-F94B-48C4-8D63-DBC3103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13A5-624E-4567-BB7B-7588E8A3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B97B-D9AB-458B-912C-D67F9B34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8899-4DCF-48CC-9410-D6FC7261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A31E-E1D3-4D4D-807C-C4501C51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F31F5-2D20-43AA-B263-3690341C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600B-4848-4930-AF26-97791420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8538-DCCD-4D38-811F-35A7493F1A2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0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0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7AB-4D6B-48D6-A001-83F3D684BCE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5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5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830-0A6A-4AB3-8882-E41EC414E6C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9D1-7894-468B-9C93-C07171CD42E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D33-63AF-4F20-BA6A-4E981BEADF9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E4CB-10CE-4565-9AA0-5EC2CCD3D53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3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5807-260F-4E0B-ADCD-DD7C4244BF4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8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386-0B03-4D9A-BDAC-4BB0D081B19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2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D7A9-F14B-4FA1-8852-78481558264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7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7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2C5D-5F42-4F70-B2E0-2FB0E2CABD1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1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1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A183-5C38-42F9-89D9-AAC9BD6AB00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6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6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37ED-B19D-4AA3-901A-740B08D4FB2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286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Школьный конкурс </a:t>
            </a:r>
            <a:br>
              <a:rPr sz="3200"/>
            </a:b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ультимедийных презентаций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643040" y="2499840"/>
            <a:ext cx="64008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редмет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: английский язы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Класс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: 10 (базовый уровень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утешествия на каникулах (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ravelling on holiday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4071960" y="4857840"/>
            <a:ext cx="43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Антропова Светлана Анатольевн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учитель английского языка, </a:t>
            </a:r>
            <a:r>
              <a:rPr b="0" lang="en-US" sz="1800" spc="-1" strike="noStrike">
                <a:solidFill>
                  <a:srgbClr val="351a00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кв.категор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МБОУ СОШ №6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г. Радужны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2012</a:t>
            </a:r>
            <a:r>
              <a:rPr b="0" lang="en-US" sz="18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51a00"/>
                </a:solidFill>
                <a:latin typeface="Times New Roman"/>
              </a:rPr>
              <a:t>год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Особенности структуры урока (распределение времени на уроке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00000" y="1571400"/>
            <a:ext cx="7902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Тип урока: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урок изучения и первичного закрепления новых знаний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ремя распределялось по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этапам урок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отивация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(организационный момент, фонетическая зарядка) –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5 ми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Актуализация опорных знаний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(упражнение  на предтекстовом этапе, аудирование  с извлечением специальной информации)-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6 мин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Восприятие, осмысление и первичное закрепление знаний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(чтение  с охватом  общего и детального понимания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ловно-речевое упражнение)-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13ми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Проверка  усвоения знаний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(выбор из текста соответствующих слов)-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5 ми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Закрепление знаний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(мини –сообщение в группе)-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7ми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Анализ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(запись и рекомендации к выполнению домашнего задания, комментирование оценок, рефлексия) –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4 ми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бор методов, приемов  и средств обучени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997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1280" indent="-341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402000"/>
                </a:solidFill>
                <a:uFillTx/>
                <a:latin typeface="Times New Roman"/>
              </a:rPr>
              <a:t>Основными  методами 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на уроке  изучения и первичного закрепления новых знаний  являются: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lvl="3" marL="341280" indent="-341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На  этапе мотивации :</a:t>
            </a:r>
            <a:r>
              <a:rPr b="0" i="1" lang="ru-RU" sz="15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lvl="3" marL="341280" indent="-341280">
              <a:spcBef>
                <a:spcPts val="374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ознакомление (словесно- наглядный метод)- формирование  цели и задачей урока</a:t>
            </a:r>
            <a:r>
              <a:rPr b="0" lang="en-US" sz="15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развитие наблюдательности, повышение  внимания к данной теме</a:t>
            </a:r>
            <a:r>
              <a:rPr b="0" lang="en-US" sz="15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lvl="3" marL="341280" indent="-341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На  этапе актуализации  опорных знаний:</a:t>
            </a:r>
            <a:r>
              <a:rPr b="0" i="1" lang="ru-RU" sz="15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тренировка учебного материала ( использование практического  и репродуктивного методов) – развитие и формирование  ЗУН  в аудировании, чтении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На  этапе восприятия, осмысления и первичного закрепления :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тренировка учебного материала: ( использование практического метода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На этапе проверки усвоения и закрепления знаний :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репродуктивный метод (для формирования ЗУН), проблемно-поисковый</a:t>
            </a:r>
            <a:r>
              <a:rPr b="0" lang="en-US" sz="15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(для развития самостоятельности мышления), метод самостоятельной работы (для развития самостоятельной учебной деятельности, формирование навыков учебного труда</a:t>
            </a:r>
            <a:r>
              <a:rPr b="0" lang="en-US" sz="15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402000"/>
                </a:solidFill>
                <a:uFillTx/>
                <a:latin typeface="Times New Roman"/>
              </a:rPr>
              <a:t>Выбранные приёмы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(показаны на конкретных этапах урока)-наиболее эффективны и экономичны во времени на данной ступени обучения, т.к аналогичную тему  изучали в 8 классе по УМК Кузовлева  В.П. (Учащиеся   ознакомлены  с лексико-грамматическим материалом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402000"/>
                </a:solidFill>
                <a:uFillTx/>
                <a:latin typeface="Times New Roman"/>
              </a:rPr>
              <a:t>Средства обучения </a:t>
            </a:r>
            <a:r>
              <a:rPr b="0" lang="ru-RU" sz="15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02000"/>
                </a:solidFill>
                <a:latin typeface="Times New Roman"/>
              </a:rPr>
              <a:t>соответствуют типу урока, этапам урока,  возрастным особенностям учащихся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Контроль за качеством знаний учащихся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Контроль  за качеством знаний осуществлялся на протяжении всего урока в виде наблюдения за деятельностью учащихся, вопросно- ответной работы, заданий на само и взаимопроверку (при помощи ключа с правильными ответами учащимся необходимо оценить свою работу и работу своего одноклассника),  выполнения задания на развитие навыка монологической речи (оценить наиболее удачные ответы)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становка домашнего задани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При постановке домашнего задания учитывались следующие факторы: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Контроль понимания домашнего задания ( перевод  на русский язык)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Форма  выполнения (письменная)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Домашнее задание направлено на развитие продуктивного навыка письма, закрепление усвоенного материала и подготовки учащихся к следующему уроку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Рефлексивный компонент урок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2560" y="162828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Данный урок открывает учебную тему, поэтому в качестве рефлексивного компонента  учащимся было предложено оценить свою деятельность на уроке. При помощи зрительной опоры  необходимо закончить предложение: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We have reached the aim of  the lesson 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Now I (can) know how to…   speak about…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.. understand information about…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… </a:t>
            </a: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explain the problem of…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..express  my opinion on…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1" i="1" lang="en-US" sz="2300" spc="-1" strike="noStrike">
                <a:solidFill>
                  <a:srgbClr val="402000"/>
                </a:solidFill>
                <a:latin typeface="Times New Roman"/>
              </a:rPr>
              <a:t>..express my attitude to…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спользование педагогических технологий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00000" y="1500120"/>
            <a:ext cx="79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Исходя из возрастных и психологических особенностей учащихся, от уровня обученности были использованы на уроке элементы следующих педагогических технологий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Личностно- ориентированный подход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осуществлялся за  счёт использования различных форм и методов организации  учебной деятельности, актуальность темы ( как и где можно провести каникулы), использование мультимедийной презентации с видами страны)  позволила создать атмосферу заинтересованности каждого ученика, использование страховок, зрительных опор стимулировало учащихся  высказываться по теме, не боясь допустить ошибку. Кроме того, задания  к уроку подбирались таким образом, чтобы они расширяли не только личный опыт учащихся, но и</a:t>
            </a: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способствовали развитию самостоятельности мышления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Индивидуализация обучения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на уроке происходила  за счёт использования нескольких видов презентации учебного материала, стимулирования обсуждения в группе, применение дифференцированных форм поощрения и порицания в  зависимости от личностных характеристик учащихся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7632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Результативность  урок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56800" y="1499760"/>
            <a:ext cx="7962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рименяя элементы технологии личностно-ориентированного обучения, индивидуализации обучения, сочетая различные методы и приёмы  на уроке были достигнуты следующие результаты: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539640" algn="just">
              <a:spcBef>
                <a:spcPts val="45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асширили объём употребления лексических единиц по теме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539640" algn="just">
              <a:spcBef>
                <a:spcPts val="45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азвивали умение </a:t>
            </a: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осприятия на слух  и понимания текста с разной      глубиной и точностью проникновения в его содержание ( понимание основного содержания и специальной информации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539640" algn="just">
              <a:spcBef>
                <a:spcPts val="45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рактиковали навык устной реч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Сочетание фронтальной, парной и групповой работы, смена различных видов деятельности устранили перегрузку учащихся на уроке,  в течение урока преобладали положительные эмоции, учащихся заинтересовало содержание материала и предложенные виды  деятельност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Данный урок имеет  логическую связь с последующими уроками. Наиболее удачным моментом считаю презентацию нового учебного материала,  в дальнейшей работе над данной темой  планирую продумать организацию рефлексивной деятельности учащихся на уроке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539640" algn="just">
              <a:spcBef>
                <a:spcPts val="425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indent="539640" algn="just">
              <a:spcBef>
                <a:spcPts val="425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2a00"/>
                </a:solidFill>
                <a:latin typeface="Times New Roman"/>
              </a:rPr>
              <a:t>Урок изучения и первичного закрепления новых знаний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a00"/>
                </a:solidFill>
                <a:latin typeface="Times New Roman"/>
              </a:rPr>
              <a:t>Цели урока</a:t>
            </a:r>
            <a:r>
              <a:rPr b="1" lang="ru-RU" sz="1800" spc="-1" strike="noStrike">
                <a:solidFill>
                  <a:srgbClr val="935f3a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ознавательный аспект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– приобщение учащихся к культуре, традициям и реалиям зарубежных стран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азвивающий аспект</a:t>
            </a: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–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развивать умения во всех видах речевой деятельности, совершенствовать компенсаторные умения (прогнозировать содержание текста, пользоваться языковой и контекстуальной догадкой при аудировании и чтении, игнорировать лексические трудности, использовать словарные замены в процессе общения), развитие рефлексивных способностей учащихся, развивать ключевые компетентности: познавательную, информационную, коммуникативную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оспитательный аспект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–воспитание уважительного отношения к другой культуре, толерантности и социокультурной наблюдательности, воспитание потребности расширения кругозора через путешествие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учебный аспект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– формирование и развитие речевых компетентностей,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навыков чтения, аудирования  и письма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42a00"/>
                </a:solidFill>
                <a:latin typeface="Times New Roman"/>
              </a:rPr>
              <a:t>Задачи урока  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Расширить объём ЛЕ по теме  «Путешествие» на основе текста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Развитие  навыков аудирования</a:t>
            </a:r>
            <a:r>
              <a:rPr b="1" lang="en-US" sz="23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(с извлечением специальной информации)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Совершенствовать навыки поискового и изучающего чтения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Развивать навык  монологической речи  на основе прочитанного текста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51a00"/>
                </a:solidFill>
                <a:latin typeface="Times New Roman"/>
              </a:rPr>
              <a:t>Развивать умение рассказывать о событиях и выражать к ним своё отношение в письменной форме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7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a00"/>
                </a:solidFill>
                <a:latin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542a00"/>
                </a:solidFill>
                <a:latin typeface="Times New Roman"/>
              </a:rPr>
              <a:t>Оснащение урока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900000" y="1857240"/>
            <a:ext cx="8244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51a00"/>
                </a:solidFill>
                <a:latin typeface="Times New Roman"/>
              </a:rPr>
              <a:t>Мультимедийная презентац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9640" indent="-539640">
              <a:spcBef>
                <a:spcPts val="601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51a00"/>
                </a:solidFill>
                <a:latin typeface="Times New Roman"/>
              </a:rPr>
              <a:t>Аудиозапис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9640" indent="-539640">
              <a:spcBef>
                <a:spcPts val="601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51a00"/>
                </a:solidFill>
                <a:latin typeface="Times New Roman"/>
              </a:rPr>
              <a:t>Учебник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9640" indent="-539640">
              <a:spcBef>
                <a:spcPts val="601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51a00"/>
                </a:solidFill>
                <a:latin typeface="Times New Roman"/>
              </a:rPr>
              <a:t>Запись на доск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9640" indent="-539640">
              <a:spcBef>
                <a:spcPts val="601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51a00"/>
                </a:solidFill>
                <a:latin typeface="Times New Roman"/>
              </a:rPr>
              <a:t>Ключи для само и взаимоконтрол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a00"/>
                </a:solidFill>
                <a:latin typeface="Times New Roman"/>
              </a:rPr>
              <a:t>Целевая установка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9072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Данный урок открывает учебную тему, для предъявления целей занятия  был использован объяснительно-иллюстративный метод. Понимание достигнуто переводом, что  позволило обеспечить мотивацию учащихся на умственную деятельность. Задачи урока  поняты и приняты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Цели урока взаимосвязаны с последующими уроками данного цикла и соответствуют требованиям программы обучения по английскому языку. Цели учебного занятия направлены на практическую деятельность учащихся, т.к  в ходе урока развиваются ЗУН в основных видах речевой деятельности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a00"/>
                </a:solidFill>
                <a:latin typeface="Times New Roman"/>
              </a:rPr>
              <a:t>Содержательность урок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9716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2000"/>
                </a:solidFill>
                <a:latin typeface="Times New Roman"/>
              </a:rPr>
              <a:t>Содержание урока  соответствует требованиям государственного образовательного стандарта. Отбор речевого и языкового материала, доступность его понимания, формы  и методы организации урока  соответствуют  теме, целям, возрастным особенностям и уровню обученности  учащихся. При разработке урока соблюдались общедидактические принципы: сознательность, научность, логичность, практическая направленность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900000" y="1125360"/>
          <a:ext cx="7993080" cy="5399280"/>
        </p:xfrm>
        <a:graphic>
          <a:graphicData uri="http://schemas.openxmlformats.org/drawingml/2006/table">
            <a:tbl>
              <a:tblPr/>
              <a:tblGrid>
                <a:gridCol w="1081080"/>
                <a:gridCol w="489240"/>
                <a:gridCol w="1363320"/>
                <a:gridCol w="1392480"/>
                <a:gridCol w="1173240"/>
                <a:gridCol w="1000080"/>
                <a:gridCol w="1493640"/>
              </a:tblGrid>
              <a:tr h="136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Приемы организации учебной деятельности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Формы</a:t>
                      </a:r>
                      <a:r>
                        <a:rPr b="1" lang="en-US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Использование ТСО, мультимедиа, учебника,доски,дополнительного материала</a:t>
                      </a:r>
                      <a:endParaRPr b="0" lang="en-US" sz="1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402000"/>
                    </a:solidFill>
                  </a:tcPr>
                </a:tc>
              </a:tr>
              <a:tr h="1463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Warming</a:t>
                      </a:r>
                      <a:r>
                        <a:rPr b="1" i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r>
                        <a:rPr b="1" i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up activity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рганизационный момент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 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рослушивание песни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отивирование учащихся на работу; развитие фонетических навыков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вуковое сопровож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5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 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кробеседа по  содержанию услышанного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рогнозирование темы; подготовка к работе с новым языковым  материалом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рительная опора 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 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Формулирование целей урока,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еревод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рганизация целеполагани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рительная опора 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</a:tbl>
          </a:graphicData>
        </a:graphic>
      </p:graphicFrame>
      <p:sp>
        <p:nvSpPr>
          <p:cNvPr id="553" name="TextBox 2"/>
          <p:cNvSpPr/>
          <p:nvPr/>
        </p:nvSpPr>
        <p:spPr>
          <a:xfrm>
            <a:off x="826920" y="33336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лан урок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14240" y="357120"/>
          <a:ext cx="8286840" cy="6500880"/>
        </p:xfrm>
        <a:graphic>
          <a:graphicData uri="http://schemas.openxmlformats.org/drawingml/2006/table">
            <a:tbl>
              <a:tblPr/>
              <a:tblGrid>
                <a:gridCol w="1140120"/>
                <a:gridCol w="517320"/>
                <a:gridCol w="1279440"/>
                <a:gridCol w="1397160"/>
                <a:gridCol w="1365120"/>
                <a:gridCol w="1370160"/>
                <a:gridCol w="1217520"/>
              </a:tblGrid>
              <a:tr h="12819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ollow –up</a:t>
                      </a:r>
                      <a:endParaRPr b="0" lang="en-US" sz="15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сновной этап</a:t>
                      </a:r>
                      <a:endParaRPr b="0" lang="en-US" sz="15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 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пражнение на предтекстовом этапе (заголовки текста)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одготовка к восприятию текста, снятие языковых трудностей, антиципаци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чебник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 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Аудирова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Развитие  умения извлечения информации, проверка  языковой догадки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тветы на вопросы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ТСО, учебник, мультимедий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ная презентация</a:t>
                      </a:r>
                      <a:r>
                        <a:rPr b="1" lang="en-US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лайды  с видами страны)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Чт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Детальное понимание прочитанного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Индивиду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амоконтроль по ключу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чебник,  ответы для самопроверки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словно-речевое упражнение (исправить неправильное утверждение)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Использование  контекста как базы для развития устной речи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Фронт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тветы учащихс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чебник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 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Выбор  из текста  соответствующих слов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емантизация нового лексического материала  на основе контекста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ар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Взаимоконтроль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чебник, ключ для взаимоконтрол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071720" y="714240"/>
          <a:ext cx="7643520" cy="5275440"/>
        </p:xfrm>
        <a:graphic>
          <a:graphicData uri="http://schemas.openxmlformats.org/drawingml/2006/table">
            <a:tbl>
              <a:tblPr/>
              <a:tblGrid>
                <a:gridCol w="1143000"/>
                <a:gridCol w="546120"/>
                <a:gridCol w="1249200"/>
                <a:gridCol w="1324080"/>
                <a:gridCol w="1101600"/>
                <a:gridCol w="1176480"/>
                <a:gridCol w="1103040"/>
              </a:tblGrid>
              <a:tr h="167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и-сообщ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Развитие умения монологической речи  с опорой на вопросы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Групповая</a:t>
                      </a:r>
                      <a:r>
                        <a:rPr b="1" lang="en-US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,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дифференцированная  формы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тветы  лидеров групп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пора для учащихся с низким уровнем обученности  (начало предложений)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42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апись и рекомендации выполнения домашнего задани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Развитие навыка продуктивного письма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Индивидуальна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Написать заметку о путешествии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пора на пла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08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Rounding-off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аключительный этап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Приём незаконченного предложения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Рефлексия деятельности 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Фронтальная 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Зрительная опора (начало предложений)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ин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работы учащихся и комментирование оценок</a:t>
                      </a:r>
                      <a:endParaRPr b="0" lang="en-US" sz="13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f5ebe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0:44:27Z</dcterms:created>
  <dc:creator>дом</dc:creator>
  <dc:description/>
  <dc:language>en-US</dc:language>
  <cp:lastModifiedBy>дом</cp:lastModifiedBy>
  <dcterms:modified xsi:type="dcterms:W3CDTF">2012-02-11T01:02:48Z</dcterms:modified>
  <cp:revision>151</cp:revision>
  <dc:subject/>
  <dc:title>Школьный конкурс  мультимедийных презентац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