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gif" ContentType="image/gi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BE6-65F4-46C0-A822-51427EBE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46C-AD3C-422F-801F-A5851F85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61F-087F-4B63-BFE7-194689C0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FFA-F34E-4D92-AD13-FA299E52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E94B-AF18-462E-BCB7-C85FB4B8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4CC3-14CC-44C6-84E0-14755FE0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3231-9C15-43FD-AE9A-25FBAD1B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6679-6276-4739-A149-32470510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CB0-A177-413E-967B-798A44E3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E75B-52D0-49B3-99D7-D7106138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AE2B-0C0D-4648-A65F-58103BA4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8D1-655E-4851-8D74-DB6E4842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7A03-2026-4C92-8CAF-4E2CBEAB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6A41-29CC-4574-8226-6D397B8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E20-B0BF-4A31-AB8E-E5DED7C3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D389-EE1F-40CF-B623-0DE4D81D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8130-43F5-4BCC-9B84-991EF71E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AB1-359D-431C-931F-BC345E14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E9A-056D-45ED-8E37-355579D0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84C-0939-4132-BD97-7477E45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714-746A-4682-B02A-6737996B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2AC-6DBC-49E1-BBC9-12A6078B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3A2-C7C1-4130-964E-A8066CD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DB4-0A1D-4405-BDE6-A7BE1462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F87E-45B1-44D4-A949-161C9DCC63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B6DF-A565-43A7-ADE4-A1E1553892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92468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«Трудности адаптации первоклассников к школе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33720" y="2530440"/>
            <a:ext cx="43434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Желаю успехов в воспитании своего ребёнка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Именно на начальном этапе обучения родители должны максимально опекать своё дитя. Их задача- научить правильно учитьс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.Д.Ушинск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786120"/>
            <a:ext cx="4572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«Физиологические условия адаптации ребёнка к школе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Изменение режима дня ребён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Организация правильного питания ребён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Забота родителей о закаливании ребёнка, максимальное развитие двигательной актив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Воспитание самостоятельности и ответственности ребёнка как главных качеств сохранения здоровь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Необходимость игровой деятельности в жизни младшего школьника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Какой ребёнок в игре, таков он во многом будет в работе, когда вырастет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.С.Макаренк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66688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гра- дело серьёзное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ре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ольст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звит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43480" y="1905120"/>
            <a:ext cx="3305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Воспитательные возможности игры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Игры развивают внимание, память, восприятие, мышление, вообра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Игры тренируют наблюдательность и у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Игры развивают творческие способ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Игры формируют эмоционально-чувственную сферу лич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Игры способствуют познанию ребёнком самого себ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62" dur="1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72" dur="1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73" dur="1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84" dur="1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95" dur="1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«С детьми играть- ум-разум развивать»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Шахматы и шаш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Шарады, головоломк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ебусы, кроссвор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читалки, скороговорк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гад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портивные подвиж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г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61040" y="1981080"/>
            <a:ext cx="3265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«Психологические условия адаптации ребёнка к школе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Создание благоприятного психологического климата по отношению к ребёнку со стороны всех членов семь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Формирование у младшего школьника интереса к шко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Необходимость дружеского общения ребёнка с одноклассник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Организация контроля за учебной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Поощрение за учебные успех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Взаимоотношения с ребёнком в семье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Не отнимай чужого, но и своё не отдава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Попросили- дай, отнимают- защищай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Не дерись без причи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Зовут играть- иди, не зовут- спроси разрешения играть вмес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Играй честно, не подводи своих товар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Не дразни никого, не выпрашивай ниче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1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1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1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1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1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1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2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2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Взаимоотношения с ребёнком в семье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Старайся всё делать вовремя и думай о хороших результат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Не ябедничай и не наговаривай ни на ко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Старайся быть аккуратны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Почаще говори: давай дружить, игр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Помни! Ты не лучше всех, ты не хуже всех! Ты- неповторимый для самого себя, друзей, родителей, учи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2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2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2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2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2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2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2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2-12T04:25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