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BF0-E506-4CB6-B7F0-33C89AB3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817-B15F-42E2-9CDA-099771CE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06C-9DD3-4EB6-9E55-E996E045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9B1-D9FE-438A-B175-AD019635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DF8-D46B-4DD0-BDDA-45C0D475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85B6-C5D4-41B7-981C-250B22B9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5EC-D2AE-455C-A5A8-C86CFE31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F89-303B-47CF-88A4-2F854EEA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1A6-7C51-4602-8790-47474A31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F5B-E9A7-4BFD-8C2F-90968DA6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96D-81B8-49DC-811D-D1EFA92B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129-EFDD-4ACE-A968-80C98222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ECBC-7394-4AD1-AC24-2E9789FAD9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В гостях у Шерлока Холмса и доктора Ватсон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4" descr="sherlok_kholms_i_doktor_vatson_znakomstvo_screenshot_4[1].jpg"/>
          <p:cNvPicPr/>
          <p:nvPr/>
        </p:nvPicPr>
        <p:blipFill>
          <a:blip r:embed="rId1"/>
          <a:stretch/>
        </p:blipFill>
        <p:spPr>
          <a:xfrm>
            <a:off x="1187280" y="1557360"/>
            <a:ext cx="66978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567[1].jpg"/>
          <p:cNvPicPr/>
          <p:nvPr/>
        </p:nvPicPr>
        <p:blipFill>
          <a:blip r:embed="rId1"/>
          <a:stretch/>
        </p:blipFill>
        <p:spPr>
          <a:xfrm>
            <a:off x="1835280" y="404640"/>
            <a:ext cx="5689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WLBP-1013[1].jpg"/>
          <p:cNvPicPr/>
          <p:nvPr/>
        </p:nvPicPr>
        <p:blipFill>
          <a:blip r:embed="rId1"/>
          <a:stretch/>
        </p:blipFill>
        <p:spPr>
          <a:xfrm>
            <a:off x="1258920" y="333360"/>
            <a:ext cx="66978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й знакомый клоун измерил две стороны своего треугольного забора. Они равны 18,7 м и 13,6 м. А третью сторону он измерить не смог, т.к. забор пересекает канаву, которую нельзя перепрыгнуть. Проходивший мимо сосед клоуна сказал, что периметр забора равен 42,9 м. Сказал и ушел. Клоун так и не понял, как измерить третью сторону и причём здесь это странное слово "периметр". Помогите разобраться!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числи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37,5 - 8,609) - (3,27 + 0,078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ите уравн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-27,5 =38,1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числи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4,008 - (27,3 - 5,48) + 8,3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ите уравне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3,7 - X -=42,5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Предмет математики настолько серьезен, что полезно не упускать случаев делать его немного занимательным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.Паска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4" descr="rebusy_po_matematike[1].jpg"/>
          <p:cNvPicPr/>
          <p:nvPr/>
        </p:nvPicPr>
        <p:blipFill>
          <a:blip r:embed="rId1"/>
          <a:stretch/>
        </p:blipFill>
        <p:spPr>
          <a:xfrm>
            <a:off x="684360" y="404640"/>
            <a:ext cx="784836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инка для ума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 Увеличьт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исло 0,1 на 2,5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  Уменьшит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исло 2,55 на 0,1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 Прибавьте 0,1 к 2,555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 Отнимите 0,1 от 2,55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. На сколько 0,1 больше, чем 0,099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. Решите уравнение: X + 2,3 = 0,12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. Закончите предложение: «Если к десятичной дроби справа приписать один или несколько нулей, то получиться дробь...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8. Найдите корень уравнения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X - 0,2 = 0,12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. Округлите до единиц число 13,87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0. Округлите до целых число 60,399.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ед вами несколько чисел. Найдите среди них равные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0,24;  24/1000;  3,76;  3,076;  3 76/100;  0,024;  3 76/1000; 24/100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омогите исправить забавные 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52+18=7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)3+108=308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42+17=212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)736 – 336=4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)63 – 27=603;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) 57-4=17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означают эти таинственные записи? Помогите разгадать их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) а-0,07=1,5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) 9-у =1,5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6:20:36Z</dcterms:created>
  <dc:creator>Наталья</dc:creator>
  <dc:description/>
  <dc:language>en-US</dc:language>
  <cp:lastModifiedBy>Наталья</cp:lastModifiedBy>
  <dcterms:modified xsi:type="dcterms:W3CDTF">2012-10-13T17:09:22Z</dcterms:modified>
  <cp:revision>5</cp:revision>
  <dc:subject/>
  <dc:title>«В гостях у Шерлока Холмса и доктора Ватсона»</dc:title>
</cp:coreProperties>
</file>