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14.wmf" ContentType="image/x-wmf"/>
  <Override PartName="/ppt/media/image9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250-4636-4860-87CA-4EBFBA22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AF2-A07C-4E75-BCB8-3C90BD1F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5D1-2715-45ED-A4AF-BC161825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D2E-D0F1-4BCF-ADAE-3D647218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6FD-8090-45DD-89DD-D292CDE0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44A-8F18-49C8-844E-F5A2B1BE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ECA-335F-4E11-8924-99254D9E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2AC-EA1D-4E28-894E-A54BB758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54C-CAE8-47D1-A1C6-FAEA8576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6C1-D1F9-42C6-9305-8E14A33E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424-1BA4-4BF5-90CA-E51C3A15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1AC-1644-4332-97A8-91E7FF7D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D113-A92B-42CA-94B8-F17B86685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vrov.ru/events/2002-bikers/i03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78483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ияние антропогенного фактора на видовое разнообразие растени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вежьего 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57800" y="480060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учный руководитель: Андреева Елена Сергеев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 биологии I  квалификационной категор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ОУ СОШ № 2  имени А.Н Радище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г. Малоярославца Калужской обла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6172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/2012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304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редняя общеобразовательная школа № 2 г.Малоярославца имени А.Н.Радищ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3809880"/>
            <a:ext cx="4724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ры работы: Кожанова Любовь, ученица 11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СОШ №2 имени А.Н Радищ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Малоярославца Калужской об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Шерстнев Сергей, ученик 9 Б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СОШ №2 имени А.Н Радищ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Малоярославца Калужской об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ок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Объект 3"/>
          <p:cNvGraphicFramePr/>
          <p:nvPr/>
        </p:nvGraphicFramePr>
        <p:xfrm>
          <a:off x="198360" y="457200"/>
          <a:ext cx="8945640" cy="640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457200"/>
                    <a:ext cx="89456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ок №1 располагался на территории палаточного горо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533520" y="1187280"/>
            <a:ext cx="888516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3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ок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Объект 3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ок №2 располагался возле сцены и основных действий соревн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924408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ок №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Объект 4"/>
          <p:cNvGraphicFramePr/>
          <p:nvPr/>
        </p:nvGraphicFramePr>
        <p:xfrm>
          <a:off x="380880" y="655560"/>
          <a:ext cx="8458200" cy="612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55560"/>
                    <a:ext cx="8458200" cy="61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Объект 3"/>
          <p:cNvGraphicFramePr/>
          <p:nvPr/>
        </p:nvGraphicFramePr>
        <p:xfrm>
          <a:off x="914400" y="0"/>
          <a:ext cx="7299360" cy="682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729936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ок №3 - контроль. 300 м от палаточного горо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228600" y="1006560"/>
            <a:ext cx="100058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ируя полученные данные,  мы  сделали следующие выводы, что в результате сравнительного анализа флористический состав луга изменился под действием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106668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нове анализа видового состава растений Медвежьего луга до и после проведения Фестиваля исследовать возможность влияния антропогенного фактора на видовое разнообразие растений Медвежьего 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воздействия антропогенного фактора практически исчезли растения с площадки №2 там, где находилась центральная сцена и вследствие этого наибольшее скопление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6680" y="617148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овой состав растений второй площад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00200" y="1752480"/>
          <a:ext cx="640080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752480"/>
                    <a:ext cx="64008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лощадке №1, там где располагался палаточный городок изменения количественного состава также произошли, но менее значительные, чем на площадке № 2. Это связано с тем, что сила влияния антропогенного фактора на данном участке меньше, чем на участке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120" y="5714280"/>
            <a:ext cx="49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овой состав растений второй площа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2133720"/>
          <a:ext cx="5410080" cy="360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133720"/>
                    <a:ext cx="541008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енный анализ числа видов растений на экспериментальных площад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113821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   видовой состав растений Медвежьего 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динамику встречаемости видов растений на лугу до и после проведения Фестив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сравнительную характеристику биоразнообр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ижения поставленных цели и задач нами использова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у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встречаемости видов растений в изучаемом сообществе л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Raunkiaer (190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ения произрастающие на Медвежьем л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спользование территории пойменного луга под проведение Мотто-фестиваля приводит к деградации данного фитоцен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жегодно возрастает посещаемость фестиваля.  В 2006 году фестиваль собрал 22000 человек, в 2007 - более 40000 человек,  в  2008 году  свыше 60000 гостей, в 2011 свыше 7000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145 из 2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401840"/>
            <a:ext cx="8229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од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учения состава популяции растений использовалась методика определения встречаемости разработанная  С. Raunkiaer (190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ло заложено 10 пробных площадок 1х1 м каждая, на трех участках. На каждой из них мы учитывали наличие видов и вычисляли встречаемость этих видов в процентах, по формуле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c = а/b • 100%, где c – встречаемость вида; a – число площадок, в которых обнаружен вид; b – общее число рабочих площадок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loyaroslavec_karta"/>
          <p:cNvPicPr/>
          <p:nvPr/>
        </p:nvPicPr>
        <p:blipFill>
          <a:blip r:embed="rId2"/>
          <a:stretch/>
        </p:blipFill>
        <p:spPr>
          <a:xfrm>
            <a:off x="-3352680" y="0"/>
            <a:ext cx="19554840" cy="12492000"/>
          </a:xfrm>
          <a:prstGeom prst="rect">
            <a:avLst/>
          </a:prstGeom>
          <a:ln w="0">
            <a:noFill/>
          </a:ln>
        </p:spPr>
      </p:pic>
      <p:sp>
        <p:nvSpPr>
          <p:cNvPr id="61" name="Oval 5"/>
          <p:cNvSpPr/>
          <p:nvPr/>
        </p:nvSpPr>
        <p:spPr>
          <a:xfrm>
            <a:off x="4648320" y="68580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886200" y="114300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3962520" y="3808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343400" y="838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лощадк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286000" y="304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лощадка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209680" y="12193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лощадк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7724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Школа 2</cp:lastModifiedBy>
  <dcterms:modified xsi:type="dcterms:W3CDTF">2013-10-09T07:50:2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