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944-A0E7-4977-B5C0-5950D535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574-D142-4D04-8B71-286D931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BC3-796A-49AF-8AD8-2A120D7E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992-48FF-4CFE-BA8E-E36AF570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4571-A904-4DA9-9142-4DB1751C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B456-D378-4AF9-BE1A-97E4F9AD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25B-F5AB-4775-AE94-71D1DDDC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7063-D897-497A-A063-C85791A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131B-F4A5-42CF-9E9E-010E122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A1B0-E08B-4954-B276-77790CF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3D38-7B1A-47A8-A264-B0645B6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9D6-D308-40F5-9870-15951EDD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2BDC-BF91-4144-B42F-0B35E20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6784-3958-415A-B42C-7C0CC2C9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0FC-FBBC-480C-9CEF-EAE8621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D75C-59B0-4D97-9DD2-9819885B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B2DE-FC44-489C-87A6-69DB512D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CCB7-6703-431F-8C4E-2D7A407E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E3A7-C95A-434D-ABFE-1C677C56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13D6-55EE-4A96-987D-69EDA2C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43B5-CA6D-4695-84BD-5520E1D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1413-5467-47B6-B8F9-026AD73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D48-E5C7-4C23-9ECD-BC4BDEE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B4EE-2522-418C-9617-3A1107D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18B5-67F1-472E-9637-C6DEBF40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079E-9763-40CB-8E91-1FDABD4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564A-E59D-4954-BCD9-51588E4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6999-AB94-4E7C-94AA-E88D468B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9BC0-8F39-45AB-9640-EFE7CCE9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9D24-CEC2-416F-883B-4D7735D6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1F90-6862-49B0-B8BE-B452C712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EE37-56F0-43EF-996E-FBAAA866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B68F-1ADF-49EE-9230-162F03A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37D-3B15-44EE-9421-4CDDBC5B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0F38-484C-4FA8-BD2E-9F5E6C48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D8DB-6E6F-4C29-9981-47C3D799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D865-6086-4A45-88C7-72330194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9EC5-0307-4906-B627-A56F53A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0A49-E246-461A-8E07-08036C4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F436-1050-47F4-8551-AA8B14E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0ED8-E8CB-4B7E-85F0-1484320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52E4-3C28-47AC-89FC-E72F5A2D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04F0-7245-4A44-9E70-6A868810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6BBD-9E66-4089-A797-A517A24A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8FA-327E-482C-8D02-5D6AFA6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107E-AC53-414C-8C58-F6778CF1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6A84-CC98-4D93-A639-A31F952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6B4F-5851-425D-A93A-4919476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5EC2-E676-43E0-BA63-505EAB4B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7A5BF-0FB4-47F9-8B74-4E8769A3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7E7B-609D-42F7-B6DB-6BC8E2F1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E0B5-4C9B-457C-9F8C-C48D90C6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7838E-C449-4808-8436-DFFCD7A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EC11-3B9C-41D1-972D-BA99DCAC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73126-EF69-434B-8E9C-89295BD9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511-5F5D-43A6-90F7-26D490CA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5BAD-1186-4FD3-ADC1-51A81AE7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8A1-2B22-4ECA-A3D7-D62F6D82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298-06A2-49D1-BC3D-37A8991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185-16C3-497B-BB8B-C7A2C52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CE6-6502-4096-BA98-ECDB2A14784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FC22-E5C4-4C05-BAA7-B815A7498E8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FF3A-C17C-445D-892E-22F10134C50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8DC0-0F30-4678-BAA1-91D2F9ACA8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FED7-66A7-43C1-8954-C054351531E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АКЦИЯ«Здоровый образ жизни»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Демьяненко Екатер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ченица 8 «В»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User\Desktop\гифы\люди\22.bmp"/>
          <p:cNvPicPr/>
          <p:nvPr/>
        </p:nvPicPr>
        <p:blipFill>
          <a:blip r:embed="rId1"/>
          <a:stretch/>
        </p:blipFill>
        <p:spPr>
          <a:xfrm>
            <a:off x="6283440" y="4500720"/>
            <a:ext cx="1646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4" descr="C:\Users\User\Pictures\OLYMPUS Master 2\2010\02\26\P2260057.JPG"/>
          <p:cNvPicPr/>
          <p:nvPr/>
        </p:nvPicPr>
        <p:blipFill>
          <a:blip r:embed="rId1"/>
          <a:stretch/>
        </p:blipFill>
        <p:spPr>
          <a:xfrm>
            <a:off x="571680" y="571680"/>
            <a:ext cx="2438280" cy="257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User\Pictures\OLYMPUS Master 2\2010\02\26\P2260060.JPG"/>
          <p:cNvPicPr/>
          <p:nvPr/>
        </p:nvPicPr>
        <p:blipFill>
          <a:blip r:embed="rId2"/>
          <a:stretch/>
        </p:blipFill>
        <p:spPr>
          <a:xfrm>
            <a:off x="3143160" y="642960"/>
            <a:ext cx="2414520" cy="2500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C:\Users\User\Pictures\OLYMPUS Master 2\2010\02\26\P2260058.JPG"/>
          <p:cNvPicPr/>
          <p:nvPr/>
        </p:nvPicPr>
        <p:blipFill>
          <a:blip r:embed="rId3"/>
          <a:stretch/>
        </p:blipFill>
        <p:spPr>
          <a:xfrm>
            <a:off x="5762520" y="6429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User\Pictures\OLYMPUS Master 2\2010\03\01\P3010066.JPG"/>
          <p:cNvPicPr/>
          <p:nvPr/>
        </p:nvPicPr>
        <p:blipFill>
          <a:blip r:embed="rId4"/>
          <a:stretch/>
        </p:blipFill>
        <p:spPr>
          <a:xfrm>
            <a:off x="714240" y="3429000"/>
            <a:ext cx="2873520" cy="2081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User\Pictures\OLYMPUS Master 2\2010\02\26\P2260053.JPG"/>
          <p:cNvPicPr/>
          <p:nvPr/>
        </p:nvPicPr>
        <p:blipFill>
          <a:blip r:embed="rId5"/>
          <a:stretch/>
        </p:blipFill>
        <p:spPr>
          <a:xfrm>
            <a:off x="3714840" y="3429000"/>
            <a:ext cx="2062080" cy="2786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User\Pictures\OLYMPUS Master 2\2010\02\26\P2260040.JPG"/>
          <p:cNvPicPr/>
          <p:nvPr/>
        </p:nvPicPr>
        <p:blipFill>
          <a:blip r:embed="rId6"/>
          <a:stretch/>
        </p:blipFill>
        <p:spPr>
          <a:xfrm>
            <a:off x="6072120" y="3214800"/>
            <a:ext cx="24955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C:\Users\User\Pictures\OLYMPUS Master 2\2010\02\26\P2260032.JPG"/>
          <p:cNvPicPr/>
          <p:nvPr/>
        </p:nvPicPr>
        <p:blipFill>
          <a:blip r:embed="rId1"/>
          <a:stretch/>
        </p:blipFill>
        <p:spPr>
          <a:xfrm>
            <a:off x="2357280" y="714240"/>
            <a:ext cx="2992680" cy="1857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User\Pictures\OLYMPUS Master 2\2010\02\26\P2260033.JPG"/>
          <p:cNvPicPr/>
          <p:nvPr/>
        </p:nvPicPr>
        <p:blipFill>
          <a:blip r:embed="rId2"/>
          <a:stretch/>
        </p:blipFill>
        <p:spPr>
          <a:xfrm>
            <a:off x="500040" y="571680"/>
            <a:ext cx="1878120" cy="264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User\Pictures\OLYMPUS Master 2\2010\02\26\P2260037.JPG"/>
          <p:cNvPicPr/>
          <p:nvPr/>
        </p:nvPicPr>
        <p:blipFill>
          <a:blip r:embed="rId3"/>
          <a:stretch/>
        </p:blipFill>
        <p:spPr>
          <a:xfrm>
            <a:off x="5572080" y="714240"/>
            <a:ext cx="2793960" cy="178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User\Pictures\OLYMPUS Master 2\2010\02\26\P2260028.JPG"/>
          <p:cNvPicPr/>
          <p:nvPr/>
        </p:nvPicPr>
        <p:blipFill>
          <a:blip r:embed="rId4"/>
          <a:stretch/>
        </p:blipFill>
        <p:spPr>
          <a:xfrm>
            <a:off x="571680" y="3429000"/>
            <a:ext cx="2815920" cy="2071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User\Pictures\OLYMPUS Master 2\2010\02\26\P2260027.JPG"/>
          <p:cNvPicPr/>
          <p:nvPr/>
        </p:nvPicPr>
        <p:blipFill>
          <a:blip r:embed="rId5"/>
          <a:stretch/>
        </p:blipFill>
        <p:spPr>
          <a:xfrm>
            <a:off x="3571920" y="2714760"/>
            <a:ext cx="2670120" cy="1928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User\Pictures\OLYMPUS Master 2\2010\02\26\P2260045.JPG"/>
          <p:cNvPicPr/>
          <p:nvPr/>
        </p:nvPicPr>
        <p:blipFill>
          <a:blip r:embed="rId6"/>
          <a:stretch/>
        </p:blipFill>
        <p:spPr>
          <a:xfrm>
            <a:off x="6286680" y="2714760"/>
            <a:ext cx="2576160" cy="3571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User\Pictures\OLYMPUS Master 2\2010\02\26\P2260041.JPG"/>
          <p:cNvPicPr/>
          <p:nvPr/>
        </p:nvPicPr>
        <p:blipFill>
          <a:blip r:embed="rId7"/>
          <a:stretch/>
        </p:blipFill>
        <p:spPr>
          <a:xfrm>
            <a:off x="3956040" y="4786200"/>
            <a:ext cx="1231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Береги здоровье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C:\Users\User\Pictures\OLYMPUS Master 2\2010\02\26\P2260052.JPG"/>
          <p:cNvPicPr/>
          <p:nvPr/>
        </p:nvPicPr>
        <p:blipFill>
          <a:blip r:embed="rId1"/>
          <a:stretch/>
        </p:blipFill>
        <p:spPr>
          <a:xfrm>
            <a:off x="500040" y="500040"/>
            <a:ext cx="3857760" cy="26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Pictures\OLYMPUS Master 2\2010\02\26\P2260051.JPG"/>
          <p:cNvPicPr/>
          <p:nvPr/>
        </p:nvPicPr>
        <p:blipFill>
          <a:blip r:embed="rId2"/>
          <a:stretch/>
        </p:blipFill>
        <p:spPr>
          <a:xfrm>
            <a:off x="4572000" y="571680"/>
            <a:ext cx="4071960" cy="257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Users\User\Pictures\OLYMPUS Master 2\2010\02\26\P2260039.JPG"/>
          <p:cNvPicPr/>
          <p:nvPr/>
        </p:nvPicPr>
        <p:blipFill>
          <a:blip r:embed="rId3"/>
          <a:stretch/>
        </p:blipFill>
        <p:spPr>
          <a:xfrm>
            <a:off x="3000240" y="3286080"/>
            <a:ext cx="3016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0:20:06Z</dcterms:created>
  <dc:creator>User</dc:creator>
  <dc:description/>
  <dc:language>en-US</dc:language>
  <cp:lastModifiedBy>User</cp:lastModifiedBy>
  <dcterms:modified xsi:type="dcterms:W3CDTF">2013-10-09T04:04:57Z</dcterms:modified>
  <cp:revision>9</cp:revision>
  <dc:subject/>
  <dc:title>«Здоровый образ жизни» 9-10 классы 2009-2010уч.год.</dc:title>
</cp:coreProperties>
</file>