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click.wav" ContentType="audio/x-wav"/>
  <Override PartName="/ppt/media/image6.jpeg" ContentType="image/jpeg"/>
  <Override PartName="/ppt/media/image1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8C75-DBF5-4E58-BA0A-1426F41D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BDED-822B-4949-97A3-E6F7678A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158A-CECF-40DF-A260-FEF0B93C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BE90-7CAF-4112-B371-60258EFF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6F31-D1A1-4D75-9615-F1DE8886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5912-98E7-41B7-AB47-254AF004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C89D-ED06-4E52-964D-471CD880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48B0-269C-4B63-A8B9-BA954D0B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2C89-72A6-4863-9E50-AF1C00C3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A547-8A6E-4883-8448-112BEE0A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AD02-A4A6-45D4-98F7-20DC4D16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6838-EF96-40B5-8443-491F2D57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F622-70D3-4389-B387-904BE66A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0A3B-21E6-4464-B200-EB1D8630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C0D4-D36D-4F5B-A086-4CC5EEED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535F-2336-4EE4-BAAF-2C1C85D4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5A0E-66E6-4553-9B7C-7D881C05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A28B-1133-4149-910E-06D97F94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877D-2A38-45D9-9474-A78183AB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6886-8B83-4125-979D-1FBD225E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D5B-60C2-41AC-8E86-01E8ED13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78A8-C260-4932-A022-A4BA9BC0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9214-E561-442E-BEF5-4C2A2E74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9CA-8A50-48A1-B293-ACC43C09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E3C0-DDFE-4FD1-931F-0E4DF68AA7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176C-A2CD-4648-A6B0-5F70E3AC76D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80880" y="198108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5481"/>
                </a:solidFill>
                <a:latin typeface="Comic Sans MS"/>
              </a:rPr>
              <a:t>Редкие и исчезающие животные Приморского края</a:t>
            </a: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2b5481"/>
                </a:solidFill>
                <a:latin typeface="Comic Sans MS"/>
              </a:rPr>
              <a:t>Группа «Зоологи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3" descr="сканирование0003"/>
          <p:cNvPicPr/>
          <p:nvPr/>
        </p:nvPicPr>
        <p:blipFill>
          <a:blip r:embed="rId1"/>
          <a:stretch/>
        </p:blipFill>
        <p:spPr>
          <a:xfrm>
            <a:off x="1447920" y="4572000"/>
            <a:ext cx="863640" cy="755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сканирование0006"/>
          <p:cNvPicPr/>
          <p:nvPr/>
        </p:nvPicPr>
        <p:blipFill>
          <a:blip r:embed="rId2"/>
          <a:stretch/>
        </p:blipFill>
        <p:spPr>
          <a:xfrm>
            <a:off x="6553080" y="380880"/>
            <a:ext cx="955800" cy="755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сканирование0010"/>
          <p:cNvPicPr/>
          <p:nvPr/>
        </p:nvPicPr>
        <p:blipFill>
          <a:blip r:embed="rId3"/>
          <a:stretch/>
        </p:blipFill>
        <p:spPr>
          <a:xfrm>
            <a:off x="5638680" y="4572000"/>
            <a:ext cx="900360" cy="755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сканирование0005"/>
          <p:cNvPicPr/>
          <p:nvPr/>
        </p:nvPicPr>
        <p:blipFill>
          <a:blip r:embed="rId4"/>
          <a:stretch/>
        </p:blipFill>
        <p:spPr>
          <a:xfrm>
            <a:off x="762120" y="380880"/>
            <a:ext cx="84456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сканирование0011"/>
          <p:cNvPicPr/>
          <p:nvPr/>
        </p:nvPicPr>
        <p:blipFill>
          <a:blip r:embed="rId1"/>
          <a:stretch/>
        </p:blipFill>
        <p:spPr>
          <a:xfrm>
            <a:off x="1295280" y="2514600"/>
            <a:ext cx="2590920" cy="23623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2514600" y="380880"/>
            <a:ext cx="43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b5481"/>
                </a:solidFill>
                <a:latin typeface="Arial"/>
              </a:rPr>
              <a:t>Амурский тиг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28840" y="16002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Отряд Хищ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Семейство Кошачь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b5481"/>
                </a:solidFill>
                <a:latin typeface="Tahoma"/>
              </a:rPr>
              <a:t>Редкий, сокращающийся в численности вид, который находится под угрозой исчезновения. Внесен в Красную книгу РФ. Тигр встречается в Сихотэ-Алинском и Лазовском заповедниках. Питается хищник кабанами, изюбрями, пятнистыми оленями, косулями. Охотничьи владения тигра обширны 600-800кв.км. Он охотится в одиночк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b5481"/>
                </a:solidFill>
                <a:latin typeface="Tahoma"/>
              </a:rPr>
              <a:t>За одну трапезу амурский тигр может съесть до 30 кг мяса. Сытый тигр большую часть дня отдыхает, лишь изредка встает, чтобы напиться из ближайшего ручья. Он прекрасно плавает. Детёнышей бывает от 1 до 4, но чаще от1 до 2. Они остаются с матерью 2-3 года, а затем становятся самостоятельными. Смертность среди молодых животных высокая-50%. </a:t>
            </a:r>
            <a:r>
              <a:rPr b="1" i="1" lang="ru-RU" sz="1400" spc="-1" strike="noStrike">
                <a:solidFill>
                  <a:srgbClr val="2b5481"/>
                </a:solidFill>
                <a:latin typeface="Tahoma"/>
              </a:rPr>
              <a:t>Численность  животных уменьшается в связи с браконьерством и дисбалансом кормовых ресурсов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сканирование0035"/>
          <p:cNvPicPr/>
          <p:nvPr/>
        </p:nvPicPr>
        <p:blipFill>
          <a:blip r:embed="rId1"/>
          <a:stretch/>
        </p:blipFill>
        <p:spPr>
          <a:xfrm>
            <a:off x="1143000" y="251460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b5481"/>
                </a:solidFill>
                <a:latin typeface="Tahoma"/>
              </a:rPr>
              <a:t>Пятнистый олен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59160" y="1981080"/>
            <a:ext cx="337644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Отряд Парнокопыт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Семейство Олень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b5481"/>
                </a:solidFill>
                <a:latin typeface="Tahoma"/>
              </a:rPr>
              <a:t>Пятнистые олени, или, как их называют, олени-цветки, - основная достопримечательность Лазовского заповедника. Питаются олени желудями дуба, побегами и листьями деревьев и кустарников. Они предпочитают стадный образ жизни и держатся группами по 10-30 особе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b5481"/>
                </a:solidFill>
                <a:latin typeface="Tahoma"/>
              </a:rPr>
              <a:t>Численность оленей уменьшается  в связи с нападением на них хищников (тигр, волк, рысь) и браконьерство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5481"/>
                </a:solidFill>
                <a:latin typeface="Tahoma"/>
              </a:rPr>
              <a:t>Причины исчезнов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8040" y="2190240"/>
            <a:ext cx="792792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914400" y="259092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b5481"/>
                </a:solidFill>
                <a:latin typeface="Tahoma"/>
              </a:rPr>
              <a:t>охо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b5481"/>
                </a:solidFill>
                <a:latin typeface="Tahoma"/>
              </a:rPr>
              <a:t>браконьерст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6172200" y="2590920"/>
            <a:ext cx="205740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b5481"/>
                </a:solidFill>
                <a:latin typeface="Tahoma"/>
              </a:rPr>
              <a:t>разрушени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b5481"/>
                </a:solidFill>
                <a:latin typeface="Tahoma"/>
              </a:rPr>
              <a:t>местообита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3505320" y="3505320"/>
            <a:ext cx="2057400" cy="9144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5481"/>
                </a:solidFill>
                <a:latin typeface="Tahoma"/>
              </a:rPr>
              <a:t>живот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838080" y="4724280"/>
            <a:ext cx="2057400" cy="9144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b5481"/>
                </a:solidFill>
                <a:latin typeface="Tahoma"/>
              </a:rPr>
              <a:t>загрязнени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b5481"/>
                </a:solidFill>
                <a:latin typeface="Tahoma"/>
              </a:rPr>
              <a:t>окружающей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b5481"/>
                </a:solidFill>
                <a:latin typeface="Tahoma"/>
              </a:rPr>
              <a:t>сред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6172200" y="4724280"/>
            <a:ext cx="2133720" cy="9144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b5481"/>
                </a:solidFill>
                <a:latin typeface="Tahoma"/>
              </a:rPr>
              <a:t>дисбаланс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b5481"/>
                </a:solidFill>
                <a:latin typeface="Tahoma"/>
              </a:rPr>
              <a:t>пита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2895480" y="3124080"/>
            <a:ext cx="762120" cy="38124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5334120" y="3124080"/>
            <a:ext cx="838080" cy="38124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11"/>
          <p:cNvSpPr/>
          <p:nvPr/>
        </p:nvSpPr>
        <p:spPr>
          <a:xfrm flipV="1">
            <a:off x="2895480" y="4419360"/>
            <a:ext cx="762120" cy="60948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12"/>
          <p:cNvSpPr/>
          <p:nvPr/>
        </p:nvSpPr>
        <p:spPr>
          <a:xfrm flipH="1" flipV="1">
            <a:off x="5334120" y="4419360"/>
            <a:ext cx="838080" cy="60948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5481"/>
                </a:solidFill>
                <a:latin typeface="Tahoma"/>
              </a:rPr>
              <a:t>Наши исследов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5481"/>
                </a:solidFill>
                <a:latin typeface="Tahoma"/>
              </a:rPr>
              <a:t>    </a:t>
            </a: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Мы, группа «Зоологи» провели опрос среди учащихся 3-4 классов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    </a:t>
            </a: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Ребята отвечали на вопросы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2b5481"/>
                </a:solidFill>
                <a:latin typeface="Arial"/>
                <a:ea typeface="Pilgi2"/>
              </a:rPr>
              <a:t>•</a:t>
            </a: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Напиши названия трёх редких животных Приморского кра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2b5481"/>
                </a:solidFill>
                <a:latin typeface="Arial"/>
                <a:ea typeface="Pilgi2"/>
              </a:rPr>
              <a:t>•</a:t>
            </a: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Какое животное изображено на гербе нашего края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2b5481"/>
                </a:solidFill>
                <a:latin typeface="Arial"/>
                <a:ea typeface="Pilgi2"/>
              </a:rPr>
              <a:t>•</a:t>
            </a: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Что делают люди для сохранения редких животных Приморского края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2b5481"/>
                </a:solidFill>
                <a:latin typeface="Arial"/>
                <a:ea typeface="Pilgi2"/>
              </a:rPr>
              <a:t>•</a:t>
            </a: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2b5481"/>
                </a:solidFill>
                <a:latin typeface="Tahoma"/>
              </a:rPr>
              <a:t>Сколько заповедников в крае?</a:t>
            </a:r>
            <a:r>
              <a:rPr b="1" lang="ru-RU" sz="21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2b5481"/>
                </a:solidFill>
                <a:latin typeface="Tahoma"/>
              </a:rPr>
              <a:t>Результаты опрос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4419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На 1 вопрос правильно ответили - 38 учащих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На 2 вопрос правильно ответили - 42 учащих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На 3 вопрос правильно ответили -  26  учащих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На 4 вопрос правильно ответили - 32 учащих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Object 11"/>
          <p:cNvGraphicFramePr/>
          <p:nvPr/>
        </p:nvGraphicFramePr>
        <p:xfrm>
          <a:off x="1752480" y="1981080"/>
          <a:ext cx="6019920" cy="26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601992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5481"/>
                </a:solidFill>
                <a:latin typeface="Tahoma"/>
              </a:rPr>
              <a:t>Творческая мастерска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9" name="Picture 16" descr="007"/>
          <p:cNvPicPr/>
          <p:nvPr/>
        </p:nvPicPr>
        <p:blipFill>
          <a:blip r:embed="rId1"/>
          <a:stretch/>
        </p:blipFill>
        <p:spPr>
          <a:xfrm>
            <a:off x="2514600" y="2971800"/>
            <a:ext cx="189720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5481"/>
                </a:solidFill>
                <a:latin typeface="Tahoma"/>
              </a:rPr>
              <a:t>Наши рисун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1" name="Picture 8" descr="1 278"/>
          <p:cNvPicPr/>
          <p:nvPr/>
        </p:nvPicPr>
        <p:blipFill>
          <a:blip r:embed="rId1"/>
          <a:stretch/>
        </p:blipFill>
        <p:spPr>
          <a:xfrm>
            <a:off x="2971800" y="2590920"/>
            <a:ext cx="20160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5481"/>
                </a:solidFill>
                <a:latin typeface="Tahoma"/>
              </a:rPr>
              <a:t>Наши вывод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В ходе нашего исследования, мы узнали, что есть животные в Приморском крае, которые находятся на грани исчезновения. Это значит, что их мало, они могут погибнуть. Наше государство заботиться о таких животных: принимает законы, защищающие животных, создаёт заповедники, заказники.  Знакомит нас с редкими животными и учит жить в гармонии с природой- Красная книга Приморского края. В книгу занесены 283 вида редких и находящихся под угрозой исчезновения животных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b5481"/>
                </a:solidFill>
                <a:latin typeface="Tahoma"/>
              </a:rPr>
              <a:t>Хорово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Нор звериных, птичьего гнез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Разорять не будем НИКОГДА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Пусть птенцам и маленьким зверята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Хорошо живётся с нами рядом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                                            </a:t>
            </a:r>
            <a:r>
              <a:rPr b="1" lang="ru-RU" sz="1200" spc="-1" strike="noStrike">
                <a:solidFill>
                  <a:srgbClr val="2b5481"/>
                </a:solidFill>
                <a:latin typeface="Tahoma"/>
              </a:rPr>
              <a:t>В.Берест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7" descr="сканирование004"/>
          <p:cNvPicPr/>
          <p:nvPr/>
        </p:nvPicPr>
        <p:blipFill>
          <a:blip r:embed="rId1"/>
          <a:stretch/>
        </p:blipFill>
        <p:spPr>
          <a:xfrm>
            <a:off x="1219320" y="1981080"/>
            <a:ext cx="14731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5481"/>
                </a:solidFill>
                <a:latin typeface="Tahoma"/>
              </a:rPr>
              <a:t>Наше предположение о том, что «природа неисчерпаема», оказалось ошибочным. Животные – часть природы, поэтому надо защищать, охранять и бережно к ним относит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5481"/>
                </a:solidFill>
                <a:latin typeface="Tahoma"/>
              </a:rPr>
              <a:t>Зверь, трава, цветок и птица</a:t>
            </a:r>
            <a:br>
              <a:rPr sz="2000"/>
            </a:br>
            <a:r>
              <a:rPr b="1" lang="ru-RU" sz="2000" spc="-1" strike="noStrike">
                <a:solidFill>
                  <a:srgbClr val="2b5481"/>
                </a:solidFill>
                <a:latin typeface="Tahoma"/>
              </a:rPr>
              <a:t> Не всегда умеют защититься.</a:t>
            </a:r>
            <a:br>
              <a:rPr sz="2000"/>
            </a:br>
            <a:r>
              <a:rPr b="1" lang="ru-RU" sz="2000" spc="-1" strike="noStrike">
                <a:solidFill>
                  <a:srgbClr val="2b5481"/>
                </a:solidFill>
                <a:latin typeface="Tahoma"/>
              </a:rPr>
              <a:t>Если будут уничтожены они,</a:t>
            </a:r>
            <a:br>
              <a:rPr sz="2000"/>
            </a:br>
            <a:r>
              <a:rPr b="1" lang="ru-RU" sz="2000" spc="-1" strike="noStrike">
                <a:solidFill>
                  <a:srgbClr val="2b5481"/>
                </a:solidFill>
                <a:latin typeface="Tahoma"/>
              </a:rPr>
              <a:t>     На планете мы останемся од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сканирование009"/>
          <p:cNvPicPr/>
          <p:nvPr/>
        </p:nvPicPr>
        <p:blipFill>
          <a:blip r:embed="rId1"/>
          <a:stretch/>
        </p:blipFill>
        <p:spPr>
          <a:xfrm>
            <a:off x="1295280" y="457200"/>
            <a:ext cx="2006640" cy="1476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5410080" y="457200"/>
            <a:ext cx="174960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5481"/>
                </a:solidFill>
                <a:latin typeface="Tahoma"/>
              </a:rPr>
              <a:t>Это интересн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b5481"/>
                </a:solidFill>
                <a:latin typeface="Tahoma"/>
              </a:rPr>
              <a:t>         </a:t>
            </a:r>
            <a:r>
              <a:rPr b="1" lang="ru-RU" sz="1600" spc="-1" strike="noStrike">
                <a:solidFill>
                  <a:srgbClr val="2b5481"/>
                </a:solidFill>
                <a:latin typeface="Tahoma"/>
              </a:rPr>
              <a:t>ОХРАНА ПРИРОДЫ</a:t>
            </a:r>
            <a:r>
              <a:rPr b="0" lang="ru-RU" sz="1600" spc="-1" strike="noStrike">
                <a:solidFill>
                  <a:srgbClr val="2b5481"/>
                </a:solidFill>
                <a:latin typeface="Tahoma"/>
              </a:rPr>
              <a:t>, комплекс мер по сохранению, рациональному использованию и восстановлению природных ресурсов Земли, в том числе видового разнообразия флоры и фауны, богатства недр, чистоты вод и атмосферы. Опасность необратимых изменений природной среды в отдельных регионах Земли стала реальной из-за возросших масштабов хозяйственной деятельности человека. К 70-м гг. 20 века  исчезло свыше 250 видов и подвидов позвоночных животных. С начала 80-х гг. в среднем 1 вид (или подвид) животных исчезал ежедневно, а вид растений — еженедельно (под угрозой исчезновения находятся св. 20 тыс. видов). Около 1000 видов птиц и млекопитающих (в основном обитатели тропических лесов, сводимых со скоростью десятков га в минуту) находятся под угрозой вымирания. Ежегодно сжигается около 1 млрд. т условного топлива, выбрасываются в атмосферу сотни млн. тонн оксидов азота, серы, углерода (часть из них возвращается в виде кислотных дождей), сажи, золы и пыли. Почвы и воды загрязняются промышленными и бытовыми стоками (сотни млрд. тонн в год), нефтепродуктами (несколько млн. т), минеральными удобрениями (около сотни млн. т) и пестицидами, тяжелыми металлами (ртуть, свинец и др.), радиоактивными отходам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2b5481"/>
                </a:solidFill>
                <a:latin typeface="Tahoma"/>
              </a:rPr>
              <a:t>                  </a:t>
            </a:r>
            <a:r>
              <a:rPr b="1" lang="ru-RU" sz="4800" spc="-1" strike="noStrike">
                <a:solidFill>
                  <a:srgbClr val="2b5481"/>
                </a:solidFill>
                <a:latin typeface="Tahoma"/>
              </a:rPr>
              <a:t>Цель:</a:t>
            </a: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2b5481"/>
                </a:solidFill>
                <a:latin typeface="Arial"/>
                <a:ea typeface="Pilgi2"/>
              </a:rPr>
              <a:t>•</a:t>
            </a:r>
            <a:r>
              <a:rPr b="0" lang="ru-RU" sz="44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2b5481"/>
                </a:solidFill>
                <a:latin typeface="Tahoma"/>
              </a:rPr>
              <a:t>ознакомление и расширение </a:t>
            </a:r>
            <a:br>
              <a:rPr sz="3200"/>
            </a:br>
            <a:r>
              <a:rPr b="1" lang="ru-RU" sz="3200" spc="-1" strike="noStrike">
                <a:solidFill>
                  <a:srgbClr val="2b5481"/>
                </a:solidFill>
                <a:latin typeface="Tahoma"/>
              </a:rPr>
              <a:t>    знаний о редких животных</a:t>
            </a:r>
            <a:br>
              <a:rPr sz="3200"/>
            </a:br>
            <a:r>
              <a:rPr b="1" lang="ru-RU" sz="3200" spc="-1" strike="noStrike">
                <a:solidFill>
                  <a:srgbClr val="2b5481"/>
                </a:solidFill>
                <a:latin typeface="Tahoma"/>
              </a:rPr>
              <a:t>     Приморского кра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              </a:t>
            </a:r>
            <a:br>
              <a:rPr sz="4800"/>
            </a:b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              </a:t>
            </a:r>
            <a:r>
              <a:rPr b="1" lang="ru-RU" sz="4800" spc="-1" strike="noStrike">
                <a:solidFill>
                  <a:srgbClr val="2b5481"/>
                </a:solidFill>
                <a:latin typeface="Tahoma"/>
              </a:rPr>
              <a:t>Задачи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2b5481"/>
                </a:solidFill>
                <a:latin typeface="Tahoma"/>
              </a:rPr>
              <a:t>   </a:t>
            </a:r>
            <a:r>
              <a:rPr b="1" lang="en-US" sz="3000" spc="-1" strike="noStrike">
                <a:solidFill>
                  <a:srgbClr val="2b5481"/>
                </a:solidFill>
                <a:latin typeface="Arial"/>
                <a:ea typeface="Pilgi2"/>
              </a:rPr>
              <a:t>•</a:t>
            </a:r>
            <a:r>
              <a:rPr b="1" lang="ru-RU" sz="3000" spc="-1" strike="noStrike">
                <a:solidFill>
                  <a:srgbClr val="2b5481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узнать и расширить знания о </a:t>
            </a:r>
            <a:br>
              <a:rPr sz="3000"/>
            </a:b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    редких животных Приморского </a:t>
            </a:r>
            <a:br>
              <a:rPr sz="3000"/>
            </a:b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    края</a:t>
            </a:r>
            <a:br>
              <a:rPr sz="3000"/>
            </a:b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  </a:t>
            </a:r>
            <a:r>
              <a:rPr b="1" lang="en-US" sz="3000" spc="-1" strike="noStrike">
                <a:solidFill>
                  <a:srgbClr val="2b5481"/>
                </a:solidFill>
                <a:latin typeface="Arial"/>
                <a:ea typeface="Pilgi2"/>
              </a:rPr>
              <a:t>•</a:t>
            </a: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определить причины </a:t>
            </a:r>
            <a:br>
              <a:rPr sz="3000"/>
            </a:b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    исчезновения животных и меры</a:t>
            </a:r>
            <a:br>
              <a:rPr sz="3000"/>
            </a:b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    их защиты</a:t>
            </a:r>
            <a:br>
              <a:rPr sz="3000"/>
            </a:b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  </a:t>
            </a:r>
            <a:r>
              <a:rPr b="1" lang="en-US" sz="3000" spc="-1" strike="noStrike">
                <a:solidFill>
                  <a:srgbClr val="2b5481"/>
                </a:solidFill>
                <a:latin typeface="Arial"/>
                <a:ea typeface="Pilgi2"/>
              </a:rPr>
              <a:t>•</a:t>
            </a:r>
            <a:r>
              <a:rPr b="1" lang="ru-RU" sz="3000" spc="-1" strike="noStrike">
                <a:solidFill>
                  <a:srgbClr val="2b5481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привить любовь к природе</a:t>
            </a:r>
            <a:br>
              <a:rPr sz="3000"/>
            </a:b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  </a:t>
            </a:r>
            <a:r>
              <a:rPr b="1" lang="en-US" sz="3000" spc="-1" strike="noStrike">
                <a:solidFill>
                  <a:srgbClr val="2b5481"/>
                </a:solidFill>
                <a:latin typeface="Arial"/>
                <a:ea typeface="Pilgi2"/>
              </a:rPr>
              <a:t>•</a:t>
            </a:r>
            <a:r>
              <a:rPr b="1" lang="ru-RU" sz="3000" spc="-1" strike="noStrike">
                <a:solidFill>
                  <a:srgbClr val="2b5481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воспитать бережное отношение к </a:t>
            </a:r>
            <a:br>
              <a:rPr sz="3000"/>
            </a:b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    животным</a:t>
            </a:r>
            <a:endParaRPr b="0" lang="en-US" sz="3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1" lang="ru-RU" sz="4000" spc="-1" strike="noStrike">
                <a:solidFill>
                  <a:srgbClr val="2b5481"/>
                </a:solidFill>
                <a:latin typeface="Tahoma"/>
              </a:rPr>
              <a:t>Пути решения задач: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2b5481"/>
                </a:solidFill>
                <a:latin typeface="Arial"/>
                <a:ea typeface="Pilgi2"/>
              </a:rPr>
              <a:t>•</a:t>
            </a: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изучить материалы из учебника и</a:t>
            </a:r>
            <a:br>
              <a:rPr sz="3000"/>
            </a:b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   дополнительную литературу</a:t>
            </a:r>
            <a:br>
              <a:rPr sz="3000"/>
            </a:b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2b5481"/>
                </a:solidFill>
                <a:latin typeface="Arial"/>
                <a:ea typeface="Pilgi2"/>
              </a:rPr>
              <a:t>•</a:t>
            </a: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провести опрос среди учащихся 3-4</a:t>
            </a:r>
            <a:br>
              <a:rPr sz="3000"/>
            </a:b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  классов</a:t>
            </a:r>
            <a:br>
              <a:rPr sz="3600"/>
            </a:br>
            <a:r>
              <a:rPr b="1" lang="ru-RU" sz="36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2b5481"/>
                </a:solidFill>
                <a:latin typeface="Arial"/>
                <a:ea typeface="Pilgi2"/>
              </a:rPr>
              <a:t>•</a:t>
            </a: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нарисовать экологические знаки и </a:t>
            </a:r>
            <a:br>
              <a:rPr sz="3000"/>
            </a:b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  рисунки редких животных </a:t>
            </a:r>
            <a:br>
              <a:rPr sz="3000"/>
            </a:br>
            <a:r>
              <a:rPr b="1" lang="ru-RU" sz="3000" spc="-1" strike="noStrike">
                <a:solidFill>
                  <a:srgbClr val="2b5481"/>
                </a:solidFill>
                <a:latin typeface="Tahoma"/>
              </a:rPr>
              <a:t>   Приморского края</a:t>
            </a: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endParaRPr b="0" lang="en-US" sz="3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5481"/>
                </a:solidFill>
                <a:latin typeface="Tahoma"/>
              </a:rPr>
              <a:t>Гипотеза</a:t>
            </a:r>
            <a:br>
              <a:rPr sz="4400"/>
            </a:br>
            <a:br>
              <a:rPr sz="2000"/>
            </a:br>
            <a:r>
              <a:rPr b="1" lang="ru-RU" sz="3600" spc="-1" strike="noStrike">
                <a:solidFill>
                  <a:srgbClr val="2b5481"/>
                </a:solidFill>
                <a:latin typeface="Tahoma"/>
              </a:rPr>
              <a:t>П</a:t>
            </a:r>
            <a:r>
              <a:rPr b="1" lang="ru-RU" sz="4000" spc="-1" strike="noStrike">
                <a:solidFill>
                  <a:srgbClr val="2b5481"/>
                </a:solidFill>
                <a:latin typeface="Tahoma"/>
              </a:rPr>
              <a:t>рирода неисчерпаем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5481"/>
                </a:solidFill>
                <a:latin typeface="Tahoma"/>
              </a:rPr>
              <a:t>Мы предполагаем, что природа неисчерпаема, сколько бы ни брать у неё, всё снова само собой восстанови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12" descr="024"/>
          <p:cNvPicPr/>
          <p:nvPr/>
        </p:nvPicPr>
        <p:blipFill>
          <a:blip r:embed="rId1"/>
          <a:stretch/>
        </p:blipFill>
        <p:spPr>
          <a:xfrm>
            <a:off x="1143000" y="2819520"/>
            <a:ext cx="156852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сканирование0003"/>
          <p:cNvPicPr/>
          <p:nvPr/>
        </p:nvPicPr>
        <p:blipFill>
          <a:blip r:embed="rId1"/>
          <a:stretch/>
        </p:blipFill>
        <p:spPr>
          <a:xfrm>
            <a:off x="838080" y="2133720"/>
            <a:ext cx="1511280" cy="1476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33720" y="380880"/>
            <a:ext cx="519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b5481"/>
                </a:solidFill>
                <a:latin typeface="Arial"/>
              </a:rPr>
              <a:t>Усач реликтов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719240" y="2329920"/>
            <a:ext cx="396396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Отряд Жесткокрыл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Семейство Усачи, или Дровосе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b5481"/>
                </a:solidFill>
                <a:latin typeface="Tahoma"/>
              </a:rPr>
              <a:t>Редкий вид, находящийся под угрозой исчезновения. Внесён в Красную книгу РФ. В настоящее время его численность на территории Приморского края критическая, этот вид может исчезнуть. Обитают жуки в хвойно-широколиственных и  широколиственных лесах. Они летают с июля по сентябрь, питаются вытекающим соком на стволах деревьев, откладывают яйца на кору деревьев. Заселяют липу амурскую, ясень маньчжурский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b5481"/>
                </a:solidFill>
                <a:latin typeface="Tahoma"/>
              </a:rPr>
              <a:t>Численность вида сильно сокращается из-за вырубки леса и лесных пожаров.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сканирование0006"/>
          <p:cNvPicPr/>
          <p:nvPr/>
        </p:nvPicPr>
        <p:blipFill>
          <a:blip r:embed="rId1"/>
          <a:stretch/>
        </p:blipFill>
        <p:spPr>
          <a:xfrm>
            <a:off x="1295280" y="2743200"/>
            <a:ext cx="1614600" cy="1476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905120" y="3808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b5481"/>
                </a:solidFill>
                <a:latin typeface="Arial"/>
              </a:rPr>
              <a:t>Утка-мандари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4097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Отряд Гусеобраз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Семейство Ути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b5481"/>
                </a:solidFill>
                <a:latin typeface="Tahoma"/>
              </a:rPr>
              <a:t>Редкий вид, внесён в Красную книгу РФ. Мандаринки населяют горно-таёжные реки, предпочтительно в смешанных  лесах. Начинают прилетать на места гнездовий в конце марта. Токование отмечается с середины апреля, а откладка яиц- с середины мая (кладка-7-14 яиц). Гнездятся в дуплах тополей. Отлёт к местам зимовок происходит в октябре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b5481"/>
                </a:solidFill>
                <a:latin typeface="Tahoma"/>
              </a:rPr>
              <a:t>Численность птицы уменьшается из-за вырубки леса, выжигания дуплистых деревьев и незаконного отстрела.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сканирование0007"/>
          <p:cNvPicPr/>
          <p:nvPr/>
        </p:nvPicPr>
        <p:blipFill>
          <a:blip r:embed="rId1"/>
          <a:stretch/>
        </p:blipFill>
        <p:spPr>
          <a:xfrm>
            <a:off x="1295280" y="2819520"/>
            <a:ext cx="1522440" cy="1476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1981080" y="45720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b5481"/>
                </a:solidFill>
                <a:latin typeface="Arial"/>
              </a:rPr>
              <a:t>Японский журавл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07120" y="2262240"/>
            <a:ext cx="330336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Отряд Журавлеобраз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Семейство Журавли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b5481"/>
                </a:solidFill>
                <a:latin typeface="Tahoma"/>
              </a:rPr>
              <a:t>Редкий вид журавлей, находящийся под угрозой исчезновения. Гнездится небольшими группами (отдельными парами) в бассейне реки Уссури. К месту гнездования журавль прилетает в апреле, а покидает его в октябре. Расстояние между гнездами- от одного до нескольких километров. Кладка состоит из 1-2 яиц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b5481"/>
                </a:solidFill>
                <a:latin typeface="Tahoma"/>
              </a:rPr>
              <a:t>Негативное влияние оказывает на жизнь пернатых оказывает уничтожение гнёзд (травяные пожары) и птиц (отстрел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сканирование0010"/>
          <p:cNvPicPr/>
          <p:nvPr/>
        </p:nvPicPr>
        <p:blipFill>
          <a:blip r:embed="rId1"/>
          <a:stretch/>
        </p:blipFill>
        <p:spPr>
          <a:xfrm>
            <a:off x="1447920" y="2819520"/>
            <a:ext cx="2361960" cy="2361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838080" y="380880"/>
            <a:ext cx="754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b5481"/>
                </a:solidFill>
                <a:latin typeface="Arial"/>
              </a:rPr>
              <a:t>Дальневосточный леопар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409720" y="182880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Отряд Хищ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Tahoma"/>
              </a:rPr>
              <a:t>Семейство Кошачь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b5481"/>
                </a:solidFill>
                <a:latin typeface="Tahoma"/>
              </a:rPr>
              <a:t>Редчайший, находящийся на грани исчезновения вид. Леопард обитает на юго-западе Приморского края. Питается он косулей, пятнистым оленем, барсуком, зайцем и енотовидной собакой. Детёнышей бывает у леопарда-2, редко-3. Они бывают рядом с матерью 12-15 месяцев, после чего становятся самостоятельными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b5481"/>
                </a:solidFill>
                <a:latin typeface="Tahoma"/>
              </a:rPr>
              <a:t>Основным фактором уменьшения количества этого животного -  браконьерская добыча, связанная с повышенным спросом на части тела, которые используются для тибетской медицины. Происходит смена местообитания, связанная с рубкой леса и пожарами.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авуч нач. школы</cp:lastModifiedBy>
  <dcterms:modified xsi:type="dcterms:W3CDTF">2013-09-28T03:53:3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