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D9D-F38A-4EE8-9F4B-615DF525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A4B-DCF1-42BE-8ABD-39D76B29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A98-2619-4D3E-A86F-FD8AC491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CC8-B2DF-41F8-B1E6-3C95BA67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831C-398E-41E7-AA39-CCB8444D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E96B-D441-4547-9D1C-3BB07788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EFCC-7BFE-44A1-BF4D-80684ECC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75D8-02F8-4557-BDB3-C048E7EE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C0B3-4BA4-4E89-8ACD-32990ED5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2BA0-CF35-4EEF-B717-FE7188D4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E7DF-6B7F-4A70-931B-5F019232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4B1-A10C-46D9-B5EF-C7C33D53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89E5-A5DA-46E9-986B-275BC41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BE6E-602E-44FF-89D0-38274587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4E1C-1E0F-4991-AB9C-015B88B6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D776-FFBA-45FF-9178-E507D264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C721-AB64-4625-9A3F-5C5FBA4D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8AA-D0E2-4DB6-82F8-6E3BE902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09D-C46E-46AE-8E23-2165B132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927-5691-4FDD-865B-F505DA21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C05-5E92-4C89-84A3-954E1E0B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AAC-A097-451C-AEFE-4595E25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C49-F855-4FC9-B8A0-DFB77E12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BDA-A18D-4F0B-B548-578A13E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8E7D-00DA-4FEB-893D-479201E12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D:\фоны и шаблоны\a454f3a7c5ac.jpg"/>
          <p:cNvPicPr/>
          <p:nvPr/>
        </p:nvPicPr>
        <p:blipFill>
          <a:blip r:embed="rId2"/>
          <a:srcRect l="0" t="0" r="90630" b="0"/>
          <a:stretch/>
        </p:blipFill>
        <p:spPr>
          <a:xfrm>
            <a:off x="0" y="0"/>
            <a:ext cx="8571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фоны и шаблоны\a454f3a7c5ac.jpg"/>
          <p:cNvPicPr/>
          <p:nvPr/>
        </p:nvPicPr>
        <p:blipFill>
          <a:blip r:embed="rId2"/>
          <a:srcRect l="0" t="0" r="90630" b="0"/>
          <a:stretch/>
        </p:blipFill>
        <p:spPr>
          <a:xfrm>
            <a:off x="0" y="0"/>
            <a:ext cx="8571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фоны и шаблоны\a454f3a7c5ac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B3A1-E0C0-4350-8EAC-B8C9AB50C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карственные раст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льской области п. Барс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71600" y="2857680"/>
            <a:ext cx="5072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ла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ица 2 класса Полынкина По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БУ «Барсуковская СО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. Е . Волко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Храповицкая Е . 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446640" y="285840"/>
            <a:ext cx="46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У Барсуковская СОШ им .Е. Вол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1500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ля приготовления чая 1 столовую ложку шиповника заливают стаканом кипятка. Кипятят 10 минут в закрытой посу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могает при просту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i.jpegд.jpeg"/>
          <p:cNvPicPr/>
          <p:nvPr/>
        </p:nvPicPr>
        <p:blipFill>
          <a:blip r:embed="rId1"/>
          <a:stretch/>
        </p:blipFill>
        <p:spPr>
          <a:xfrm>
            <a:off x="5072040" y="2500200"/>
            <a:ext cx="350064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с.jpeg"/>
          <p:cNvPicPr/>
          <p:nvPr/>
        </p:nvPicPr>
        <p:blipFill>
          <a:blip r:embed="rId1"/>
          <a:stretch/>
        </p:blipFill>
        <p:spPr>
          <a:xfrm>
            <a:off x="785880" y="2714760"/>
            <a:ext cx="4809960" cy="4143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796120" y="785880"/>
            <a:ext cx="33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ынь горь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264320" y="20718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для лечения желудка , кишечника , печ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5643720" y="32148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ькая травка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ивоту поправ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ама души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тёт чи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 принимаете лекарствен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ения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Овал 3"/>
          <p:cNvSpPr/>
          <p:nvPr/>
        </p:nvSpPr>
        <p:spPr>
          <a:xfrm>
            <a:off x="2643120" y="1785960"/>
            <a:ext cx="3500640" cy="3071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4"/>
          <p:cNvSpPr/>
          <p:nvPr/>
        </p:nvSpPr>
        <p:spPr>
          <a:xfrm>
            <a:off x="3429000" y="2357280"/>
            <a:ext cx="2000160" cy="19288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5"/>
          <p:cNvSpPr/>
          <p:nvPr/>
        </p:nvSpPr>
        <p:spPr>
          <a:xfrm>
            <a:off x="3929040" y="2857680"/>
            <a:ext cx="914400" cy="9144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Прямая со стрелкой 7"/>
          <p:cNvCxnSpPr/>
          <p:nvPr/>
        </p:nvCxnSpPr>
        <p:spPr>
          <a:xfrm flipV="1">
            <a:off x="5500440" y="1856520"/>
            <a:ext cx="242964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Прямая со стрелкой 12"/>
          <p:cNvCxnSpPr/>
          <p:nvPr/>
        </p:nvCxnSpPr>
        <p:spPr>
          <a:xfrm>
            <a:off x="4643280" y="2571480"/>
            <a:ext cx="357264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Прямая со стрелкой 14"/>
          <p:cNvCxnSpPr/>
          <p:nvPr/>
        </p:nvCxnSpPr>
        <p:spPr>
          <a:xfrm>
            <a:off x="4429080" y="3428640"/>
            <a:ext cx="292968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TextBox 8"/>
          <p:cNvSpPr/>
          <p:nvPr/>
        </p:nvSpPr>
        <p:spPr>
          <a:xfrm>
            <a:off x="6143760" y="164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6500880" y="25718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4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6786720" y="41432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 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1234440" y="5786280"/>
            <a:ext cx="747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нкетировании принимали участие 19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ов 2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каких лекарственных растений вы считаете наиболее эффектив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285840"/>
          <a:ext cx="8229600" cy="724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арственны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выб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МА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ОЭ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ЛФ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РОЖ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приним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М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приним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ПОВ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ЯРЫШ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ПЧАТЫЙ Л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ЕМ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ЕРО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5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а.jpeg"/>
          <p:cNvPicPr/>
          <p:nvPr/>
        </p:nvPicPr>
        <p:blipFill>
          <a:blip r:embed="rId1"/>
          <a:stretch/>
        </p:blipFill>
        <p:spPr>
          <a:xfrm>
            <a:off x="857160" y="2214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са.jpeg"/>
          <p:cNvPicPr/>
          <p:nvPr/>
        </p:nvPicPr>
        <p:blipFill>
          <a:blip r:embed="rId2"/>
          <a:stretch/>
        </p:blipFill>
        <p:spPr>
          <a:xfrm>
            <a:off x="1285920" y="5143680"/>
            <a:ext cx="1828800" cy="14284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i.jpeg"/>
          <p:cNvPicPr/>
          <p:nvPr/>
        </p:nvPicPr>
        <p:blipFill>
          <a:blip r:embed="rId3"/>
          <a:stretch/>
        </p:blipFill>
        <p:spPr>
          <a:xfrm>
            <a:off x="873000" y="0"/>
            <a:ext cx="204804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я.jpeg"/>
          <p:cNvPicPr/>
          <p:nvPr/>
        </p:nvPicPr>
        <p:blipFill>
          <a:blip r:embed="rId4"/>
          <a:stretch/>
        </p:blipFill>
        <p:spPr>
          <a:xfrm>
            <a:off x="7020000" y="0"/>
            <a:ext cx="212400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и.jpeg"/>
          <p:cNvPicPr/>
          <p:nvPr/>
        </p:nvPicPr>
        <p:blipFill>
          <a:blip r:embed="rId5"/>
          <a:stretch/>
        </p:blipFill>
        <p:spPr>
          <a:xfrm>
            <a:off x="6991200" y="528624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ь.jpg"/>
          <p:cNvPicPr/>
          <p:nvPr/>
        </p:nvPicPr>
        <p:blipFill>
          <a:blip r:embed="rId6"/>
          <a:stretch/>
        </p:blipFill>
        <p:spPr>
          <a:xfrm>
            <a:off x="4071960" y="0"/>
            <a:ext cx="250020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ж.jpg"/>
          <p:cNvPicPr/>
          <p:nvPr/>
        </p:nvPicPr>
        <p:blipFill>
          <a:blip r:embed="rId7"/>
          <a:stretch/>
        </p:blipFill>
        <p:spPr>
          <a:xfrm>
            <a:off x="4000680" y="3714840"/>
            <a:ext cx="2566800" cy="3009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ъ.jpeg"/>
          <p:cNvPicPr/>
          <p:nvPr/>
        </p:nvPicPr>
        <p:blipFill>
          <a:blip r:embed="rId8"/>
          <a:stretch/>
        </p:blipFill>
        <p:spPr>
          <a:xfrm>
            <a:off x="7238880" y="23572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п.jpeg"/>
          <p:cNvPicPr/>
          <p:nvPr/>
        </p:nvPicPr>
        <p:blipFill>
          <a:blip r:embed="rId1"/>
          <a:stretch/>
        </p:blipFill>
        <p:spPr>
          <a:xfrm>
            <a:off x="1285920" y="428760"/>
            <a:ext cx="4786200" cy="37144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2"/>
          <p:cNvSpPr/>
          <p:nvPr/>
        </p:nvSpPr>
        <p:spPr>
          <a:xfrm>
            <a:off x="5715000" y="392904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 Толсто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  летом  каждый  го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 улья  пчёлы  носят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ё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й,  душистый,  сладкий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 для  вас  ли  он,  ребятк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 нём лекарства,  витами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  простуды  и  анг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Ш ПРОВЕРЕННЫЙ РЕЦЕП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57160" y="1143000"/>
          <a:ext cx="8143920" cy="571176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13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НИЯ К ПРИМЕН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8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КАШ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К РЕПЧАТЫЙ МЕЛКО НАРЕЗАТЬ И ЗАСЫПАТЬ 3 СТ . ЛОЖКАМИ САХАРА , НАСТОЯТЬ И ПИТЬ ПО 3 СТ. ЛОЖКЕ 3 РАЗА В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КАШ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ОЙКА МЕДА С АЛО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УКРЕПЛЕНИЯ ИММУНИТ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ОЙКА ЛИМОНА И М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4643280" y="2000160"/>
            <a:ext cx="41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ас в доме и в классе много красивых цве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екоторые из них растения – целите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7" descr="DSC07038.JPG"/>
          <p:cNvPicPr/>
          <p:nvPr/>
        </p:nvPicPr>
        <p:blipFill>
          <a:blip r:embed="rId2"/>
          <a:stretch/>
        </p:blipFill>
        <p:spPr>
          <a:xfrm>
            <a:off x="1257480" y="1609560"/>
            <a:ext cx="3362040" cy="4411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DSC07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857160" y="714240"/>
            <a:ext cx="95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 с большим интересом слушали мен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DSC07040.JPG"/>
          <p:cNvPicPr/>
          <p:nvPr/>
        </p:nvPicPr>
        <p:blipFill>
          <a:blip r:embed="rId1"/>
          <a:stretch/>
        </p:blipFill>
        <p:spPr>
          <a:xfrm>
            <a:off x="2643120" y="1285920"/>
            <a:ext cx="4357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ие лекарственные травы , которые растут в нашей местности можно встретить в апте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DSC07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сбора и обработки лекарственных расте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НАЗЕМНЫЕ ЧАСТИ РАСТЕНИЙ –          заготавливают вручную с помощью нож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ЦВЕТКИ –в начале цве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стья- когда они полностью       развернул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ДЫ И СЕМЕНА – выборочно , по мере  созре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НИ – осенью ,когда увядает наземная часть рас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карственные растения эффективны при лечении многих болез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Из лекарственных трав  делают лекар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Лекарственные травы нельзя применять без контро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ногие лекарственные растения нуждаются в охране , поэтому их нельзя рвать без надоб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i.jpegо.jpeg"/>
          <p:cNvPicPr/>
          <p:nvPr/>
        </p:nvPicPr>
        <p:blipFill>
          <a:blip r:embed="rId1"/>
          <a:stretch/>
        </p:blipFill>
        <p:spPr>
          <a:xfrm>
            <a:off x="857160" y="142920"/>
            <a:ext cx="828684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1000080" y="50720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жды я ходила по лесу близ п. Барсуки и рассматривала все растения ,  которые мне попадались .Я знала ,что часть растений лекарственные травы и решил об этом узнать больше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лекарственные растения своей ме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льская обл . п. Барс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карственные растения моей ме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знать о применении лекарственных растений , то можно лучше и дешевле вылечить некоторые болезни и укрепить иммунит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u.jpeg"/>
          <p:cNvPicPr/>
          <p:nvPr/>
        </p:nvPicPr>
        <p:blipFill>
          <a:blip r:embed="rId1"/>
          <a:stretch/>
        </p:blipFill>
        <p:spPr>
          <a:xfrm>
            <a:off x="500040" y="642960"/>
            <a:ext cx="3929040" cy="5143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8320" y="642600"/>
            <a:ext cx="40384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целебные раст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ем без исклю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только не лениться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только науч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ить в лесу растения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пригодны для лечен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б.jpeg"/>
          <p:cNvPicPr/>
          <p:nvPr/>
        </p:nvPicPr>
        <p:blipFill>
          <a:blip r:embed="rId1"/>
          <a:stretch/>
        </p:blipFill>
        <p:spPr>
          <a:xfrm>
            <a:off x="857160" y="2000160"/>
            <a:ext cx="4214880" cy="4857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506600" y="64296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орож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306040" y="2071800"/>
            <a:ext cx="398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самых древ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арственных раст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ья его препя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течению . Заживл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т застарелые 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286000" y="214200"/>
            <a:ext cx="46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за листик - подорожник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ная трав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лечиться ею можно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ет детвора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друг неосторож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чик ты поранил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знает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ик мож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ь на ран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успеешь даже охну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пальчик зажив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и, кстати, подорожни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ного где растё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лянке, в огород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дороги там и тут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-то его люд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рожником зову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6794280" y="60721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 .Воро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ипов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ч.jpeg"/>
          <p:cNvPicPr/>
          <p:nvPr/>
        </p:nvPicPr>
        <p:blipFill>
          <a:blip r:embed="rId1"/>
          <a:stretch/>
        </p:blipFill>
        <p:spPr>
          <a:xfrm>
            <a:off x="1571760" y="1214280"/>
            <a:ext cx="5572080" cy="33624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236600" y="5214960"/>
            <a:ext cx="718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олепный шиповник – это кустарник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кая роза , кладовая витами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6:40:25Z</dcterms:created>
  <dc:creator>Helen</dc:creator>
  <dc:description/>
  <dc:language>en-US</dc:language>
  <cp:lastModifiedBy>User</cp:lastModifiedBy>
  <dcterms:modified xsi:type="dcterms:W3CDTF">2013-10-10T15:00:11Z</dcterms:modified>
  <cp:revision>26</cp:revision>
  <dc:subject/>
  <dc:title>Слайд 1</dc:title>
</cp:coreProperties>
</file>