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F9F-F549-43B3-AA80-1EF15205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D9D-81D9-4A74-AEE3-95726AC1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0A4-1F04-4A6F-A8C8-60FEF874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0DC-3D35-43A8-AC9F-58E13F51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25F-7717-410C-9B4D-C0F0F832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CC4-AC2A-4E95-B7C2-43B9336A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985-10D4-40C0-BA3E-299986AD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53E-65C0-41FC-9053-E803CF6E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6D0-F1D3-4480-88C5-07CDB5B0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A3C-8F99-45E6-BA5E-9A1CDF70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6E0-345D-4F86-BD47-62695C21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AB9-3B93-4A71-9809-77CD62A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8134-2A34-4B2C-BC45-D0D4F477D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98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угался Скворец Сыча, улетел. Ничего не натаскал Сыч, стал так в дупле жить: на своих перышках. Год живет, другой живет - крошится старый дуб, шире дуп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388944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414972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третий год узнала про дупло Белка. Прискакала. Видит - дуб, в дубу - дырка с собачью голову. Спрашивает: - Терем-теремок, кто в тереме живет? - Жил Дятел пестрый - нос вострый, жил Скворец - первый в роще певец, теперь я живу - Сыч. Попадешь мне в когти - не хнычь. А ты кт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Я Белка - по веткам скакалка, по дуплам сиделка. У меня зубы долги, востры, как иголки. Ступай из терема вон, пока цел! Испугался Сыч Белки, улет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03640" cy="322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21260" t="0" r="0" b="0"/>
          <a:stretch/>
        </p:blipFill>
        <p:spPr>
          <a:xfrm>
            <a:off x="4356000" y="260280"/>
            <a:ext cx="45770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284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таскала Белка моху, стала в дупле жить. Год живет, другой живет - крошится старый дуб, шире дуп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42524" t="0" r="0" b="26500"/>
          <a:stretch/>
        </p:blipFill>
        <p:spPr>
          <a:xfrm>
            <a:off x="3995640" y="333360"/>
            <a:ext cx="46706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третий год узнала про то дупло Куница. Прибежала, видит - дуб, в дубу - дыра с человечью голову. Спрашивает: - Терем-теремок, кто в тереме живет? - Жил Дятел пестрый - нос вострый, жил Скворец - первый в роще певец, жил Сыч - попадешь ему в когти - не хнычь, теперь я живу - Белка - по веткам скакалка, по дуплам сиделка. А ты кто? - Я Куница - всех малых зверей убийца. Я страшней Хоря, со мной не спорь зря. Ступай-ка из терема вон, пока цел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26500"/>
          <a:stretch/>
        </p:blipFill>
        <p:spPr>
          <a:xfrm>
            <a:off x="1187280" y="26028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6021000"/>
            <a:ext cx="727236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чего не натаскала Куница, стала так в дупле жить: на своей шерстке. Год живет, другой живет - крошится старый дуб, шире дупл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2738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5805000"/>
            <a:ext cx="85694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третий год узнали про то дупло пчелы. Прилетели. Видят - дуб, в дубу - дыра с лошадиную голову. Кружат, жужжат, спрашивают: - Терем-теремок, кто в тереме жив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88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92720" y="907560"/>
            <a:ext cx="38512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Жил Дятел пестрый - нос вострый, жил Скворец - первый в роще певец, жил Сыч - попадешь ему в когти - не хнычь, жила Белка - по веткам скакалка, по дуплам сиделка, теперь я живу - Куница - всех малых зверей убийца. А вы кто? - Мы пчелиный рой - друг за дружку горой. Кружим, жужжим, жалим, грозим большим и малым. Ступай-ка из терема вон, пока цела! Испугалась Куница пчел, убеж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98456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404280"/>
            <a:ext cx="3538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5138640" cy="5661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1238400"/>
            <a:ext cx="366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третий год узнал про то дупло Медведь. Пришел. Видит - дуб, в дубу - дырища с целое окнище. Спрашивает: - Терем-теремок, кто в тереме жив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32360" y="170028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ез на дуб, просунул голову в дупло да как нажал! Дуб-то пополам и расселся, а из него - считай-ка, сколько лет копилось: шерсти, да сена, да воску, да моху, да пуху, да перьев, да пыли - да пх-х-х!.. Теремка-то и не ст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0464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5877000"/>
            <a:ext cx="813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ет новый дубок. Будет зверям где 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90544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10499"/>
          <a:stretch/>
        </p:blipFill>
        <p:spPr>
          <a:xfrm>
            <a:off x="0" y="189000"/>
            <a:ext cx="8964720" cy="623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5120" y="352440"/>
            <a:ext cx="70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ял в лесу дуб. Толстый-претолстый. Старый-престар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35640" y="259920"/>
            <a:ext cx="345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етел Дятел пестрый, шапка красная, нос востры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По стволу скок-поскок, носом стук-постук - выстукал, выслушал и давай дырку долбить. Долбил-долбил, долбил-долбил - выдолбил глубокое дуп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3311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49323" t="0" r="0" b="0"/>
          <a:stretch/>
        </p:blipFill>
        <p:spPr>
          <a:xfrm>
            <a:off x="61128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29801"/>
          <a:stretch/>
        </p:blipFill>
        <p:spPr>
          <a:xfrm>
            <a:off x="900000" y="0"/>
            <a:ext cx="7201080" cy="6021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2564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о в нем пожил, детей вывел и улет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777440" cy="583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9480" y="6111720"/>
            <a:ext cx="74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овала зима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6092640"/>
            <a:ext cx="78598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ять лето приш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6134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знал про то дупло Скворец. Прилетел. Видит - дуб, в дубу - дырка. Чем Скворцу не терем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43194" t="0" r="0" b="0"/>
          <a:stretch/>
        </p:blipFill>
        <p:spPr>
          <a:xfrm>
            <a:off x="2050920" y="189000"/>
            <a:ext cx="52228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5516640"/>
            <a:ext cx="7715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таскал Скворец в дупло сена да соломы, стал в дупле жить, детей выводить. Год живет, другой живет - сохнет старый дуб, крошится: больше дупло - шире ды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90588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третий год узнал про то дупло желтоглазый Сыч. Прилетел. Видит - дуб, в дубу - дырка с кошачью голову. Спрашивает: - Терем-теремок, кто в тереме живет? - Жил Дятел пестрый - нос вострый, теперь я живу - Скворец, первый в роще певец. А ты кто? - Я Сыч. Попадешь мне в когти - не хнычь. Ночью прилечу - цоп! - и проглочу. Ступай-ка из терема вон, пока цел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344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6T10:26:21Z</dcterms:created>
  <dc:creator>ooo</dc:creator>
  <dc:description/>
  <dc:language>en-US</dc:language>
  <cp:lastModifiedBy>ooo</cp:lastModifiedBy>
  <dcterms:modified xsi:type="dcterms:W3CDTF">2013-06-16T12:26:55Z</dcterms:modified>
  <cp:revision>10</cp:revision>
  <dc:subject/>
  <dc:title>Слайд 1</dc:title>
</cp:coreProperties>
</file>