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8479-5E35-4706-8BD9-23D1301D7F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0C1-F857-4E14-9312-515B6D9CF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6409-D913-4675-BBA1-C4D15DA1E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B15-A5D0-4D0B-9003-42AE4023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674-BD46-4E38-AFAE-67AA893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B9E-7463-4590-B430-DBC01ADE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0E8-3844-472B-ABDA-5969FBF5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5891-0103-4845-9574-994FC58F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ACD9-F33E-401F-9F3E-61E184D0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6C51-227E-4E20-B253-0276606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3DD2-DF3C-434C-A300-60C6AAA4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0EE6-382D-4F4B-BC09-2B25440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8FD9-6DEA-49DC-AC77-E43E9B1B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C1F8-0E60-4EAE-AFC1-231CF6D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DFE-8D2B-4E2C-94A8-704E73BD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D48-69B5-4181-834D-A13D006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36ED-3B83-4914-A743-C819FAA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208A-E0AF-44DB-AE72-AC0A1571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40E-515F-40DC-9590-13BC0657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E146-7CE2-47AD-9C92-3A27EED7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2C1-83D8-4FFE-8B6B-B42B80B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B72-54D9-4456-83F7-EF268F50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6F6-71C0-440F-BD61-AAF686AE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90E-8B8D-495C-B1A1-F7163382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0A3-6396-4D80-B3E0-3EF7F95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A59-4D09-4479-B877-C198114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D5B-BBE0-46FF-BBD8-29A7D840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FF1-C65B-4FA9-9E69-18FA7D4A0A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7CC8-62ED-4B68-BC4C-8108BB2CF2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73;&#1080;&#1079;&#1085;&#1077;&#1089;&#1084;&#1077;&#1085;-5.ppt#5. &#1087;&#1088;&#1080;&#1084;&#1077;&#1088;&#1099;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ED5-8212-4959-B740-58B6DA11307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0C7-17DD-4BD6-937A-848CA14079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ff9966"/>
                </a:solidFill>
                <a:latin typeface="AGLettericaCondensedLight"/>
              </a:rPr>
              <a:t>Математик- </a:t>
            </a:r>
            <a:br>
              <a:rPr sz="6100"/>
            </a:br>
            <a:r>
              <a:rPr b="1" i="1" lang="ru-RU" sz="6100" spc="-1" strike="noStrike">
                <a:solidFill>
                  <a:srgbClr val="ff9966"/>
                </a:solidFill>
                <a:latin typeface="AGLettericaCondensedLight"/>
              </a:rPr>
              <a:t>         бизнесмен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99"/>
                </a:solidFill>
                <a:latin typeface="Times New Roman"/>
              </a:rPr>
              <a:t>Игра для учащихс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на смекал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 Шла старушка в Москву, а навстречу ей три старика. Сколько человек шло в Москву?                                                                               10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. В одной семье у каждого из трех братьев есть сестра. Сколько детей в семье?                                                                                          10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. Есть две сковородки. На каждой помещается один блин. Надо пожарить три блина с двух сторон. Каждая сторона блина жар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 мин. За какое наименьшее время можно это сделать?              20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  Пять  в  квадрате    равно      двадцатипяти, а   ч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вен  угол              в квадрате?                                                     30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.Имеются два пустых сосуда  9 л и 4  л. Как с их помощью набрать из речки ровно 3 л во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0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7700               20р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50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0           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80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6            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 дроби и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348240" y="3351240"/>
                <a:ext cx="4860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Rectangle 6"/>
          <p:cNvSpPr/>
          <p:nvPr/>
        </p:nvSpPr>
        <p:spPr>
          <a:xfrm>
            <a:off x="4385520" y="3245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385520" y="3245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9"/>
              <p:cNvSpPr txBox="1"/>
              <p:nvPr/>
            </p:nvSpPr>
            <p:spPr>
              <a:xfrm>
                <a:off x="0" y="-381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8"/>
              <p:cNvSpPr txBox="1"/>
              <p:nvPr/>
            </p:nvSpPr>
            <p:spPr>
              <a:xfrm>
                <a:off x="3419640" y="2133720"/>
                <a:ext cx="1443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7"/>
              <p:cNvSpPr txBox="1"/>
              <p:nvPr/>
            </p:nvSpPr>
            <p:spPr>
              <a:xfrm>
                <a:off x="5580000" y="213372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6"/>
              <p:cNvSpPr txBox="1"/>
              <p:nvPr/>
            </p:nvSpPr>
            <p:spPr>
              <a:xfrm>
                <a:off x="2771640" y="270828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3348000" y="270828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4"/>
              <p:cNvSpPr txBox="1"/>
              <p:nvPr/>
            </p:nvSpPr>
            <p:spPr>
              <a:xfrm>
                <a:off x="3924360" y="2637000"/>
                <a:ext cx="3524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5076720" y="2708280"/>
                <a:ext cx="200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Rectangle 30"/>
          <p:cNvSpPr/>
          <p:nvPr/>
        </p:nvSpPr>
        <p:spPr>
          <a:xfrm>
            <a:off x="664200" y="2204640"/>
            <a:ext cx="28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.Первый за час  выполн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3719520" y="2204640"/>
            <a:ext cx="19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, а второй -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3"/>
          <p:cNvSpPr/>
          <p:nvPr/>
        </p:nvSpPr>
        <p:spPr>
          <a:xfrm>
            <a:off x="975600" y="2492280"/>
            <a:ext cx="18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месте за 1 час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2989800" y="270792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3566520" y="2781000"/>
            <a:ext cx="4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4502880" y="270792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539640" y="3408120"/>
            <a:ext cx="756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6 кг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20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42 туриста составляют 3 части, тогда всего туристов бы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2 : 3 ∙ 7 = 98 человек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30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начала отрезал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0 : 5  ∙ 2 =48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лось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120 – 48 = 72 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ова отреза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72 : 4  ∙ 3 = 54 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ток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0 – 48 – 54 = 18м                        50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 Всего частей   2+ 3+5 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дну часть приходится 10кг : 10 = 1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 на 5 частей золота приходится  1кг  ∙ 5 = 5кг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50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8"/>
          <p:cNvSpPr/>
          <p:nvPr/>
        </p:nvSpPr>
        <p:spPr>
          <a:xfrm>
            <a:off x="6086880" y="2637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 на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 + 4)∙3 =27 км                    5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4км/ч + 5км/ч = 9км/ч, 18км:9км/ч=2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16+3=19(км/ч) –скорость по т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 ∙2=38(км)                                 6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1889                2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1081               2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25    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3417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99    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ная 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А(4)                             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(7)                              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1042920" y="4221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5292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3616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169236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241128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241128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241128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241128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3132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313200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60020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1528920" y="373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845080" y="378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817236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781416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1042920" y="49417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104292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1"/>
          <p:cNvSpPr/>
          <p:nvPr/>
        </p:nvSpPr>
        <p:spPr>
          <a:xfrm>
            <a:off x="529272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2"/>
          <p:cNvSpPr/>
          <p:nvPr/>
        </p:nvSpPr>
        <p:spPr>
          <a:xfrm>
            <a:off x="1692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2411280" y="4941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4"/>
          <p:cNvSpPr/>
          <p:nvPr/>
        </p:nvSpPr>
        <p:spPr>
          <a:xfrm>
            <a:off x="3132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385128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4572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0509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9"/>
          <p:cNvSpPr/>
          <p:nvPr/>
        </p:nvSpPr>
        <p:spPr>
          <a:xfrm>
            <a:off x="1332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0"/>
          <p:cNvSpPr/>
          <p:nvPr/>
        </p:nvSpPr>
        <p:spPr>
          <a:xfrm>
            <a:off x="277164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1"/>
          <p:cNvSpPr/>
          <p:nvPr/>
        </p:nvSpPr>
        <p:spPr>
          <a:xfrm>
            <a:off x="95292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520272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1405080" y="49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2845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6012000" y="4941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7"/>
          <p:cNvSpPr/>
          <p:nvPr/>
        </p:nvSpPr>
        <p:spPr>
          <a:xfrm>
            <a:off x="5726160" y="49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971640" y="5589720"/>
            <a:ext cx="63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 flipV="1">
            <a:off x="6372360" y="551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0"/>
          <p:cNvSpPr/>
          <p:nvPr/>
        </p:nvSpPr>
        <p:spPr>
          <a:xfrm>
            <a:off x="6229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2"/>
          <p:cNvSpPr/>
          <p:nvPr/>
        </p:nvSpPr>
        <p:spPr>
          <a:xfrm>
            <a:off x="971640" y="551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4"/>
          <p:cNvSpPr/>
          <p:nvPr/>
        </p:nvSpPr>
        <p:spPr>
          <a:xfrm>
            <a:off x="1692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5"/>
          <p:cNvSpPr/>
          <p:nvPr/>
        </p:nvSpPr>
        <p:spPr>
          <a:xfrm>
            <a:off x="2411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7"/>
          <p:cNvSpPr/>
          <p:nvPr/>
        </p:nvSpPr>
        <p:spPr>
          <a:xfrm>
            <a:off x="3132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8"/>
          <p:cNvSpPr/>
          <p:nvPr/>
        </p:nvSpPr>
        <p:spPr>
          <a:xfrm>
            <a:off x="3851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0"/>
          <p:cNvSpPr/>
          <p:nvPr/>
        </p:nvSpPr>
        <p:spPr>
          <a:xfrm>
            <a:off x="457200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1"/>
          <p:cNvSpPr/>
          <p:nvPr/>
        </p:nvSpPr>
        <p:spPr>
          <a:xfrm>
            <a:off x="529272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2"/>
          <p:cNvSpPr/>
          <p:nvPr/>
        </p:nvSpPr>
        <p:spPr>
          <a:xfrm>
            <a:off x="601200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3"/>
          <p:cNvSpPr/>
          <p:nvPr/>
        </p:nvSpPr>
        <p:spPr>
          <a:xfrm>
            <a:off x="601200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4"/>
          <p:cNvSpPr/>
          <p:nvPr/>
        </p:nvSpPr>
        <p:spPr>
          <a:xfrm>
            <a:off x="133200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5"/>
          <p:cNvSpPr/>
          <p:nvPr/>
        </p:nvSpPr>
        <p:spPr>
          <a:xfrm>
            <a:off x="973800" y="566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7"/>
          <p:cNvSpPr/>
          <p:nvPr/>
        </p:nvSpPr>
        <p:spPr>
          <a:xfrm>
            <a:off x="212400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8"/>
          <p:cNvSpPr/>
          <p:nvPr/>
        </p:nvSpPr>
        <p:spPr>
          <a:xfrm>
            <a:off x="1765800" y="566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2"/>
          <p:cNvSpPr/>
          <p:nvPr/>
        </p:nvSpPr>
        <p:spPr>
          <a:xfrm>
            <a:off x="277164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3"/>
          <p:cNvSpPr/>
          <p:nvPr/>
        </p:nvSpPr>
        <p:spPr>
          <a:xfrm>
            <a:off x="356400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4"/>
          <p:cNvSpPr/>
          <p:nvPr/>
        </p:nvSpPr>
        <p:spPr>
          <a:xfrm>
            <a:off x="4211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5"/>
          <p:cNvSpPr/>
          <p:nvPr/>
        </p:nvSpPr>
        <p:spPr>
          <a:xfrm>
            <a:off x="493236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6"/>
          <p:cNvSpPr/>
          <p:nvPr/>
        </p:nvSpPr>
        <p:spPr>
          <a:xfrm>
            <a:off x="5651640" y="551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7"/>
          <p:cNvSpPr/>
          <p:nvPr/>
        </p:nvSpPr>
        <p:spPr>
          <a:xfrm>
            <a:off x="673272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8"/>
          <p:cNvSpPr/>
          <p:nvPr/>
        </p:nvSpPr>
        <p:spPr>
          <a:xfrm>
            <a:off x="1909800" y="522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0"/>
          <p:cNvSpPr/>
          <p:nvPr/>
        </p:nvSpPr>
        <p:spPr>
          <a:xfrm>
            <a:off x="2486520" y="566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1"/>
          <p:cNvSpPr/>
          <p:nvPr/>
        </p:nvSpPr>
        <p:spPr>
          <a:xfrm>
            <a:off x="2557800" y="522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смек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один человек     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ребенка в семье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3 мин               2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9     --  4  4  8  8  9 --                       5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    4  --  4  --  4  3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1116000" y="5084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1692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41128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2771640" y="479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3203640" y="472428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3635280" y="472428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450072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514836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  работу на уро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3076-57A1-4A50-A0E8-96A30693CBA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8513-8BE0-45D1-B367-DAFFC89F87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900" spc="-1" strike="noStrike">
                <a:solidFill>
                  <a:srgbClr val="008080"/>
                </a:solidFill>
                <a:latin typeface="Arial"/>
              </a:rPr>
              <a:t>Дорогие ребята! Сегодня мы с вами проведем необычный урок. Вы должны будете не только показать свои знания , но и умение правильно себя вести во время игры, уважать учителя и одноклассников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IMG_0021"/>
          <p:cNvPicPr/>
          <p:nvPr/>
        </p:nvPicPr>
        <p:blipFill>
          <a:blip r:embed="rId1"/>
          <a:stretch/>
        </p:blipFill>
        <p:spPr>
          <a:xfrm>
            <a:off x="5651640" y="14842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Записанный звук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Записанный звук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22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БАН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Minion"/>
              </a:rPr>
              <a:t>ФИРМА № 001 – </a:t>
            </a:r>
            <a:r>
              <a:rPr b="1" i="1" lang="ru-RU" sz="4000" spc="-1" strike="noStrike">
                <a:solidFill>
                  <a:srgbClr val="008000"/>
                </a:solidFill>
                <a:latin typeface="Minion"/>
              </a:rPr>
              <a:t>кредит </a:t>
            </a:r>
            <a:r>
              <a:rPr b="1" lang="ru-RU" sz="4000" spc="-1" strike="noStrike">
                <a:solidFill>
                  <a:srgbClr val="ff0066"/>
                </a:solidFill>
                <a:latin typeface="AGLettericaCondensedLight"/>
              </a:rPr>
              <a:t>500</a:t>
            </a:r>
            <a:r>
              <a:rPr b="1" lang="ru-RU" sz="4000" spc="-1" strike="noStrike">
                <a:solidFill>
                  <a:srgbClr val="008000"/>
                </a:solidFill>
                <a:latin typeface="Minion"/>
              </a:rPr>
              <a:t> руб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Minion"/>
              </a:rPr>
              <a:t>ФИРМА № 002 – </a:t>
            </a:r>
            <a:r>
              <a:rPr b="1" i="1" lang="ru-RU" sz="4000" spc="-1" strike="noStrike">
                <a:solidFill>
                  <a:srgbClr val="008000"/>
                </a:solidFill>
                <a:latin typeface="Minion"/>
              </a:rPr>
              <a:t>кредит</a:t>
            </a:r>
            <a:r>
              <a:rPr b="1" lang="ru-RU" sz="4000" spc="-1" strike="noStrike">
                <a:solidFill>
                  <a:srgbClr val="008000"/>
                </a:solidFill>
                <a:latin typeface="Minio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AGLettericaCondensedLight"/>
              </a:rPr>
              <a:t>500</a:t>
            </a:r>
            <a:r>
              <a:rPr b="1" lang="ru-RU" sz="4000" spc="-1" strike="noStrike">
                <a:solidFill>
                  <a:srgbClr val="008000"/>
                </a:solidFill>
                <a:latin typeface="AGLettericaCondensedLight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Minion"/>
              </a:rPr>
              <a:t>руб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627280" y="1341000"/>
            <a:ext cx="50292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1.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.Задачи на дроби и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3.Задачи на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5.  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4.   Координатная 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6.Задачи на смек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j0299125"/>
          <p:cNvPicPr/>
          <p:nvPr/>
        </p:nvPicPr>
        <p:blipFill>
          <a:blip r:embed="rId2"/>
          <a:stretch/>
        </p:blipFill>
        <p:spPr>
          <a:xfrm>
            <a:off x="826920" y="1413000"/>
            <a:ext cx="2024280" cy="33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.  4 ∙ 7  ∙   11 ∙  25                              2 0р       2).1+ 2+ 3+ ------------ + 100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).  15 ∙24                                            1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.  93+ 83 + ----------+23 +13 +3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.  15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 11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10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11280" y="1484280"/>
                <a:ext cx="60962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на дроби и ча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Один маляр может покрасить стену за 3 ч, другой – за 5 часов. Какую часть этой стены они покрасят за 1 ч, работая вместе?         3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Для ремонта школы купили 15 кг гвоздей, но всего использовали    этого количества. Сколько гвоздей осталось?                        2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 экскурсию уехали 42 туриста, что составило туристов, проживавших на турбазе. Сколько всего туристов проживало на этой турбазе?                                                                                            2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т рулона материи, в котором было 120 м, сначала отрезали   , а потом    остатка. Сколько материи осталось в рулоне?          5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 слитке, масса которого 10 кг, содержится 2 части  меди, 3части серебра и 5частей золота. Сколько золота содержится в слитке? 60р                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916360" y="263700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7667640" y="321300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2268360" y="4437000"/>
                <a:ext cx="223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3635280" y="4437000"/>
                <a:ext cx="15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на дви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кое расстояние будет между двумя  пешеходами через 3 часа, если они одновременно вышли из одного пункта в противоположных направлениях один со скоростью 5 км/ч, а другой -  4 км/ч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ва пешехода одновременно вышли навстречу друг другу из двух пунктов, расстояние между которыми 18км. Скорость одного из них 5км/ч, другого -- 4км/ч. Через сколько часов они встретят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Катер плыл от одной пристани до другой вниз по течению реки  2 часа. Какое расстояние проплыл катер, если его собственная скорость равна 16 км/ч, а скорость течения реки 3км/ч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?                                         60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ординатная пряма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акие числа изображены     1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числа изображены  1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Начертите  координатную прямую с единичным отрезком , равным 9 см. Отметьте точки с координатами                               2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а координатной прямой отметьте дроби:                                                    2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зьмите единичный отрезок, равный 12 клет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На координатной прямой отметьте дроби:            30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зьмите единичный отрезок, равный 15 клеточек).                                  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47640" y="2421000"/>
            <a:ext cx="5829480" cy="799920"/>
            <a:chOff x="1547640" y="2421000"/>
            <a:chExt cx="5829480" cy="799920"/>
          </a:xfrm>
        </p:grpSpPr>
        <p:sp>
          <p:nvSpPr>
            <p:cNvPr id="132" name="AutoShape 5"/>
            <p:cNvSpPr/>
            <p:nvPr/>
          </p:nvSpPr>
          <p:spPr>
            <a:xfrm>
              <a:off x="1547640" y="2421000"/>
              <a:ext cx="58294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890720" y="2877840"/>
              <a:ext cx="4227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V="1">
              <a:off x="234756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890720" y="2877840"/>
              <a:ext cx="4226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V="1">
              <a:off x="269064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 flipV="1">
              <a:off x="303336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V="1">
              <a:off x="337644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 flipV="1">
              <a:off x="371916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 flipV="1">
              <a:off x="406224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440496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 flipV="1">
              <a:off x="474804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 flipV="1">
              <a:off x="5090760" y="2763720"/>
              <a:ext cx="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1332000" y="1197000"/>
            <a:ext cx="5829120" cy="917640"/>
            <a:chOff x="1332000" y="1197000"/>
            <a:chExt cx="5829120" cy="917640"/>
          </a:xfrm>
        </p:grpSpPr>
        <p:sp>
          <p:nvSpPr>
            <p:cNvPr id="145" name="AutoShape 18"/>
            <p:cNvSpPr/>
            <p:nvPr/>
          </p:nvSpPr>
          <p:spPr>
            <a:xfrm>
              <a:off x="1332000" y="1197000"/>
              <a:ext cx="58291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1675080" y="2112120"/>
              <a:ext cx="422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 flipV="1">
              <a:off x="213192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1675080" y="2112120"/>
              <a:ext cx="42242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V="1">
              <a:off x="247500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 flipV="1">
              <a:off x="281736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V="1">
              <a:off x="178920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316080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 flipV="1">
              <a:off x="350316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 flipV="1">
              <a:off x="3846240" y="19972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8"/>
              <p:cNvSpPr txBox="1"/>
              <p:nvPr/>
            </p:nvSpPr>
            <p:spPr>
              <a:xfrm>
                <a:off x="3132000" y="3933720"/>
                <a:ext cx="140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0"/>
              <p:cNvSpPr txBox="1"/>
              <p:nvPr/>
            </p:nvSpPr>
            <p:spPr>
              <a:xfrm>
                <a:off x="7236000" y="4076640"/>
                <a:ext cx="1085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4"/>
              <p:cNvSpPr txBox="1"/>
              <p:nvPr/>
            </p:nvSpPr>
            <p:spPr>
              <a:xfrm>
                <a:off x="7308720" y="5445000"/>
                <a:ext cx="1150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;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;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;</m:t>
                        </m:r>
                      </m:den>
                    </m:f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;</m:t>
                        </m:r>
                      </m:den>
                    </m:f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36"/>
          <p:cNvSpPr/>
          <p:nvPr/>
        </p:nvSpPr>
        <p:spPr>
          <a:xfrm>
            <a:off x="1619280" y="19162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979640" y="19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224964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3278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3348000" y="198900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060720" y="17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457380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1.    х + 1111 = 3000                          2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2.  1834 – х = 753.                             2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3.  18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∙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х = 450.                  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4.   х : 17 = 201                  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5.1881 :х = 19                                   30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вет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2:17:30Z</dcterms:created>
  <dc:creator>Самойлова Любовь Ивановна</dc:creator>
  <dc:description/>
  <dc:language>en-US</dc:language>
  <cp:lastModifiedBy>Admin</cp:lastModifiedBy>
  <dcterms:modified xsi:type="dcterms:W3CDTF">2011-03-19T15:28:22Z</dcterms:modified>
  <cp:revision>12</cp:revision>
  <dc:subject/>
  <dc:title>Математик-           бизнесмен</dc:title>
</cp:coreProperties>
</file>