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D6ED5-EEF9-4830-9FF3-8C0A3C9C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3141-4EA8-4737-A929-6DC71F68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71BEA-C939-4075-868D-A9987B89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4E212-2DFD-4E1B-A363-C8A106BC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B792-85E8-4959-9881-F09681E0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B9AC-7855-4245-ABB2-8A0F0B0E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76B2-7946-46F1-BEC1-929779F2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6988-FB86-485A-B58A-76581FE9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B79E-C955-4609-BB93-4C708306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C237-04E7-4BD2-9BF8-3AFBAD51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1951-3EE1-49F6-A929-04E13849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8B9B-D858-436E-AFED-B945F680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A07F-EAAB-40CC-90A6-071B8F21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8B44-2DE0-4D93-AFB1-3029AA54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1ABE-F617-4AA2-9092-F5266762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4D01-0FC2-41DC-B587-DDDB3344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89A1-F7D9-4B82-BA41-735B6497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D591-1143-42E1-A71B-F0146B1A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B0FF5-9C6D-4F8F-91DB-58AFAF4D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DE6C-FF8A-4587-B9A4-B840A93D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3A84-A9F9-4BD6-8153-F885E452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DEBA-E36B-4808-BE82-FD0AC852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4CF0-B978-45E5-9CA0-4A19E4A5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C6DD-0662-49BF-8A9B-DD2E06CF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AE31-53CA-4D5B-BB56-2B69DCF978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857640" cy="728280"/>
            <a:chOff x="0" y="0"/>
            <a:chExt cx="6857640" cy="7282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14200" cy="711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9600" y="180000"/>
              <a:ext cx="654804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7080" y="180000"/>
              <a:ext cx="103320" cy="18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0400" y="0"/>
              <a:ext cx="10476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0400" y="180000"/>
              <a:ext cx="104760" cy="18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05920" y="366120"/>
              <a:ext cx="10224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8640" y="181800"/>
              <a:ext cx="105840" cy="1843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7080" y="361800"/>
              <a:ext cx="103320" cy="1843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5920" y="546480"/>
              <a:ext cx="102240" cy="181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6857640" cy="9143640"/>
            <a:chOff x="0" y="0"/>
            <a:chExt cx="6857640" cy="914364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2628720" cy="9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87000" y="2253960"/>
              <a:ext cx="5570640" cy="3377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422000"/>
              <a:ext cx="2149920" cy="4209480"/>
              <a:chOff x="0" y="1422000"/>
              <a:chExt cx="2149920" cy="4209480"/>
            </a:xfrm>
          </p:grpSpPr>
          <p:sp>
            <p:nvSpPr>
              <p:cNvPr id="55" name=""/>
              <p:cNvSpPr/>
              <p:nvPr/>
            </p:nvSpPr>
            <p:spPr>
              <a:xfrm>
                <a:off x="429840" y="4776840"/>
                <a:ext cx="432000" cy="8546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87000" y="2253600"/>
                <a:ext cx="430920" cy="8571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0720" y="1422000"/>
                <a:ext cx="439200" cy="846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6080" y="4776840"/>
                <a:ext cx="437760" cy="8546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0720" y="2253600"/>
                <a:ext cx="439200" cy="857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56080" y="3098160"/>
                <a:ext cx="437760" cy="8442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98160"/>
                <a:ext cx="436680" cy="8442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87000" y="3098160"/>
                <a:ext cx="430920" cy="8442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9840" y="3930120"/>
                <a:ext cx="432000" cy="858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6080" y="3930120"/>
                <a:ext cx="437760" cy="858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92F5-29DC-4FA5-9B63-40CDDCFED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такое осанка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как распознать ее нару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3000" y="1331640"/>
            <a:ext cx="6264360" cy="75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Осан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это свободное положение человека в вертикальной позе. Хорошая осанка в положении стоя означает, что плечи слегка отведены назад, грудная клетка расправлена, а туловище выпрямлено. Когда сидим, хорошая осанка означает, что спина прямая, а голова высоко поднята. В различные периоды жизни детей, осанка может меняться как в лучшую, так и в худшую сторону, поэтому различные нарушения ее, особенно в ранних стадиях могут быть скорректиру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личают следующие виды нарушения осанки: плоская, плоско-вогнутая, круглая спина, и сутулость. У некоторых детей возникает нарушение осанки, называемое сколиозом. Это означает, что позвоночник изогнут в форме зигзага. Сколиоз чаще возникает у девочек, но и встречается у мальч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омоги своему позвоночник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лай гимнастику каждый д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крепляй мышцы спины и живота, развивай гибкость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й и сиди как можно прям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и только на жесткой постели с невысокой подушк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поднимай больших и тяжелых груз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ходи на высоких каблуках, пока твой организм рас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Как правильно сиде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гда сидишь, туловище держи прямо, голову можно наклонить слегка впере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а плеча должны находиться на одной высо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е ноги всей стопой поставить на п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8:12:24Z</dcterms:created>
  <dc:creator>HOME</dc:creator>
  <dc:description/>
  <dc:language>en-US</dc:language>
  <cp:lastModifiedBy>HOME</cp:lastModifiedBy>
  <dcterms:modified xsi:type="dcterms:W3CDTF">2010-02-13T18:47:16Z</dcterms:modified>
  <cp:revision>2</cp:revision>
  <dc:subject/>
  <dc:title>Что такое осанка  и как распознать ее нарушение</dc:title>
</cp:coreProperties>
</file>