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37E6-062F-45CB-BC5D-BC797C465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21DF-20AE-4821-A5EB-1A7B020F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CCAC-6A3A-428E-B082-DA4CB5962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EBE4-A124-4C6D-9CF8-2D761E48C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F3CB-3296-4A40-87D1-F3507E6B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F467-6B09-4028-81BB-58CEECB3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3DE6-8F00-4EE5-A05C-D6CC84AC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A66B-AD1B-4E82-90EA-124636B6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0C85-5FAD-44B1-B297-21D24E79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EE3C-C1A5-474F-9197-CEC9D355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B779-E816-4117-9D97-F1349C77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8B3D-9B38-4001-8E4B-D68D54D6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C4C5-D389-4D4F-8001-DD307D57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933B-21BD-4E46-AFBE-204E1F3A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7CEB-E010-44F1-952B-79550961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82F0-2125-43D8-96C1-D24B9F55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230D-C9AB-448E-BF0D-27F681D2E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0694-0319-48BE-A930-2D7013D1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6C1C-FB5A-4E79-80A7-47BE6114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AD59-07FD-4FF2-85DA-17C79D5D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41FB-33A4-4B0E-80DF-E110433D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FE57-91F9-4AC4-9591-8D2B96AE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C205-B788-4248-96D4-CC83F876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6D22-B2D1-4094-96F1-C3B549E1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1E53-A098-4BFA-A33F-58827A53F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C835-9131-491B-BFDC-401F14CE5C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eec94"/>
                </a:solidFill>
                <a:latin typeface="Times New Roman"/>
              </a:rPr>
              <a:t>проект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Мини - музей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ила Назарова Наталья Иванов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Тема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: </a:t>
            </a:r>
            <a:r>
              <a:rPr b="1" i="1" lang="en-US" sz="5400" spc="-1" strike="noStrike">
                <a:solidFill>
                  <a:srgbClr val="feec94"/>
                </a:solidFill>
                <a:latin typeface="Times New Roman"/>
              </a:rPr>
              <a:t>чудо -деревья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Актуальность темы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оспитание любви и уважения к родному краю, природе является важнейшей составляющей нравственно воспитания. Чтобы воспитать хорошего гражданина ,желающего оберегать и охранять ее, надо ее позна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Цел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Познакомить детей с миром растений – деревья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7" descr="22"/>
          <p:cNvPicPr/>
          <p:nvPr/>
        </p:nvPicPr>
        <p:blipFill>
          <a:blip r:embed="rId1"/>
          <a:stretch/>
        </p:blipFill>
        <p:spPr>
          <a:xfrm>
            <a:off x="5508720" y="1700280"/>
            <a:ext cx="3166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Задач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6059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Расширять у детей знания и представления о деревьях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-характерные особенности стро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-признаки отличающие одни деревья от други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-сезонные изменения в строении лиственных деревье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-узнавать и называть деревья и их плоды, произрастающие на территории детского сада и нашего город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-познакомить с ростом деревьев (нарастают новые ветви или по кольцам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-дать первоначальное представление о том, что растения и животные – это сообщество, проживающие на одной территор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-дерево – важный строительный материа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Обогащать словарный запас, развивать связную речь детей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учить детей давать полные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ответы на вопрос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-развивать умение связанно  и последовательно рассказыват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Активизировать внимание и память детей, развивать логическое мышление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учить сравнивать, анализировать, устанавливать простейшие причинно-следственные связи, делать обобщ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Воспитывать  бережное отношение к природ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5" descr="8"/>
          <p:cNvPicPr/>
          <p:nvPr/>
        </p:nvPicPr>
        <p:blipFill>
          <a:blip r:embed="rId1"/>
          <a:stretch/>
        </p:blipFill>
        <p:spPr>
          <a:xfrm>
            <a:off x="6659640" y="1413000"/>
            <a:ext cx="21603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решая задачи экологического воспитания,  строим свою работу в соответствии с местными условиями и особенностями детей, учитывая следующие принципы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: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зитивный центризм” (отбор знаний, наиболее актуальных для ребёнка данного возраста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непрерывность и преемственность педагогического процесс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дифференцированный подход к каждому ребёнку, максимальный учёт его психологических особенностей, возможностей и интересов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рациональное сочетание разных видов деятельности, адекватный возрасту баланс интеллектуальных, эмоциональных и двигательных нагрузок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деятельностный подход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развивающий характер обучения, основанный на детской активност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абота  проводится поэтапно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дготовка детей к посещению музе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Экскурс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анятия по закреплению впечатле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вободный доступ к экспонатам музе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7" descr="7"/>
          <p:cNvPicPr/>
          <p:nvPr/>
        </p:nvPicPr>
        <p:blipFill>
          <a:blip r:embed="rId1"/>
          <a:stretch/>
        </p:blipFill>
        <p:spPr>
          <a:xfrm>
            <a:off x="6084720" y="1916280"/>
            <a:ext cx="27352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Основные направления реализации проекта: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Picture 9" descr="14"/>
          <p:cNvPicPr/>
          <p:nvPr/>
        </p:nvPicPr>
        <p:blipFill>
          <a:blip r:embed="rId1"/>
          <a:stretch/>
        </p:blipFill>
        <p:spPr>
          <a:xfrm>
            <a:off x="4500720" y="1700280"/>
            <a:ext cx="3600360" cy="2232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19"/>
          <p:cNvPicPr/>
          <p:nvPr/>
        </p:nvPicPr>
        <p:blipFill>
          <a:blip r:embed="rId2"/>
          <a:stretch/>
        </p:blipFill>
        <p:spPr>
          <a:xfrm>
            <a:off x="3995640" y="3284640"/>
            <a:ext cx="1938600" cy="2952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8"/>
          <p:cNvPicPr/>
          <p:nvPr/>
        </p:nvPicPr>
        <p:blipFill>
          <a:blip r:embed="rId3"/>
          <a:stretch/>
        </p:blipFill>
        <p:spPr>
          <a:xfrm>
            <a:off x="1187280" y="4221000"/>
            <a:ext cx="2664000" cy="244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7"/>
          <p:cNvPicPr/>
          <p:nvPr/>
        </p:nvPicPr>
        <p:blipFill>
          <a:blip r:embed="rId4"/>
          <a:stretch/>
        </p:blipFill>
        <p:spPr>
          <a:xfrm>
            <a:off x="684360" y="1628640"/>
            <a:ext cx="29178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Picture 8" descr="16"/>
          <p:cNvPicPr/>
          <p:nvPr/>
        </p:nvPicPr>
        <p:blipFill>
          <a:blip r:embed="rId1"/>
          <a:stretch/>
        </p:blipFill>
        <p:spPr>
          <a:xfrm>
            <a:off x="4716360" y="620640"/>
            <a:ext cx="2932200" cy="3024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18"/>
          <p:cNvPicPr/>
          <p:nvPr/>
        </p:nvPicPr>
        <p:blipFill>
          <a:blip r:embed="rId2"/>
          <a:stretch/>
        </p:blipFill>
        <p:spPr>
          <a:xfrm>
            <a:off x="3851280" y="3429000"/>
            <a:ext cx="2448000" cy="2808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10"/>
          <p:cNvPicPr/>
          <p:nvPr/>
        </p:nvPicPr>
        <p:blipFill>
          <a:blip r:embed="rId3"/>
          <a:stretch/>
        </p:blipFill>
        <p:spPr>
          <a:xfrm>
            <a:off x="1332000" y="1268280"/>
            <a:ext cx="300492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ерспективы на будуще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вести знакомство с деревьями всей земл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равнить виды хвойных и лиственных деревье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полнить музей экспонатами, сделанными из дерева, гербариями из листье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8:19:11Z</dcterms:created>
  <dc:creator>HOME</dc:creator>
  <dc:description/>
  <dc:language>en-US</dc:language>
  <cp:lastModifiedBy>DNA7 X86</cp:lastModifiedBy>
  <dcterms:modified xsi:type="dcterms:W3CDTF">2013-10-01T17:09:45Z</dcterms:modified>
  <cp:revision>4</cp:revision>
  <dc:subject/>
  <dc:title>проект</dc:title>
</cp:coreProperties>
</file>