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71040"/>
            <a:ext cx="456408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3D1F8-07C8-4F32-8C41-44745AE4AAF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C020-B978-4D4D-9BCA-240FB3A9A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7B5A-3FF4-4CB3-88B1-0FA1A32A39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FBE6-895B-4140-99C3-C1A9215891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A9FD-6BB3-467E-AF29-FDAECAB9C3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9557-4AD7-4C44-AC51-219C90156F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D845-8FE1-488A-988C-F743224F9F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B7A0-87C0-4BB6-AC75-C60FEFBC3C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B965-29F1-47B7-8AD7-2D868549AD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E8FA-EA97-4985-B3EA-15DC3182B0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976A-7E60-4CCF-83C1-D5DBEC06B8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B37F-35E9-4932-9CB7-58EAAC2214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78787-EB91-4AF6-9050-558B4E5C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31A2-8EE6-4110-9D9A-89D37D3AA1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52F63-6AFC-47A8-905B-DEC7E9DC28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6C8C2-514D-4CC7-9479-6ECB7E4C11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A36D0-641A-4A71-9822-0F543805B4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109FC-AA9A-446D-A7A3-DE199EDD86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A08D8-B3AA-4DE3-B493-4B80BF8CD8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12E34-88F4-4E10-9F6C-FC0463BD90A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A3B37-844E-48CF-A419-5731927261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FD8BB-2C96-4CAA-A188-2B8EF6017A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8D5AD-684B-4890-A95B-F5ADA136C8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8DA2F-2694-40BC-8AAA-3D60F55ED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1B72-A9B0-41E1-91DF-DAE0005FF9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49531-B096-46F6-9D60-24D205F1D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7E98-5F6B-48DD-8C90-614575BDA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32AB-E2D4-4400-93F8-46E2C65F9B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FA2E-A5CB-4F99-B77D-81B2FFAB53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0CF3-826B-4448-984C-FD592EDE6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EB8E-E197-4662-ADF3-6A97F7EAAB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F0DC-D974-4839-9A43-0E87694FA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D3C0-BA46-47ED-B0F4-F232585B7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F7F1-8FB9-4D76-88F6-C1F0952F1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9D8C-E556-444F-8245-D8708590F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F140-6ED9-48FD-87EF-A35572EB7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F58C-5895-4CBF-83E5-D744E048FF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AB1B-2D6C-4584-9A18-9F7FEA6083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F9FE-070E-4258-AF4D-C5399B84CE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5C8-194D-4B93-94AB-CB36BB6A1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5E4-C4B8-4524-8F7C-4411ABF859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625-9C38-487F-B685-54928EA2A7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02C-04B6-4765-B95E-2F3F2996E3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EC1-D626-47BC-907E-DE72535FD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C076-D8EF-4B9E-97B1-FE4C85C144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36E-B686-427C-BA3E-4BC4953955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B46-855C-4951-A440-F0C901FC05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CAB-B6DC-457C-8E33-86D29DC0CD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AA6-3D56-494B-98D5-84E9E2C497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336-4902-4A56-B503-92D7AD9C75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19F-B99D-4992-9809-D63B1D568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460-D476-4F3D-A030-7534632F9D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7F4A2-B4D4-4759-90BE-1F9C9F0CC3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74EC-8C54-4958-B33F-D23F70E61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D2E16-E24B-4CDB-A288-E5FF0FC80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1BBB-0A8E-4E51-9DEA-C4E99A4D56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18EF0-28D8-4BC3-A183-D46E3F3EEA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D85B8-2CAC-46CA-ABD7-8F3ED1CA19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96C12-9645-4C78-BB91-B82B53882D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7C077-BB79-4CBA-A73E-9B4B9AF0E9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B7486-8C19-4FBD-A512-634C7387BC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C98A-8708-4918-B9C7-776121A913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B8C9F-CD96-4613-AF63-5D1157C2C5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E291B-4952-4460-9E97-DD3F30071F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9749-A562-4BE6-A49E-649001CDFF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07971-5185-475E-ADEF-0AC826FAE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CD27-CAF5-4B08-BC30-8F9F5A5A184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6591-3C40-4F63-8991-3B90534F25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AA3C9-7942-4D06-A139-E30B808720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D81B0-6C4C-498E-A3D8-E1E66005E5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5D20-05F3-4E04-89A4-2633A6D9CD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720E-CC02-4920-B6F8-FA53B27E8B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8BECB-9353-4EF7-8916-262BE77044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8AAF1-2075-4B76-8F55-6597AF6ED7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2E45-6F1F-42F5-9BBB-CC5980DB30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B445C-B28C-4ED3-8880-9665AFD9BC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5E18D-7615-4AD4-96E9-D41027BF9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41F9-87C9-4A39-B3A6-E1A1811BEC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1D4F9-4600-4A69-8955-693BE87A8D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3B3-FF72-47D8-9E79-971EA48326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78D1-B4CE-44A1-BC59-C6B4EA16C3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D98E-8AA0-41A7-A3EE-1C158A68F7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D071-08D1-48F7-A287-F42013CAE3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7D4-6997-4E28-9DF8-DA452C09AC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E4FF-D194-47B9-8FC0-8CF85BD8FF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C3D-241D-4155-B8FC-4BFACE5D8B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7E10-3194-4731-8AD4-84FFCDE8F9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95B-B98B-45FA-91B1-7AA55E002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06DA-ACAB-4DD0-B85E-2B39C46D98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279-6CD3-42C1-BFCB-1BA4C8BAD3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DA1-60ED-4656-A6D1-86CF82D0D6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EAC-D860-475D-83CF-2A80CCF90C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879BA-EFE6-4225-8AD2-519D08C5C3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20391-8707-4B78-9C50-E7469BCC1C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A547C-1AE4-4EFF-A1A1-A72FC8DA9E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BA1B3-FF75-46E1-B57C-D3DF6C4E71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FA3D8-2A60-47EF-AFFE-2E17A6BAE1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48FBE-B475-431C-80F8-23A2FC2CD1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802D2-6989-49D9-9F92-DAF52C4F7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B214-2AF9-4FAE-87A7-3B11764BA1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9B457-3A6F-488A-9BE3-B2CB22CA49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ED247-8C95-4AF7-B706-3F824401AA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88AB5-5947-4C47-B0BB-7D06AA397A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91F6A-80BF-401A-93DF-D991D9E6FD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434E2-ECB1-4B47-B16B-77D4EF6D3B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13FAD-6EB2-4BA5-8A86-7998DD9841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27161-210D-4DEB-AD4B-F2781F8F50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F2D4-10A8-4CEE-A47F-3451E61DD4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8CEDD-51FC-47D1-A626-9497B13FEF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79130-9573-4CA2-AA54-C20A4E2B1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3478-8A93-4F4E-96C9-5C960E1387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6191D-9E28-4A58-95F6-F9131DE0BF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C41D0-68D0-4CE3-A4D3-5902400EA3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3F05F-F692-4908-A270-8873B11658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49C81-DE29-443E-9591-8D78A43450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B46FE-641D-4233-BF86-81043EA066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4DF89-58FA-4BFA-82E3-C7CB9B0EDC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4A89F-7663-4214-A6A0-521AF028C8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88A2-3AA0-4EFE-993B-2B7CC23384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AFE3-FBEC-4894-A2FC-D7BA4E1B59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D44D-6758-4E05-8890-075204E59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42F8-4643-42D4-90A5-00516E0F3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E028F7-8C39-4FCC-B3DA-49FD1E1AE3E1}" type="slidenum">
              <a:rPr b="0" lang="ru-RU" sz="1200" spc="-1" strike="noStrike">
                <a:solidFill>
                  <a:srgbClr val="26262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93F6B5-58E2-43B9-B630-E390329CB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77024D-536C-4648-8F2C-D44EECF7A8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0319AC-A204-40F9-B174-9D83928850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14451E-82E5-4BE0-A139-854F972FF4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26262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9897C1-5B2E-4E79-A47A-CF912D5BD29A}" type="slidenum">
              <a:rPr b="0" lang="en-GB" sz="1200" spc="-1" strike="noStrike">
                <a:solidFill>
                  <a:srgbClr val="26262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1F9D6B-0B23-44DA-B7D8-C54D1ECF91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D9A29C-F2DF-48D7-97BD-DA4400C80D9B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D386D1-0E82-473A-B7FC-B3CB40F2F98B}" type="slidenum">
              <a:rPr b="0" lang="ru-RU" sz="1200" spc="-1" strike="noStrike">
                <a:solidFill>
                  <a:srgbClr val="26262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60360" y="2424240"/>
            <a:ext cx="8901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Экологические группы растений по отношению к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488280" y="539640"/>
            <a:ext cx="2331720" cy="16765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3600360" cy="2340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619280" y="3780000"/>
            <a:ext cx="576720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41200" y="65160"/>
            <a:ext cx="890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игрофиты на берегах водоемов – «земноводные раст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39640" y="801720"/>
            <a:ext cx="3240360" cy="2438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3511440" cy="27003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3349800" cy="31273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5219640" y="3419640"/>
            <a:ext cx="3692520" cy="30603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79640" y="2803680"/>
            <a:ext cx="1087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918560" y="3014640"/>
            <a:ext cx="901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5000b"/>
                </a:solidFill>
                <a:latin typeface="Arial"/>
              </a:rPr>
              <a:t>камы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0" y="5894280"/>
            <a:ext cx="758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5000b"/>
                </a:solidFill>
                <a:latin typeface="Arial"/>
              </a:rPr>
              <a:t>рог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01800" y="5940360"/>
            <a:ext cx="1078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рос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79280" y="76320"/>
            <a:ext cx="8398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. Способны жить и вне воды, но корни должны быть обязательно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3492360" cy="28065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780000" y="946080"/>
            <a:ext cx="2361960" cy="37339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6408720" y="1079640"/>
            <a:ext cx="2590920" cy="46796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360360" y="5761080"/>
            <a:ext cx="85233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: Какова особенность расположения устьиц 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ых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5880" y="4140360"/>
            <a:ext cx="995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3333"/>
                </a:solidFill>
                <a:latin typeface="Arial"/>
              </a:rPr>
              <a:t>част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40360" y="5025960"/>
            <a:ext cx="102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ло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0360" y="5556240"/>
            <a:ext cx="2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9640" y="5219640"/>
            <a:ext cx="14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рело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539640" y="104760"/>
            <a:ext cx="7608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Arial"/>
              </a:rPr>
              <a:t>Приспособление водных растений к недостатку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0720" y="1440000"/>
            <a:ext cx="630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47ff"/>
                </a:solidFill>
                <a:latin typeface="Arial"/>
              </a:rPr>
              <a:t>Наличие межклетников с воздушной кам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47ff"/>
                </a:solidFill>
                <a:latin typeface="Arial"/>
              </a:rPr>
              <a:t>Большая испаряющая способность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79280" y="1079640"/>
            <a:ext cx="93106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 Почему растения ряски держатся на воде и не то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 Почему листья у водных растений сильно рассече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Почему водные растения без воды быстро засых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Чем отличаются плавающие и подводные листья кувшин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Как водные растения приспособлены к недостатку кисл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85680" y="477720"/>
            <a:ext cx="9094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/>
          <p:nvPr/>
        </p:nvSpPr>
        <p:spPr>
          <a:xfrm>
            <a:off x="1979640" y="2340000"/>
            <a:ext cx="489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араграф 16,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8520" y="1079640"/>
            <a:ext cx="905688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 Сколько воды содержится в раст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 Какое значение имеет вода, находящаяся в вакуо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Почему растения завядают и что происходит в клетках ли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Какое значение имеет испарение воды растени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Как расселяются растения с помощью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0720" y="539640"/>
            <a:ext cx="2416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спом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79640" y="1800360"/>
            <a:ext cx="5767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79640" y="179280"/>
            <a:ext cx="7164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начение воды в жизн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0" y="1015920"/>
            <a:ext cx="923112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творение в воде минеральных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 растений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ар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лаждение растения в жаркую пог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т постоянный ток воды в раст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лощение воды устьицами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здуш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пространение раст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омощи воды (побеги, сем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60360" y="160200"/>
            <a:ext cx="8280360" cy="18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Экологические группы растений по отношению к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1979640"/>
            <a:ext cx="8820360" cy="4680000"/>
          </a:xfrm>
          <a:prstGeom prst="rect">
            <a:avLst/>
          </a:prstGeom>
          <a:noFill/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серофиты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2400" spc="-1" strike="noStrike">
                <a:solidFill>
                  <a:srgbClr val="2300dc"/>
                </a:solidFill>
                <a:latin typeface="Arial"/>
              </a:rPr>
              <a:t>гидро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 ксерос» - сухой                                                            «гидро» - вод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54040" y="3600360"/>
            <a:ext cx="21448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мезо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мезо» - сре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19640" y="3600360"/>
            <a:ext cx="32400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79d1c"/>
                </a:solidFill>
                <a:latin typeface="Arial"/>
              </a:rPr>
              <a:t>гигро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гигро» - в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257480" y="1260360"/>
            <a:ext cx="1263600" cy="72072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80000" y="1260360"/>
            <a:ext cx="721080" cy="90036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9280" y="1260360"/>
            <a:ext cx="1082880" cy="251964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40360" y="1260360"/>
            <a:ext cx="1260360" cy="251964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00000" y="-363600"/>
            <a:ext cx="57596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идрофиты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«гидро»-вода, «фитос» -рас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7200" y="2052720"/>
            <a:ext cx="8939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А.Полностью погружены в воду или плавают на поверхности.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лохо развиты сосуды или отсутствую совс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 развита  механическая ткань, т.к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да сама поддерживает растение в вертикальном  по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оздушные полости в черешках лист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Увеличение поверхности тел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ю его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е выживают на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40360" y="1792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480000" y="485928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8120" y="3352680"/>
            <a:ext cx="2743200" cy="27082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20520" y="263520"/>
            <a:ext cx="2859120" cy="2616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6216480" y="179280"/>
            <a:ext cx="2927520" cy="2590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3193920" y="179280"/>
            <a:ext cx="2925720" cy="2700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79280" y="6300720"/>
            <a:ext cx="148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го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0" y="6300720"/>
            <a:ext cx="787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д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6300720"/>
            <a:ext cx="11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одок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2880" y="287496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уб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9640" y="2879640"/>
            <a:ext cx="787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от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40360" y="2879640"/>
            <a:ext cx="8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4500720" cy="36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ло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680000" y="-135000"/>
            <a:ext cx="4140000" cy="3554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5219640" y="3419640"/>
            <a:ext cx="3780000" cy="2700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79280" y="3780000"/>
            <a:ext cx="468000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3240" y="0"/>
            <a:ext cx="540216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 И Г Р О Ф И Т Ы- </a:t>
            </a:r>
            <a:r>
              <a:rPr b="1" lang="ru-RU" sz="2800" spc="-1" strike="noStrike" u="sng">
                <a:solidFill>
                  <a:srgbClr val="00ae00"/>
                </a:solidFill>
                <a:uFillTx/>
                <a:latin typeface="Arial"/>
              </a:rPr>
              <a:t>влаголюбивые</a:t>
            </a:r>
            <a:br>
              <a:rPr sz="2800"/>
            </a:br>
            <a:r>
              <a:rPr b="0" i="1" lang="ru-RU" sz="2800" spc="-1" strike="noStrike">
                <a:solidFill>
                  <a:srgbClr val="00ae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гигрос</a:t>
            </a:r>
            <a:r>
              <a:rPr b="0" i="1" lang="ru-RU" sz="2800" spc="-1" strike="noStrike">
                <a:solidFill>
                  <a:srgbClr val="00ae00"/>
                </a:solidFill>
                <a:latin typeface="Arial"/>
              </a:rPr>
              <a:t>» - влажный, «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фитос</a:t>
            </a:r>
            <a:r>
              <a:rPr b="0" i="1" lang="ru-RU" sz="2800" spc="-1" strike="noStrike">
                <a:solidFill>
                  <a:srgbClr val="00ae00"/>
                </a:solidFill>
                <a:latin typeface="Arial"/>
              </a:rPr>
              <a:t>» - рас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35080" y="1758960"/>
            <a:ext cx="55242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333366"/>
                </a:solidFill>
                <a:uFillTx/>
                <a:latin typeface="Arial"/>
              </a:rPr>
              <a:t>Местообитани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сырые леса, болота,  берега водоем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тропические влажные ле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333366"/>
                </a:solidFill>
                <a:uFillTx/>
                <a:latin typeface="Arial"/>
              </a:rPr>
              <a:t>Особенности:</a:t>
            </a: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нет приспособлений для ограничения расходования 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333366"/>
                </a:solidFill>
                <a:uFillTx/>
                <a:latin typeface="Arial"/>
              </a:rPr>
              <a:t>Приспособления для удаления избыт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333366"/>
                </a:solidFill>
                <a:uFillTx/>
                <a:latin typeface="Arial"/>
              </a:rPr>
              <a:t>влаги:</a:t>
            </a: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                  </a:t>
            </a: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1. крупные устьи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                  </a:t>
            </a: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2. часто образуются волоски из живых клеток для увеличения поверхности испар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                   </a:t>
            </a: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3.слаборазвитая корневая систе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66"/>
                </a:solidFill>
                <a:latin typeface="Arial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940360" y="179280"/>
            <a:ext cx="3175200" cy="4229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7020000" y="4859280"/>
            <a:ext cx="102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365120" y="-28440"/>
            <a:ext cx="65833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Представители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болотных гигроф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38200" y="103680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010120" y="107964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39640" y="3959280"/>
            <a:ext cx="3810240" cy="26924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4859280" y="3959280"/>
            <a:ext cx="3962520" cy="2666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800360" y="6434280"/>
            <a:ext cx="24699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елокрыльник (боло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26040" y="6300720"/>
            <a:ext cx="2613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едмичник (сырые л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497400" y="3419640"/>
            <a:ext cx="1003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ос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40360" y="3419640"/>
            <a:ext cx="18957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Фиалка боло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Admin</cp:lastModifiedBy>
  <dcterms:modified xsi:type="dcterms:W3CDTF">2010-05-30T06:49:20Z</dcterms:modified>
  <cp:revision>279</cp:revision>
  <dc:subject/>
  <dc:title>Drag&amp;Drop Macro: Easter Eggs</dc:title>
</cp:coreProperties>
</file>