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3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9.wmf" ContentType="image/x-wmf"/>
  <Override PartName="/ppt/media/image47.jpeg" ContentType="image/jpeg"/>
  <Override PartName="/ppt/media/image36.wmf" ContentType="image/x-wmf"/>
  <Override PartName="/ppt/media/image45.png" ContentType="image/png"/>
  <Override PartName="/ppt/media/image44.jpeg" ContentType="image/jpeg"/>
  <Override PartName="/ppt/media/image46.png" ContentType="image/png"/>
  <Override PartName="/ppt/media/image37.wmf" ContentType="image/x-wmf"/>
  <Override PartName="/ppt/media/image30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680-4C2B-4F50-B8B6-FE6E31AE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332-DDCF-4954-BFF5-4C53551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842-6525-4653-9A6A-F6C6A1C0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818-D170-4CC6-A76A-E9659B12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C4D-974D-4E24-8314-433D9782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EB0-5E08-4EAF-BEA8-6F4E220B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EEF-7903-456A-B87F-82762D0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484-7427-4B77-9101-C46488E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F50-F763-4FD5-8895-A7DC0B2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53B3-C2F4-462E-B8E7-6A17FDB6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175-D184-4919-85E4-1E839B8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81A-65E3-4191-B299-52F8B6A9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638-E845-4AFA-BD23-48ADE5B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F96-51D8-4CF0-A04D-EED6C62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0638-FB0D-4F17-8F36-201A904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574-17BC-47DF-AE57-E8E75E7E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9EAD-806D-4D4B-9CC4-C69EB9F3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036-217F-480A-8F08-4301565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A39-BEF3-498E-AD22-376D070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1D-9323-4101-8533-D0DDFBA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6B1-A6CF-4160-B0ED-1E9EF8A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C38-FC09-4FC1-8055-D5BCE1A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49C-D821-4121-AFFA-7AD35B8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FFE-B6CD-4B73-9388-882B570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"/>
            <p:cNvSpPr/>
            <p:nvPr/>
          </p:nvSpPr>
          <p:spPr>
            <a:xfrm>
              <a:off x="463680" y="463680"/>
              <a:ext cx="8216640" cy="593064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FE23-3F2E-426F-ACD4-906E82F06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63680" y="1606680"/>
              <a:ext cx="8216640" cy="417816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FBA-C1D5-4D30-8B82-4AD65A36C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ПРИРОДА И ЛЮДИ ДРЕВНЕЙ ИНДИИ.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solidFill>
            <a:srgbClr val="003300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.Природные условия Индостана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89080" y="1295280"/>
            <a:ext cx="388620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3b3b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Рассмотрите карту полуострова Индостан. Попытайтесь описать его природные усло-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Как вы думаете, чем могли зани-маться жители Древней Индии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8040" y="1036800"/>
            <a:ext cx="4035240" cy="5271840"/>
          </a:xfrm>
          <a:prstGeom prst="rect">
            <a:avLst/>
          </a:prstGeom>
          <a:ln w="76320">
            <a:solidFill>
              <a:srgbClr val="003b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Times New Roman"/>
              </a:rPr>
              <a:t>Гималаи </a:t>
            </a:r>
            <a:br>
              <a:rPr sz="4000"/>
            </a:br>
            <a:r>
              <a:rPr b="0" lang="en-US" sz="4000" spc="-1" strike="noStrike">
                <a:solidFill>
                  <a:srgbClr val="ff99cc"/>
                </a:solidFill>
                <a:latin typeface="Times New Roman"/>
              </a:rPr>
              <a:t>гора Джомолунгма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Гималаи 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27000" y="1981080"/>
            <a:ext cx="729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Гималаи 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360" y="1944720"/>
            <a:ext cx="6264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Река Инд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676520"/>
            <a:ext cx="7488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Река Инд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Река Ганг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19000" y="1981080"/>
            <a:ext cx="750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Река Ганг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51240" y="1341360"/>
            <a:ext cx="4149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solidFill>
            <a:srgbClr val="003300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Жизнь в индийских джунглях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76560" y="1066680"/>
            <a:ext cx="3733560" cy="5105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-ые государст-ва в Индии поя-вились в джунг-лях,  а не в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ПОЧЕМУ</a:t>
            </a: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Подумайте, что хорошего,и что плохого  могли принести джунг-ли 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1136520"/>
            <a:ext cx="4224600" cy="4967280"/>
          </a:xfrm>
          <a:prstGeom prst="rect">
            <a:avLst/>
          </a:prstGeom>
          <a:ln w="57240">
            <a:solidFill>
              <a:srgbClr val="003b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Джунгли по берегам р.Ганг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2920" y="1709640"/>
            <a:ext cx="70581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3b3b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.Природные условия Индост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Жизнь в индийских джунгл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Древнейшие города Инд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4.Происхождение ка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Тигр 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32000" y="1627200"/>
            <a:ext cx="6480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Times New Roman"/>
              </a:rPr>
              <a:t>Слон 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76680" y="1341360"/>
            <a:ext cx="35128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Саванна 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792440"/>
            <a:ext cx="79200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Река Инд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14440" y="1981080"/>
            <a:ext cx="631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003300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ревнейшие города Индии.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5105160"/>
            <a:ext cx="7925040" cy="144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3b3b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b"/>
                </a:solidFill>
                <a:latin typeface="Arial"/>
              </a:rPr>
              <a:t>Ок.5000 тыс.лет назад в Индии возникли таинственные города .Спустя тысячу лет они неожиданно опус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9280" y="981000"/>
            <a:ext cx="5545080" cy="4032360"/>
          </a:xfrm>
          <a:prstGeom prst="rect">
            <a:avLst/>
          </a:prstGeom>
          <a:ln w="76320">
            <a:solidFill>
              <a:srgbClr val="003b3b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16520" y="2674800"/>
            <a:ext cx="259920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 Cyr"/>
              </a:rPr>
              <a:t>Развали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 Cyr"/>
              </a:rPr>
              <a:t>Мохенджо-Дар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Мохенджо - Даро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2082960"/>
            <a:ext cx="72741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Бассейн в Мохенджо - Даро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4360" y="1749600"/>
            <a:ext cx="76327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44280"/>
            <a:ext cx="6324840" cy="60984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Хлопок 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901800"/>
            <a:ext cx="69138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Хлопковое поле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47640" y="1801800"/>
            <a:ext cx="6264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Женщина в хлопке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1805040"/>
            <a:ext cx="7272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Индийская девушка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2003400"/>
            <a:ext cx="51134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Изделия из хлопка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2808360" cy="2265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40520" y="1700280"/>
            <a:ext cx="220500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56360" y="4724280"/>
            <a:ext cx="2376360" cy="155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295128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067280" y="2492280"/>
            <a:ext cx="1873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Сахарный тростник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835280" y="1981080"/>
            <a:ext cx="604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90560" y="403812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0"/>
                    <a:ext cx="91440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Касты в Инди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59280" y="1628640"/>
          <a:ext cx="3429000" cy="4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3429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059280" y="2276640"/>
          <a:ext cx="3429000" cy="466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27664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059280" y="2997360"/>
          <a:ext cx="3429000" cy="466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99736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987640" y="3573360"/>
          <a:ext cx="3429000" cy="466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3573360"/>
                    <a:ext cx="3429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743200" y="4648320"/>
          <a:ext cx="3429000" cy="4572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648320"/>
                    <a:ext cx="3429000" cy="457200"/>
                  </a:xfrm>
                  <a:prstGeom prst="rect">
                    <a:avLst/>
                  </a:prstGeom>
                  <a:ln w="76320">
                    <a:solidFill>
                      <a:srgbClr val="003b3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025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Легенда о происхождение каст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8640" y="1773360"/>
            <a:ext cx="3027240" cy="4103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92200" y="981000"/>
            <a:ext cx="3763800" cy="5100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92200" y="981000"/>
            <a:ext cx="3763800" cy="5100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1619280" y="2133720"/>
            <a:ext cx="609480" cy="380880"/>
          </a:xfrm>
          <a:custGeom>
            <a:avLst/>
            <a:gdLst>
              <a:gd name="textAreaLeft" fmla="*/ 138960 w 609480"/>
              <a:gd name="textAreaRight" fmla="*/ 470520 w 6094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Cyr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581280"/>
            <a:ext cx="685800" cy="533520"/>
          </a:xfrm>
          <a:custGeom>
            <a:avLst/>
            <a:gdLst>
              <a:gd name="textAreaLeft" fmla="*/ 156600 w 685800"/>
              <a:gd name="textAreaRight" fmla="*/ 529200 w 6858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Cyr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98780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Cyr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5257800"/>
            <a:ext cx="609840" cy="457200"/>
          </a:xfrm>
          <a:custGeom>
            <a:avLst/>
            <a:gdLst>
              <a:gd name="textAreaLeft" fmla="*/ 138960 w 609840"/>
              <a:gd name="textAreaRight" fmla="*/ 470880 w 6098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3b"/>
                </a:solidFill>
                <a:latin typeface="Arial Cyr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1557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Уста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рахм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270036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Руки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376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Бедра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емледель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4834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Ступни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лу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2800" y="1989000"/>
            <a:ext cx="2651040" cy="4248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4067280" y="1844640"/>
            <a:ext cx="4114800" cy="464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-самая почитаемая часть населения Инд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  общались с бо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знь брахмана делилась на три части-учение,обза-ведение семьей,от-шельнич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cc"/>
                </a:solidFill>
                <a:uFillTx/>
                <a:latin typeface="Times New Roman"/>
              </a:rPr>
              <a:t>Брахманы и их роль в индийском обществе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25600" y="1989000"/>
            <a:ext cx="2751120" cy="4869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4218120" y="2205000"/>
            <a:ext cx="380988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Воины-самые знатные люди в Индии .Из них происходили Цари и Княз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cc"/>
                </a:solidFill>
                <a:uFillTx/>
                <a:latin typeface="Times New Roman"/>
              </a:rPr>
              <a:t>Воины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8800" y="1989000"/>
            <a:ext cx="3535560" cy="4680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4500720" y="2193840"/>
            <a:ext cx="380988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-имели имущество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ю,дом,скот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 платили нал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cc"/>
                </a:solidFill>
                <a:uFillTx/>
                <a:latin typeface="Times New Roman"/>
              </a:rPr>
              <a:t>Земледельцы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681800" cy="2304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612720" y="4510080"/>
            <a:ext cx="7846920" cy="223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луги-были фактическими рабами,но хозяин не мог их уб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луги не имели имущества и не могли молиться бог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cc"/>
                </a:solidFill>
                <a:uFillTx/>
                <a:latin typeface="Times New Roman"/>
              </a:rPr>
              <a:t>Слуг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49360" y="1989000"/>
            <a:ext cx="3300480" cy="4392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4648320" y="1413000"/>
            <a:ext cx="411480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на-ходились вне кас-тового деления общ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жи-ли вне деревень ,и выполняли самые грязные и тяже-лые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думайте как чело-век мог стать не-прикасаемым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cc"/>
                </a:solidFill>
                <a:uFillTx/>
                <a:latin typeface="Times New Roman"/>
              </a:rPr>
              <a:t>Неприкасаемые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Берег индийского океана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8000" y="1785960"/>
            <a:ext cx="5977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йог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1979640"/>
            <a:ext cx="61196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свадьба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Танцовщица 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75040" y="1628640"/>
            <a:ext cx="273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Битва Богов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95720" y="1628640"/>
            <a:ext cx="32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b7a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88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2T11:30:01Z</dcterms:created>
  <dc:creator>ЧЕРНОВ АЛЕКСЕЙ</dc:creator>
  <dc:description/>
  <dc:language>en-US</dc:language>
  <cp:lastModifiedBy>SamLab.ws</cp:lastModifiedBy>
  <dcterms:modified xsi:type="dcterms:W3CDTF">2010-12-22T22:24:02Z</dcterms:modified>
  <cp:revision>15</cp:revision>
  <dc:subject/>
  <dc:title>Заголовок слайда отсутствует</dc:title>
</cp:coreProperties>
</file>