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EE7-BA0C-4527-99D2-0613B495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8D7-DFDA-4FF8-B3FB-C8B15927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EE7-B7DA-4191-95D4-ED42869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6CC-2698-44A2-AC54-0D0F2E8E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1590-5799-467B-A025-8A759297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99F9-D25B-4ACE-96A6-0CCBB55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938D-692D-44EC-876B-432ADF68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20BC-07C6-4B75-BA6A-5A64E57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DF8-D28B-42AF-9B69-CB6100A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3E65-5086-481A-852C-06E5917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8366-FB1B-472B-8264-AF68755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227-5730-4039-8272-B2F254E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8E55-1C31-4497-8399-F56AF19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1D9A-ECF1-463B-A6ED-66366A5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DD6-7473-43BA-812C-7ECDBD3E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5F1-1470-41E2-91A5-5033506C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64C2-08E4-4DE1-BEFA-A3DB7AB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A6B-A51C-4AF2-8ADF-5534850F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87D-9D96-40CE-B121-D513DEE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9D2-B9BC-4897-A141-F8037FBF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78-75A8-4710-B05C-22908EEC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347-50CC-40C0-9E7F-E0B981E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811-556E-48EF-AA99-DDBB1E7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B15-99CA-4868-B626-689ABC8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6F5-7393-4563-8479-9CB7609346C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C644-7C65-491C-8104-361899B926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400" y="478584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втор: ученица 7 «Б» класса Мишина Май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воими учебниками (то есть книгами «Начала») Евклид охватил всю элементарную математику той эпохи. «Начала» состоят из 13 книг. Первые четыре посвящены геометрии на плоскости. Каждую книгу он начинает с пяти аксиом и постулатов. Вспомните их! В первой книге излагается планиметрия прямолинейных фигур: устанавливаются их свойства, заканчивается прямой и обратной теоремой Пифагора. Во второй книге излагается основы геометрической алгебры. Третья  книга посвящена свойствам круга, в четвертой строятся правильные п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гольники при п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= 3, 4, 5, 6, 10, 15. Исключительное изящное построение правильного 15-угольника принадлежит самому Евклиду. 11 книга посвящена стереометрии. Она содержит ос­новные теоремы о прямых и плоскостях в трехмерном пространстве, задачи на построение, например как опустить перпендикуляр из данной точки на данную плоскость. 12 книга посвящена решению задачи о квадратуре круга. 13 книга излагает учение о правильных многогранниках. В целом творение Евклида величественно. Созданная им система просуществовала более двух тысяч лет. Вплоть до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XX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ека геометрию преподавали по популярным переводам этой книги. Но последующие математики не во всем соглашались с системой аксиом и определений и пытались ее улучшить. Некоторые оказались ненужные, например, что прямые углы равны. Это очевидно из других аксиом. Особенное неудовлетворение всегда вызывал пятый постулат, утверждавший: что через любую точку плоскости можно провести только одну прямую параллельную данной. Многие считали ее теоремой и пытались ее неудачно доказать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редние века немного дали геометрии, и следующим великим событием в её истории стало открытие Декартом в XVII веке координатного метода («Рассуждение о методе», 1637). Точкам сопоставляются наборы чисел, это позволяет изучать отношения между формами методами алгебры. Так появилась аналитическая геометрия, изучающая фигуры и преобразования, которые в координатах задаются алгебраическими уравнениями. Примерно одновременно с этим Паскалем и Дезаргом начато исследование свойств плоских фигур, не меняющихся при проектировании с одной плоскости на другую. Этот раздел получил название проективной геометрии. Метод координат лежит в основе появившейся несколько позже дифференциальной геометрии, где фигуры и преобразования все ещё задаются в координатах, но уже произвольными достаточно гладкими функция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826 году великий русский математик Николай Иванович Лобачевский поставил точку в проблеме пятого постулата.   Вместо него он принял допущение, согласно которому в плоскости можно построить, по крайней мере, две прямые, не пересекающиеся. Дальнейшие его рассуждения привели его к новой безупречной геометрической системе, называемой сейчас геометрией Лобачевского. В его геометрии сумма углов треугольника меньше 180°, в ней нет подобных фигур. В ней существуют треугольники с попарно параллельными сторон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Независимо от Лобачевского в 1832 ту же геометрию построил Я. Больяй (те же идеи развивал К. Гаусс, но он не опубликовал их). Лобачевский рассматривал свою геометрию как возможную теорию пространственных отношений; однако она оставалась гипотетической, пока не был выяснен (в 1868) её реальный смысл и тем самым было дано её полное обоснование. Переворот в геометрии, произведённый Лобачевским, по своему значению не уступает ни одному из переворотов в естествознании, и недаром Лобачевский был назван "Коперником геометрии". В его идеях были намечены три принципа, определившие новое развитие геометрии. Первый принцип заключается в том, что логически мыслима не одна евклидова геометрия , но и другие "геометрии". Второй принцип - это принцип самого построения новых геометрических теорий путём видоизменения и обобщения основных положений евклидовой геометрии. Третий принцип состоит в том, что истинность геометрической теории, в смысле соответствия реальным свойствам пространства, может быть проверена лишь физическим исследованием и не исключено, что такие исследования установят, в этом смысле, неточность евклидовой геометрии. Современная физика подтвердила это. Однако от этого не теряется математическая точность евклидовой геометрии, т.к. она определяется логической состоятельностью (непротиворечивостью) этой геометрии. Точно так же в отношении любой геометрической теории нужно различать их физическую и математическую истинность; первая состоит в проверяемом опытом соответствии действительности, вторая - в логической непротиворечивости. Лобачевский дал, т. о., материалистическую установку философии математик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642960" y="7142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кола́й Ива́нович Лобаче́вский (20 ноября (1 декабря) 1792, Нижний Новгород — 12 (24) февраля 1856, Казань), великий русский математик, создатель геометрии Лобачевского, деятель университетского образования и народного просвещения. Известный английский математик Уильям Клиффорд назвал Лобачевского «Коперником геометри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214960" y="357120"/>
            <a:ext cx="35719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3" descr="343px-Lobachevsky_medal_1895.gif"/>
          <p:cNvPicPr/>
          <p:nvPr/>
        </p:nvPicPr>
        <p:blipFill>
          <a:blip r:embed="rId2"/>
          <a:stretch/>
        </p:blipFill>
        <p:spPr>
          <a:xfrm>
            <a:off x="642960" y="1357200"/>
            <a:ext cx="3429000" cy="5000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5009-0005-reverse.gif"/>
          <p:cNvPicPr/>
          <p:nvPr/>
        </p:nvPicPr>
        <p:blipFill>
          <a:blip r:embed="rId3"/>
          <a:stretch/>
        </p:blipFill>
        <p:spPr>
          <a:xfrm>
            <a:off x="5072040" y="1285920"/>
            <a:ext cx="3714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ометр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одна из самых древних наук, ее возраст исчисляется тысячелетиями. Геометрия (греч. geometria, от ge - Земля и metreo - мерю), раздел математики, изучающий пространственные отношения и формы, а также другие отношений и формы, сходные с пространственными по своей структуре. В геометрии много формул, фигур, теорем, задач, аксиом. Они вечны, так как на них запечатлены великие идеи, не проходящие иде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Древний Египет считается первым государством, оставившим самые ранние математические тексты. Древние греки, достижения которых лежат в основе современной науки, считали себя учениками египтян. Геродот писал: «Египетские жрецы говорили, что царь разделил землю между всеми египтянами, дав каждому по равному прямоугольному участку; из этого он создал себе доходы, приказав ежегодно вносить налог. Если же река отнимала что-нибудь, то царь посылал людей, которые должны.  Измерить участок и уменьшить налог». Первой книгой, содержащей геометрические задачи, считается папирус Райнда (в некоторых источниках Г.Ринла), который датируется ХХ веком до нашей эры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566640" y="-1522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671036"/>
          <p:cNvPicPr/>
          <p:nvPr/>
        </p:nvPicPr>
        <p:blipFill>
          <a:blip r:embed="rId2"/>
          <a:stretch/>
        </p:blipFill>
        <p:spPr>
          <a:xfrm>
            <a:off x="285840" y="121428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история7"/>
          <p:cNvPicPr/>
          <p:nvPr/>
        </p:nvPicPr>
        <p:blipFill>
          <a:blip r:embed="rId3"/>
          <a:stretch/>
        </p:blipFill>
        <p:spPr>
          <a:xfrm>
            <a:off x="684360" y="2852640"/>
            <a:ext cx="137448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кув3"/>
          <p:cNvPicPr/>
          <p:nvPr/>
        </p:nvPicPr>
        <p:blipFill>
          <a:blip r:embed="rId4"/>
          <a:stretch/>
        </p:blipFill>
        <p:spPr>
          <a:xfrm>
            <a:off x="324000" y="4941720"/>
            <a:ext cx="2232000" cy="156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про"/>
          <p:cNvPicPr/>
          <p:nvPr/>
        </p:nvPicPr>
        <p:blipFill>
          <a:blip r:embed="rId5"/>
          <a:stretch/>
        </p:blipFill>
        <p:spPr>
          <a:xfrm>
            <a:off x="2714760" y="1928880"/>
            <a:ext cx="273024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пирамиды"/>
          <p:cNvPicPr/>
          <p:nvPr/>
        </p:nvPicPr>
        <p:blipFill>
          <a:blip r:embed="rId6"/>
          <a:srcRect l="4252" t="5185" r="4252" b="5185"/>
          <a:stretch/>
        </p:blipFill>
        <p:spPr>
          <a:xfrm>
            <a:off x="6357960" y="1071720"/>
            <a:ext cx="2324160" cy="186660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pic>
        <p:nvPicPr>
          <p:cNvPr id="94" name="Picture 11" descr="http://tmn.fio.ru/works/26x/304/images/arxit3.jpg"/>
          <p:cNvPicPr/>
          <p:nvPr/>
        </p:nvPicPr>
        <p:blipFill>
          <a:blip r:embed="rId7"/>
          <a:stretch/>
        </p:blipFill>
        <p:spPr>
          <a:xfrm>
            <a:off x="6000840" y="3071880"/>
            <a:ext cx="2808360" cy="127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0"/>
          <p:cNvPicPr/>
          <p:nvPr/>
        </p:nvPicPr>
        <p:blipFill>
          <a:blip r:embed="rId8"/>
          <a:stretch/>
        </p:blipFill>
        <p:spPr>
          <a:xfrm>
            <a:off x="5500800" y="4714920"/>
            <a:ext cx="3500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4"/>
          <p:cNvSpPr/>
          <p:nvPr/>
        </p:nvSpPr>
        <p:spPr>
          <a:xfrm>
            <a:off x="214200" y="89064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еометрия , по свидетельству греческих историков, была перенесена в Грецию из Египта в 7 в. до н. э. Здесь на протяжении нескольких поколений она складывалась в стройную систему. Процесс этот происходил путём накопления новых геометрических знаний, выяснения связей между разными геометрическими фактами, выработки приёмов доказательств и, наконец, формирования понятий о фигуре, о геометрическом предложении и о доказательстве. Этот процесс привёл, наконец, к качественному скачку. Геометрия превратилась в самостоятельную математическую науку: появились систематические её изложения, где её предложения последовательно доказы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hales01"/>
          <p:cNvPicPr/>
          <p:nvPr/>
        </p:nvPicPr>
        <p:blipFill>
          <a:blip r:embed="rId1"/>
          <a:stretch/>
        </p:blipFill>
        <p:spPr>
          <a:xfrm>
            <a:off x="324000" y="549360"/>
            <a:ext cx="3767040" cy="4537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963720" y="5214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ек до нашей э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286160" y="64296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еликий ученый        Фалес Милетский     основал одну из прекраснейших наук –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геометри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лес Милетский имел титул одного из семи мудрецов Греции, он был поистине первым философом, первым математиком, астрономом и вообще первым по всем наукам в Гре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лес решил следующие зада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дложил способ определения расстояния до корабля на мор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числил высоту египетской пирамиды Хеопса по длине отбрасываемой т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казал равенство углов при основании равнобедренного треуголь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вел понятие движения, в частности поворо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казал второй признак равенства треугольников и впервые применял его в задач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орема Фалеса о равных отрезках, отсекаемых параллельным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прямыми на сторонах угл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дача об измерении высоты пирами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нажды, отправившись по торговым делам в Египет, он задержался там на несколько лет. Случилось так, что фараон пожелал узнать высоту пирамиды, но никто не мог ее определить. Фалес смог легко справиться с задач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брав день и час, когда его собственная тень стала равной его росту, он измерил тень, отбрасываемую пирамидой, и установил, что длина тени от центра основания пирамиды до ее вершины была равна высоте этой пирамиды. Фараон и его приближенные изумились такому достаточно простому решен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нтральное место среди античных трудов по геометрии  занимают составленные около 300 до н. э. «Начала» Евклида. Этот труд более двух тысячелетий считался образцовым изложением в духе аксиоматического метода: все положения выводятся логическим путём из небольшого числа явно указанных и не доказываемых предположений — акси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ev"/>
          <p:cNvPicPr/>
          <p:nvPr/>
        </p:nvPicPr>
        <p:blipFill>
          <a:blip r:embed="rId1"/>
          <a:stretch/>
        </p:blipFill>
        <p:spPr>
          <a:xfrm>
            <a:off x="214200" y="0"/>
            <a:ext cx="3903840" cy="472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no35_12"/>
          <p:cNvPicPr/>
          <p:nvPr/>
        </p:nvPicPr>
        <p:blipFill>
          <a:blip r:embed="rId2"/>
          <a:stretch/>
        </p:blipFill>
        <p:spPr>
          <a:xfrm>
            <a:off x="5857920" y="2143080"/>
            <a:ext cx="3024000" cy="44053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4357800" y="500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чинение Евклида «Начала» почти 2000 лет служило основной книгой, по которой изучали геометр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040" y="48578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«Началах» были систематизированы известные к тому времени геометрические сведения, и геометрия впервые предстала как математическая нау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4:40:54Z</dcterms:created>
  <dc:creator>Татьяна</dc:creator>
  <dc:description/>
  <dc:language>en-US</dc:language>
  <cp:lastModifiedBy>Татьяна</cp:lastModifiedBy>
  <dcterms:modified xsi:type="dcterms:W3CDTF">2013-04-13T15:00:53Z</dcterms:modified>
  <cp:revision>2</cp:revision>
  <dc:subject/>
  <dc:title>История развития геометрии</dc:title>
</cp:coreProperties>
</file>