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6E16-9226-47FF-95F8-B0B23216D4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2E75-DD79-4B5B-8A03-8FBED13A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713D-15CC-47EA-8B9A-82BFA2E2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30E5-8E95-49AA-9BA6-1F3792071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2555-D843-4E88-8F63-0FA7BD33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0DCA-7489-4ED2-AD9C-0B88DE2D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D32A-BA7F-41D8-BA30-6A21AB21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28CE-B8BD-49F0-AAA6-9BB67DDF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3578-7CCF-4440-B6D2-DEE0EC99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334A-4DF9-434C-91BD-6C2A83D7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A3F2-467E-426B-B33C-BCA09287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52EC-7528-453C-95FB-CEED3CB3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1B5D8E-4566-4558-854B-BC6B88DA15A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15920" y="152280"/>
            <a:ext cx="8904240" cy="6600960"/>
            <a:chOff x="115920" y="152280"/>
            <a:chExt cx="8904240" cy="660096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4240" cy="660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3640" cy="64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0" y="659772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razdnichek.info/uploads/posts/2010-04/1271798269_img236.jpg" TargetMode="External"/><Relationship Id="rId3" Type="http://schemas.openxmlformats.org/officeDocument/2006/relationships/hyperlink" Target="http://prazdnichek.info/uploads/posts/2010-04/1271798269_img236.jpg" TargetMode="External"/><Relationship Id="rId4" Type="http://schemas.openxmlformats.org/officeDocument/2006/relationships/hyperlink" Target="http://mymonkeytown.files.wordpress.com/2009/03/monkey_scratchhead1.jpg?w=346&amp;h=432" TargetMode="External"/><Relationship Id="rId5" Type="http://schemas.openxmlformats.org/officeDocument/2006/relationships/hyperlink" Target="http://www.solnet.ee/sol/002/z_071.html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77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  <a:ea typeface="Arial"/>
              </a:rPr>
              <a:t>Как нарисовать обезьян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85264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поэтапного рисования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http://prazdnichek.info/uploads/posts/2010-04/1271798269_img236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езьяна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http://mymonkeytown.files.wordpress.com/2009/03/monkey_scratchhead1.jpg?w=346&amp;h=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гадка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http://www.solnet.ee/sol/002/z_07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V="1" rot="10800000">
            <a:off x="1044720" y="920880"/>
            <a:ext cx="57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ешит всех без обм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тер в построеньи рож! Уморителен! Но все ж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 циркач на нас похож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92720" y="2278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40464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обезьяну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3280" y="3218040"/>
            <a:ext cx="4205520" cy="36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476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Этап 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исуем поэтапно три круга по вертикали с небольшим наклоном влево, верхний(голова) с нижним круги будут немного больше чем круг стоящий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84720" y="2003400"/>
            <a:ext cx="414000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Этап 2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начинаем добавлять к кругам элементы передних, задних лап и морд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28036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33336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Этап 3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чего делаем набросок хвоста в виде извилистой лини, горизонтальными линиями добавляем вторую переднюю лапу, рисуем уши и волосы на голов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87640" y="801720"/>
            <a:ext cx="633744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Этап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наиболее важных. Здесь мы поэтапно прорисовываем каждую деталь. Прорисовываем пальцы, морда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11280" y="735120"/>
            <a:ext cx="6507360" cy="67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260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обезьяну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63640" y="836640"/>
            <a:ext cx="7064280" cy="65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79640" y="692280"/>
            <a:ext cx="60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обезьян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584280"/>
            <a:ext cx="8416800" cy="627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3:12:38Z</dcterms:created>
  <dc:creator>Компас</dc:creator>
  <dc:description/>
  <dc:language>en-US</dc:language>
  <cp:lastModifiedBy>Компас</cp:lastModifiedBy>
  <dcterms:modified xsi:type="dcterms:W3CDTF">2011-07-10T17:22:29Z</dcterms:modified>
  <cp:revision>7</cp:revision>
  <dc:subject/>
  <dc:title>Слайд 1</dc:title>
</cp:coreProperties>
</file>