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9.wmf" ContentType="image/x-wmf"/>
  <Override PartName="/ppt/media/image14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13.jpeg" ContentType="image/jpeg"/>
  <Override PartName="/ppt/media/image30.png" ContentType="image/pn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png" ContentType="image/png"/>
  <Override PartName="/ppt/media/image4.gif" ContentType="image/gif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3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A91-3554-432B-959F-A3009C38A4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bryansk.fio.ru/vipusk/00045/yakovlevvb/index.htm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60F-9A79-40E8-AB34-BF11D2D37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2BD-8491-4220-A923-47C8A8ABDD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A69-AC05-44B4-B0C7-D33EADF8FE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EC02-C59C-419B-B2DA-69DF8A3108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E6D0-49EB-46CA-8FB2-93A42DB059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xxc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8C3F-1844-4335-A8C2-5B432CB9F9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50AF-0B22-429E-BEFC-8AC937D11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07C-D697-4D68-A397-502C77CDE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http://tmn.fio.ru/works/41x/307/cergei%20mihalkow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F3A5-5F19-4721-8D02-7DABCB22E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наугурация Президента – торжественная процедура вступления в должность главы государства. Слово «инаугурация» происходит от латинского «inaugure» – «посвящаю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разных странах мира церемония вступления в должность президента имеет свои особ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ироко известна американская процедура инаугурации, которая послужила примером для многих стран мира. За более чем 200-летнюю историю США с небольшими изменениями она проводилась свыше 50 раз. Первоначально «инаугурация по-американски» представляла собой скромную и краткую церемонию. Сейчас она проводится, без преувеличения, с размахом. Инаугурация вновь избранного Президента США проходит в Вашингтоне, всегда в один и тот же день, 20 января, в полдень, когда официально истекают полномочия предыдущего Президента. Председатель Верховного суда приводит нового Президента к присяге, затем приводится к присяге вице-президент. Этот день отмечается парадом, а также балами, приемами и концер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ий протокол переняли многие страны мира. В большинстве стран дата инаугурации является переходящей, в некоторых она постоянная. В европейских странах церемонии инаугурации, как правило, более скромные и короткие, чем в США. Эталоном для них послужила Франция, где последняя передача власти произошла 17 мая 1995 года, когда Жак Ширак сменил Франсуа Миттерана на посту Президента Республики. В ходе беседы двух президентов уходящий посвятил преемника в государственные тайны, сообщил ему ядерный к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радиционно новый глава государства получает знаки президентского отличия. Заканчивается церемония салютом и краткой речью нового президента. Так происходит инаугурация в странах с республиканской формой правления. В основе своей ритуал заимствован из церемонии коронации монарх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радиция вступления в должность руководителей Российского государства в новейшей истории невелика. Она начинается со вступления в должность Президента СССР М.С.Горбачева. Первый и единственный в истории СССР Президент избран 14 марта 1990 года на III Съезде народных депутатов СССР. В тот же день на съезде М.С.Горбачев принес присяг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Президент России, тогда еще РСФСР, Б.Н.Ельцин избран 12 июня 1991 года всенародным голосованием, а 10 июля на Съезде народных депутатов России избранный Президент вступил в должность. Б.Н.Ельцин принес присягу Президента, после чего прозвучал гимн Российской Федерации, и над резиденцией Президента в Кремле рядом с государственным флагом СССР был поднят государственный флаг РСФСР. С этого момента берет свое начало символика новой Росс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зже появились указы Президента Российской Федерации о штандарте и знаке Президента. Эти символы нашли место при вступлении в должность Б.Н.Ельцина 3 июля 1996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 мая 2000 года состоялась церемония вступления В.В.Путина в должность Президента России, избранного всенародным голосованием в ходе досрочных выборов Президента России 26 марта 2000 года. Подробный отчет об этой церемонии, с фотографиями и видео, Вы найдете </a:t>
            </a:r>
            <a:r>
              <a:rPr b="0" lang="ru-RU" sz="1200" spc="-1" strike="noStrike">
                <a:solidFill>
                  <a:srgbClr val="980000"/>
                </a:solidFill>
                <a:latin typeface="Arial"/>
                <a:ea typeface="Arial"/>
              </a:rPr>
              <a:t>зде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результатам голосования на президентских выборах 14 марта 2004 года В.В.Путин избран Президентом России на второй срок. 7 мая 2004 года в Кремле вновь состоялась церемония его вступления в должность. </a:t>
            </a:r>
            <a:r>
              <a:rPr b="0" lang="ru-RU" sz="1200" spc="-1" strike="noStrike">
                <a:solidFill>
                  <a:srgbClr val="980000"/>
                </a:solidFill>
                <a:latin typeface="Arial"/>
                <a:ea typeface="Arial"/>
              </a:rPr>
              <a:t>Отчет об этой церемонии см. зде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03B-C572-4962-B930-77B358C2C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C22-6591-4A5A-9A84-5EF2367F2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F4B4-8980-49B4-9F93-BD7E14E5F9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C21-64F6-4076-AB13-CBFE074C4B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/>
              </a:rPr>
              <a:t>http://bryansk.fio.ru/vipusk/00045/yakovlevvb/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10A-1D0C-40CA-8D02-D7749FCA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979-E5EC-49B9-AAB2-DA6087C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FD3-1A10-410E-BB75-90D537ED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8CB-3212-48E6-9BDE-8BB61FAF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369-101E-4B44-935A-05C6E0C4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8BE-F0CE-47D5-98ED-B6B0544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258-DFB2-4188-80F8-252F200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4A8-8390-4CB3-AABF-D4FBD122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2F1-0B32-434E-B985-99F8FDAB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FA7-9B31-4AB4-A4A3-3DF7542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455-C626-40F5-B188-75BC071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6B1-738D-4432-BBBD-DA83C18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cff9"/>
            </a:gs>
            <a:gs pos="50000">
              <a:srgbClr val="ffffff"/>
            </a:gs>
            <a:gs pos="100000">
              <a:srgbClr val="c9cf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A35-7700-4B9F-9263-29CF5A354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-76320"/>
            <a:ext cx="9144000" cy="1219320"/>
            <a:chOff x="0" y="-76320"/>
            <a:chExt cx="9144000" cy="1219320"/>
          </a:xfrm>
        </p:grpSpPr>
        <p:pic>
          <p:nvPicPr>
            <p:cNvPr id="6" name="Picture 10" descr="верх"/>
            <p:cNvPicPr/>
            <p:nvPr/>
          </p:nvPicPr>
          <p:blipFill>
            <a:blip r:embed="rId2"/>
            <a:stretch/>
          </p:blipFill>
          <p:spPr>
            <a:xfrm>
              <a:off x="0" y="-76320"/>
              <a:ext cx="1752480" cy="1216080"/>
            </a:xfrm>
            <a:prstGeom prst="rect">
              <a:avLst/>
            </a:prstGeom>
            <a:ln w="9360">
              <a:solidFill>
                <a:srgbClr val="8585e1"/>
              </a:solidFill>
              <a:miter/>
            </a:ln>
          </p:spPr>
        </p:pic>
        <p:pic>
          <p:nvPicPr>
            <p:cNvPr id="7" name="Picture 11" descr="верх1"/>
            <p:cNvPicPr/>
            <p:nvPr/>
          </p:nvPicPr>
          <p:blipFill>
            <a:blip r:embed="rId3"/>
            <a:stretch/>
          </p:blipFill>
          <p:spPr>
            <a:xfrm>
              <a:off x="1676520" y="-76320"/>
              <a:ext cx="7467480" cy="1219320"/>
            </a:xfrm>
            <a:prstGeom prst="rect">
              <a:avLst/>
            </a:prstGeom>
            <a:ln w="9360">
              <a:solidFill>
                <a:srgbClr val="8585e1"/>
              </a:solidFill>
              <a:miter/>
            </a:ln>
          </p:spPr>
        </p:pic>
      </p:grpSp>
      <p:sp>
        <p:nvSpPr>
          <p:cNvPr id="8" name="Text Box 12"/>
          <p:cNvSpPr/>
          <p:nvPr/>
        </p:nvSpPr>
        <p:spPr>
          <a:xfrm>
            <a:off x="7921800" y="907920"/>
            <a:ext cx="18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ww.kremlin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3">
            <a:hlinkClick r:id="rId4" action="ppaction://hlinksldjump"/>
          </p:cNvPr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6.xml"/><Relationship Id="rId3" Type="http://schemas.openxmlformats.org/officeDocument/2006/relationships/slide" Target="slide14.xml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8.png"/><Relationship Id="rId8" Type="http://schemas.openxmlformats.org/officeDocument/2006/relationships/slide" Target="slide14.xml"/><Relationship Id="rId9" Type="http://schemas.openxmlformats.org/officeDocument/2006/relationships/image" Target="../media/image9.wmf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anthem-russia-2000-1.mp3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" Target="slide20.xml"/><Relationship Id="rId8" Type="http://schemas.openxmlformats.org/officeDocument/2006/relationships/slide" Target="slide29.xml"/><Relationship Id="rId9" Type="http://schemas.openxmlformats.org/officeDocument/2006/relationships/slide" Target="slide3.xml"/><Relationship Id="rId10" Type="http://schemas.openxmlformats.org/officeDocument/2006/relationships/image" Target="../media/image5.jpeg"/><Relationship Id="rId11" Type="http://schemas.openxmlformats.org/officeDocument/2006/relationships/slide" Target="slide2.xml"/><Relationship Id="rId12" Type="http://schemas.openxmlformats.org/officeDocument/2006/relationships/slide" Target="slide4.xml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image" Target="../media/image2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1.xml"/><Relationship Id="rId5" Type="http://schemas.openxmlformats.org/officeDocument/2006/relationships/image" Target="../media/image29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" Target="slide14.xml"/><Relationship Id="rId6" Type="http://schemas.openxmlformats.org/officeDocument/2006/relationships/image" Target="../media/image9.wmf"/><Relationship Id="rId7" Type="http://schemas.openxmlformats.org/officeDocument/2006/relationships/image" Target="../media/image30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3.jpeg"/><Relationship Id="rId3" Type="http://schemas.openxmlformats.org/officeDocument/2006/relationships/slide" Target="slide31.xml"/><Relationship Id="rId4" Type="http://schemas.openxmlformats.org/officeDocument/2006/relationships/image" Target="../media/image31.png"/><Relationship Id="rId5" Type="http://schemas.openxmlformats.org/officeDocument/2006/relationships/slide" Target="slide31.xml"/><Relationship Id="rId6" Type="http://schemas.openxmlformats.org/officeDocument/2006/relationships/image" Target="../media/image32.png"/><Relationship Id="rId7" Type="http://schemas.openxmlformats.org/officeDocument/2006/relationships/slide" Target="slide31.xml"/><Relationship Id="rId8" Type="http://schemas.openxmlformats.org/officeDocument/2006/relationships/image" Target="../media/image33.jpeg"/><Relationship Id="rId9" Type="http://schemas.openxmlformats.org/officeDocument/2006/relationships/image" Target="../media/image29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11.xml"/><Relationship Id="rId3" Type="http://schemas.openxmlformats.org/officeDocument/2006/relationships/image" Target="../media/image8.png"/><Relationship Id="rId4" Type="http://schemas.openxmlformats.org/officeDocument/2006/relationships/slide" Target="slide34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1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" Target="slide3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35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8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29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6.xml"/><Relationship Id="rId3" Type="http://schemas.openxmlformats.org/officeDocument/2006/relationships/slide" Target="slide14.xml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8.png"/><Relationship Id="rId8" Type="http://schemas.openxmlformats.org/officeDocument/2006/relationships/slide" Target="slide14.xml"/><Relationship Id="rId9" Type="http://schemas.openxmlformats.org/officeDocument/2006/relationships/image" Target="../media/image9.wmf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E:\!\1\карта1.gif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27976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447920" y="2627280"/>
            <a:ext cx="56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- ГРАЖДАНИН</a:t>
            </a:r>
            <a:endParaRPr b="1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И</a:t>
            </a:r>
            <a:endParaRPr b="1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>
            <a:hlinkClick r:id="rId1" action="ppaction://hlinksldjump"/>
          </p:cNvPr>
          <p:cNvSpPr/>
          <p:nvPr/>
        </p:nvSpPr>
        <p:spPr>
          <a:xfrm>
            <a:off x="2050920" y="2421000"/>
            <a:ext cx="68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икреплённое к древку или шнуру полотнище определённого цвета или нескольких цветов, часто с эмблемой, официальный символ государственной власти, олицетворяет суверенитет государства. Описание флага, как правило, фиксируется в конститу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>
            <a:hlinkClick r:id="rId2" action="ppaction://hlinksldjump"/>
          </p:cNvPr>
          <p:cNvSpPr/>
          <p:nvPr/>
        </p:nvSpPr>
        <p:spPr>
          <a:xfrm>
            <a:off x="2050920" y="43131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мблема государства, города, сословия, рода, изображаемая на флагах, монетах, печатях, государственных и других официальных докумен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>
            <a:hlinkClick r:id="rId3" action="ppaction://hlinksldjump"/>
          </p:cNvPr>
          <p:cNvSpPr/>
          <p:nvPr/>
        </p:nvSpPr>
        <p:spPr>
          <a:xfrm>
            <a:off x="2050920" y="56674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им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жественная песня, принятая как символ государ-ственного или социального един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ОСУДАРСТВЕННАЯ СИМВОЛИК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9280" y="1982880"/>
            <a:ext cx="88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Из словар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rf_g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4038480"/>
            <a:ext cx="949320" cy="114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флаг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9440" y="2492280"/>
            <a:ext cx="131292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Program Files\Common Files\Microsoft Shared\Clipart\cagcat50\EN00354_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5486400"/>
            <a:ext cx="1447920" cy="1133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>
            <a:hlinkClick r:id="rId10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ЛАГ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rusflag"/>
          <p:cNvPicPr/>
          <p:nvPr/>
        </p:nvPicPr>
        <p:blipFill>
          <a:blip r:embed="rId1"/>
          <a:stretch/>
        </p:blipFill>
        <p:spPr>
          <a:xfrm>
            <a:off x="250920" y="2781360"/>
            <a:ext cx="2644560" cy="1762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52280" y="1828800"/>
            <a:ext cx="889344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, состоящее из трех горизонтальных равновеликих полос: верхней - белого, средней - синего, нижней - красного цвето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8120" y="3165480"/>
            <a:ext cx="59436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о бело-сине-красный флаг был утвержден как официальный (государственный) флаг России только накануне коронации Николая II в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89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. Тогда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рас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означал державность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вет Богоматери, под покровительством которой находилась Россия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е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вет свободы и независимост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95400" y="4813200"/>
            <a:ext cx="904860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ет и еще одна «державная»   трактовка   значений   цве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лаг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а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единство трех братских восточно-славянских народ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елый - цвет Белой Руси (Белоруссии), синий - Малороссии (Украины), красный - Великорос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настоящее врем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ще всего (неофициально) используется следующая трактовка значений цветов флага Росси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е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означает мир, чистоту, непорочность, совершенство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цвет веры и верности, постоянства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рас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символизирует энергию, силу, кровь, пролитую за Отечеств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886200" y="2727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значают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цвета флага Росс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РОССИЙСКОГО ФЛА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28600" y="2057400"/>
            <a:ext cx="8610480" cy="1067400"/>
            <a:chOff x="228600" y="2057400"/>
            <a:chExt cx="8610480" cy="1067400"/>
          </a:xfrm>
        </p:grpSpPr>
        <p:pic>
          <p:nvPicPr>
            <p:cNvPr id="130" name="Picture 4" descr="W:\7 ИЮНЯ\Галихан\флаг России.jpg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160020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5"/>
            <p:cNvSpPr/>
            <p:nvPr/>
          </p:nvSpPr>
          <p:spPr>
            <a:xfrm>
              <a:off x="2133720" y="2057400"/>
              <a:ext cx="6705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ервое упоминание о Российском флаге появилось в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1668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оду во времена царствования Алексея Михайловича, отца Петра I. Царь, основательно изучив цвета флагов разных стран, остановился на бело-сине-красном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228600" y="4648320"/>
            <a:ext cx="8534520" cy="1681200"/>
            <a:chOff x="228600" y="4648320"/>
            <a:chExt cx="8534520" cy="1681200"/>
          </a:xfrm>
        </p:grpSpPr>
        <p:pic>
          <p:nvPicPr>
            <p:cNvPr id="133" name="Picture 7" descr="W:\7 ИЮНЯ\Галихан\монархический.gif"/>
            <p:cNvPicPr/>
            <p:nvPr/>
          </p:nvPicPr>
          <p:blipFill>
            <a:blip r:embed="rId2"/>
            <a:stretch/>
          </p:blipFill>
          <p:spPr>
            <a:xfrm>
              <a:off x="228600" y="4800600"/>
              <a:ext cx="1676520" cy="112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4" name="Text Box 8"/>
            <p:cNvSpPr/>
            <p:nvPr/>
          </p:nvSpPr>
          <p:spPr>
            <a:xfrm>
              <a:off x="2209680" y="4648320"/>
              <a:ext cx="655344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1858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году царь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Александр II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учреждает третий, черно-желто-белый флаг для правительственных, казенных и административных учреждений. Его цвета символизировали землю-золото-серебро. Так называемый «монархический» флаг просуществовал до 1883 года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9"/>
          <p:cNvGrpSpPr/>
          <p:nvPr/>
        </p:nvGrpSpPr>
        <p:grpSpPr>
          <a:xfrm>
            <a:off x="228600" y="3276720"/>
            <a:ext cx="8610480" cy="1096920"/>
            <a:chOff x="228600" y="3276720"/>
            <a:chExt cx="8610480" cy="1096920"/>
          </a:xfrm>
        </p:grpSpPr>
        <p:pic>
          <p:nvPicPr>
            <p:cNvPr id="136" name="Picture 10" descr="W:\7 ИЮНЯ\Галихан\андреевский.gif"/>
            <p:cNvPicPr/>
            <p:nvPr/>
          </p:nvPicPr>
          <p:blipFill>
            <a:blip r:embed="rId3"/>
            <a:stretch/>
          </p:blipFill>
          <p:spPr>
            <a:xfrm>
              <a:off x="228600" y="3276720"/>
              <a:ext cx="1581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2133720" y="3441600"/>
              <a:ext cx="670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1712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году над военно-морскими кораблями взвился новый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, «Андреевский»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, флаг - белый с лазоревым крестом, в честь ордена святого апостола Андрея Первозванного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РОССИЙСКОГО ФЛА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304920" y="1981080"/>
            <a:ext cx="8610480" cy="1310760"/>
            <a:chOff x="304920" y="1981080"/>
            <a:chExt cx="8610480" cy="1310760"/>
          </a:xfrm>
        </p:grpSpPr>
        <p:pic>
          <p:nvPicPr>
            <p:cNvPr id="141" name="Picture 4" descr="W:\7 ИЮНЯ\Галихан\флаг России.jpg"/>
            <p:cNvPicPr/>
            <p:nvPr/>
          </p:nvPicPr>
          <p:blipFill>
            <a:blip r:embed="rId1"/>
            <a:stretch/>
          </p:blipFill>
          <p:spPr>
            <a:xfrm>
              <a:off x="304920" y="2057400"/>
              <a:ext cx="175248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5"/>
            <p:cNvSpPr/>
            <p:nvPr/>
          </p:nvSpPr>
          <p:spPr>
            <a:xfrm>
              <a:off x="2362320" y="1981080"/>
              <a:ext cx="6553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Лишь в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1896 году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, накануне коронации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Николая II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, окончательно утверждается национальным бело-сине-красный, Красный цвет означал "державность", синий, вернее, лазоревый - цвет Богоматери, под покровительством которой находилась Россия, и белый - цвет свободы и независимости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6"/>
          <p:cNvGrpSpPr/>
          <p:nvPr/>
        </p:nvGrpSpPr>
        <p:grpSpPr>
          <a:xfrm>
            <a:off x="304920" y="3429000"/>
            <a:ext cx="8534160" cy="1103400"/>
            <a:chOff x="304920" y="3429000"/>
            <a:chExt cx="8534160" cy="1103400"/>
          </a:xfrm>
        </p:grpSpPr>
        <p:pic>
          <p:nvPicPr>
            <p:cNvPr id="144" name="Picture 7" descr="W:\7 ИЮНЯ\Галихан\СССР.gif"/>
            <p:cNvPicPr/>
            <p:nvPr/>
          </p:nvPicPr>
          <p:blipFill>
            <a:blip r:embed="rId2"/>
            <a:stretch/>
          </p:blipFill>
          <p:spPr>
            <a:xfrm>
              <a:off x="304920" y="3429000"/>
              <a:ext cx="17730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8"/>
            <p:cNvSpPr/>
            <p:nvPr/>
          </p:nvSpPr>
          <p:spPr>
            <a:xfrm>
              <a:off x="2362320" y="3581280"/>
              <a:ext cx="64767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устя 24 года, в апреле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1918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ода по предложению Якова Свердлова был учрежден красный флаг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9"/>
          <p:cNvGrpSpPr/>
          <p:nvPr/>
        </p:nvGrpSpPr>
        <p:grpSpPr>
          <a:xfrm>
            <a:off x="304920" y="4800600"/>
            <a:ext cx="8610480" cy="1140480"/>
            <a:chOff x="304920" y="4800600"/>
            <a:chExt cx="8610480" cy="1140480"/>
          </a:xfrm>
        </p:grpSpPr>
        <p:sp>
          <p:nvSpPr>
            <p:cNvPr id="147" name="Text Box 10"/>
            <p:cNvSpPr/>
            <p:nvPr/>
          </p:nvSpPr>
          <p:spPr>
            <a:xfrm>
              <a:off x="2362320" y="4873680"/>
              <a:ext cx="6553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августе 1991 года, когда был снят со здания Верховного Совета красный флаг, заменить его оказалось нечем. И тогда </a:t>
              </a:r>
              <a:r>
                <a:rPr b="0" lang="ru-RU" sz="1600" spc="-1" strike="noStrike">
                  <a:solidFill>
                    <a:srgbClr val="cc3300"/>
                  </a:solidFill>
                  <a:latin typeface="Arial"/>
                </a:rPr>
                <a:t>22 августа 1991 года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над известным зданием на Краснопресненской набережной был поднят бело-сине-красный флаг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11" descr="W:\7 ИЮНЯ\Галихан\флаг России.jpg"/>
            <p:cNvPicPr/>
            <p:nvPr/>
          </p:nvPicPr>
          <p:blipFill>
            <a:blip r:embed="rId3"/>
            <a:stretch/>
          </p:blipFill>
          <p:spPr>
            <a:xfrm>
              <a:off x="304920" y="4800600"/>
              <a:ext cx="175248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Rectangle 13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ИМН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724280" y="1752480"/>
            <a:ext cx="457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я - священная наша держа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я - любимая наша стра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гучая воля, великая слав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вое достоянье на все времена!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пев: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авься, Отечество наше свободное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ратских народов союз вековой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ками данная мудрость народная!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авься, страна! Мы гордимся тобо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 южных морей до полярного кра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кинулись наши леса и пол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на ты на свете! Одна ты такая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ранимая Богом родная земля!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пе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Широкий простор для мечты и для жизн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рядущие нам открывают г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м силу дает наша верность Отчизн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 было, так есть и так будет всегда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1828800"/>
            <a:ext cx="449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0101"/>
                </a:solidFill>
                <a:latin typeface="Arial"/>
                <a:ea typeface="Arial"/>
              </a:rPr>
              <a:t>Музыка - Георгия Александрова, новый текст - Сергея Михалкова</a:t>
            </a:r>
            <a:r>
              <a:rPr b="0" lang="ru-RU" sz="1400" spc="-1" strike="noStrike">
                <a:solidFill>
                  <a:srgbClr val="700101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700101"/>
                </a:solidFill>
                <a:latin typeface="Arial"/>
                <a:ea typeface="Arial"/>
              </a:rPr>
              <a:t>Утвержден Указом Президента Российской Федерации от </a:t>
            </a:r>
            <a:r>
              <a:rPr b="1" lang="ru-RU" sz="1400" spc="-1" strike="noStrike">
                <a:solidFill>
                  <a:srgbClr val="700101"/>
                </a:solidFill>
                <a:latin typeface="Arial"/>
                <a:ea typeface="Arial"/>
              </a:rPr>
              <a:t>30 декабря 2000 года № 2110</a:t>
            </a:r>
            <a:r>
              <a:rPr b="1" lang="ru-RU" sz="1400" spc="-1" strike="noStrike">
                <a:solidFill>
                  <a:srgbClr val="70010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E:\!\Гражданин\image002_4.jpg"/>
          <p:cNvPicPr/>
          <p:nvPr/>
        </p:nvPicPr>
        <p:blipFill>
          <a:blip r:embed="rId1"/>
          <a:srcRect l="0" t="7405" r="0" b="1853"/>
          <a:stretch/>
        </p:blipFill>
        <p:spPr>
          <a:xfrm>
            <a:off x="685800" y="2819520"/>
            <a:ext cx="363996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10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ИМН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04920" y="1752480"/>
            <a:ext cx="86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официальная попытка создать официальный российский гимн датируется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83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ом, когда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Николай 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елел сочинить его группе поэтов и композиторов. До этого торжественные события сопровождались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церковными песнопени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при Петре Великом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оенными марш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же в конце царствования первого императора, а затем в правление его дочери Елизаветы Петровны начинает использоваться мелодия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нглийского гимна «Боже, храни корол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конце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XVIII в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ней начинает соперничать торжественная песня композитора Дмитрия Бортнянского «Славься», и такое двойственное положение сохраняется до времен Никол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04920" y="3956040"/>
            <a:ext cx="6019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83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у по указанию императора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Николая 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стоялся своего рода закрытый конкурс на новый гимн России. Из поэтов в конкурсе участвовали Нестор Кукольник, Василий Жуковский и некоторые другие, из композиторов - Михаил Глинка, Алексей Львов и пр. В итоге царю угодили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Львов и Жуков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о-первых, звучит как молитва, гимн так и назывался –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«Молитва русского народ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во-вторых, мелодия простая, легко запоминающаяся, а это все любят; в-третьих, текст подобен гимнам европейских монарх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E:\!\1812\Николай1.jpg"/>
          <p:cNvPicPr/>
          <p:nvPr/>
        </p:nvPicPr>
        <p:blipFill>
          <a:blip r:embed="rId2"/>
          <a:stretch/>
        </p:blipFill>
        <p:spPr>
          <a:xfrm>
            <a:off x="6858000" y="3657600"/>
            <a:ext cx="1798560" cy="2209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60" name="Text Box 8"/>
          <p:cNvSpPr/>
          <p:nvPr/>
        </p:nvSpPr>
        <p:spPr>
          <a:xfrm>
            <a:off x="6629400" y="59436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ператор Николай I.</a:t>
            </a:r>
            <a:br>
              <a:rPr sz="1600"/>
            </a:b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еизвестный художн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219320" y="2814480"/>
            <a:ext cx="35812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оже, Царя хран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льный, державный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арствуй на славу нам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арствуй на страх врагам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арь православный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оже, Царя храни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оже, Царя храни!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авному долги дн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й на земли!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рдых смирителю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абых хранителю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х утешителю -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ё ниспошли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029200" y="2631960"/>
            <a:ext cx="2971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водержавную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сь Православную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оже, храни!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арство ей стройное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иле спокойное, -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 ж недостойное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чь отжени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, провидение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лагословени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м ниспошли!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 благу стремление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частье смирение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корби терпени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й на земли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80880" y="1828800"/>
            <a:ext cx="85345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же, Царя храни!</a:t>
            </a:r>
            <a:br>
              <a:rPr sz="24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узыка - Алексея Львова, текст - Василия Жуковск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ИМН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ИМН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336760"/>
            <a:ext cx="81532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ый в 1833 году гимн просуществовал до Февральской революции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91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Тогда в качестве гимна стали использовать мелодию «Марсельезы», главной песни Великой французской революции и гимна Франции. Впрочем, слова были другие - не перевод, но не менее революционные: «Отречемся от старого мира». Эта песня оставалась российским гимном и в первые месяцы советской вла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мену ей пришел «Интернационал», использовавшийся в качестве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гимна РСФСР и СССР до 1 января 194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гда прозвучал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гимн Александрова на стихи Михалкова и Эль-Регистана, созданный еще в 1936 г. как «Гимн партии большевик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1944 году был написан новый вариант слов и, по утверждению музыковедов, в двух местах подправлена мелод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XX съезда КПСС текст, в котором несколько раз упоминался Сталин, отошел на задний план, остроумцы даже называли гимн «песней без слов». Очередной, поправленный теми же авторами вариант слов утвердился в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97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у после принятия новой Конституции ССС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тские гим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6320" y="2971800"/>
            <a:ext cx="50292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юз нерушимый республик свободны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лотила навеки великая Рус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 здравствует созданный волей народ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ый, могучий Советский Союз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пев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ружбы народов надежный оплот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тия Ленина - сила народная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 к торжеству коммунизма ведет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343400" y="2895480"/>
            <a:ext cx="48006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зь грозы сияло нам солнце свобод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енин Великий нам путь озар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авое дело он поднял народ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руд и на подвиги нас вдохновил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пе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беде бессмертных идей коммунизм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видим грядущее нашей стран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расному знамени славой отчиз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будем всегда беззаветно верн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ИМН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905120" y="1905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тские гим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" y="23446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Музыка - Георгия Александрова,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">
            <a:hlinkClick r:id="rId2"/>
          </p:cNvPr>
          <p:cNvSpPr/>
          <p:nvPr/>
        </p:nvSpPr>
        <p:spPr>
          <a:xfrm>
            <a:off x="1295280" y="5715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8406"/>
                </a:moveTo>
                <a:lnTo>
                  <a:pt x="9575" y="8406"/>
                </a:lnTo>
                <a:lnTo>
                  <a:pt x="13997" y="3794"/>
                </a:lnTo>
                <a:lnTo>
                  <a:pt x="13997" y="17806"/>
                </a:lnTo>
                <a:lnTo>
                  <a:pt x="9575" y="13194"/>
                </a:lnTo>
                <a:lnTo>
                  <a:pt x="5145" y="13194"/>
                </a:lnTo>
                <a:close/>
              </a:path>
              <a:path fill="darken" w="24303" h="21600">
                <a:moveTo>
                  <a:pt x="15650" y="10800"/>
                </a:moveTo>
                <a:lnTo>
                  <a:pt x="19158" y="10800"/>
                </a:lnTo>
              </a:path>
              <a:path fill="darken" w="24303" h="21600">
                <a:moveTo>
                  <a:pt x="15650" y="8406"/>
                </a:moveTo>
                <a:lnTo>
                  <a:pt x="19158" y="5639"/>
                </a:lnTo>
              </a:path>
              <a:path fill="darken" w="24303" h="21600">
                <a:moveTo>
                  <a:pt x="15650" y="13194"/>
                </a:moveTo>
                <a:lnTo>
                  <a:pt x="19158" y="15961"/>
                </a:lnTo>
              </a:path>
            </a:pathLst>
          </a:custGeom>
          <a:gradFill rotWithShape="0">
            <a:gsLst>
              <a:gs pos="0">
                <a:srgbClr val="8585e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ИМН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0880" y="19051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9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, спустя почти 200 лет, мелодия Глинки все-таки стала гимном новой, демократической России.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1 декабря 199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ом президента Ельцина было утверждено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ложение о Государственном гимне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основании которого государственным гимном являлась мелодия, созданная на основе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«Патриотической песн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7200" y="3429000"/>
            <a:ext cx="5486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закона «О государственном гимне РФ» в целом принят Государственной Думой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8 декабря 200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20 декабря 200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лоди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еор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Александ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новь стала гимном Российской Федерации. Автором слов во второй раз стал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ергей Михал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8" descr="E:\Михалков"/>
          <p:cNvPicPr/>
          <p:nvPr/>
        </p:nvPicPr>
        <p:blipFill>
          <a:blip r:embed="rId2"/>
          <a:stretch/>
        </p:blipFill>
        <p:spPr>
          <a:xfrm>
            <a:off x="6400800" y="3200400"/>
            <a:ext cx="2116080" cy="3098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3581280" y="5881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ргей Михал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E:\!\1\карта1.gif"/>
          <p:cNvPicPr/>
          <p:nvPr/>
        </p:nvPicPr>
        <p:blipFill>
          <a:blip r:embed="rId1"/>
          <a:stretch/>
        </p:blipFill>
        <p:spPr>
          <a:xfrm>
            <a:off x="4343400" y="3733920"/>
            <a:ext cx="480060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E:\!\Грибы\BALL.GIF"/>
          <p:cNvPicPr/>
          <p:nvPr/>
        </p:nvPicPr>
        <p:blipFill>
          <a:blip r:embed="rId2"/>
          <a:stretch/>
        </p:blipFill>
        <p:spPr>
          <a:xfrm>
            <a:off x="2209680" y="2209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>
            <a:hlinkClick r:id="rId3" action="ppaction://hlinksldjump"/>
          </p:cNvPr>
          <p:cNvSpPr/>
          <p:nvPr/>
        </p:nvSpPr>
        <p:spPr>
          <a:xfrm>
            <a:off x="2666880" y="26668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СУДАРСТВЕННАЯ СИМВОЛ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E:\!\Грибы\BALL.GIF"/>
          <p:cNvPicPr/>
          <p:nvPr/>
        </p:nvPicPr>
        <p:blipFill>
          <a:blip r:embed="rId4"/>
          <a:stretch/>
        </p:blipFill>
        <p:spPr>
          <a:xfrm>
            <a:off x="2209680" y="2743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!\Грибы\BALL.GIF"/>
          <p:cNvPicPr/>
          <p:nvPr/>
        </p:nvPicPr>
        <p:blipFill>
          <a:blip r:embed="rId5"/>
          <a:stretch/>
        </p:blipFill>
        <p:spPr>
          <a:xfrm>
            <a:off x="2209680" y="3657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:\!\Грибы\BALL.GIF"/>
          <p:cNvPicPr/>
          <p:nvPr/>
        </p:nvPicPr>
        <p:blipFill>
          <a:blip r:embed="rId6"/>
          <a:stretch/>
        </p:blipFill>
        <p:spPr>
          <a:xfrm>
            <a:off x="2209680" y="4114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>
            <a:hlinkClick r:id="rId7" action="ppaction://hlinksldjump"/>
          </p:cNvPr>
          <p:cNvSpPr/>
          <p:nvPr/>
        </p:nvSpPr>
        <p:spPr>
          <a:xfrm>
            <a:off x="2666880" y="40384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НАКОМСТВО С ПРЕЗИДЕН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7632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Я – ГРАЖДАНИН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>
            <a:hlinkClick r:id="rId8" action="ppaction://hlinksldjump"/>
          </p:cNvPr>
          <p:cNvSpPr/>
          <p:nvPr/>
        </p:nvSpPr>
        <p:spPr>
          <a:xfrm>
            <a:off x="2666880" y="4495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>
            <a:hlinkClick r:id="rId9" action="ppaction://hlinksldjump"/>
          </p:cNvPr>
          <p:cNvSpPr/>
          <p:nvPr/>
        </p:nvSpPr>
        <p:spPr>
          <a:xfrm>
            <a:off x="2666880" y="21337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ОЙ ЗАКОН ГОСУДАР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E:\!\ученик1.jpg"/>
          <p:cNvPicPr/>
          <p:nvPr/>
        </p:nvPicPr>
        <p:blipFill>
          <a:blip r:embed="rId10"/>
          <a:stretch/>
        </p:blipFill>
        <p:spPr>
          <a:xfrm>
            <a:off x="304920" y="4267080"/>
            <a:ext cx="1714320" cy="1943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6">
            <a:hlinkClick r:id="rId1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>
            <a:hlinkClick r:id="rId12" action="ppaction://hlinksldjump"/>
          </p:cNvPr>
          <p:cNvSpPr/>
          <p:nvPr/>
        </p:nvSpPr>
        <p:spPr>
          <a:xfrm>
            <a:off x="2666880" y="31240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СУДАРСТВЕННЫЙ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8" descr="E:\!\Грибы\BALL.GIF"/>
          <p:cNvPicPr/>
          <p:nvPr/>
        </p:nvPicPr>
        <p:blipFill>
          <a:blip r:embed="rId13"/>
          <a:stretch/>
        </p:blipFill>
        <p:spPr>
          <a:xfrm>
            <a:off x="2209680" y="3200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E:\!\Грибы\BALL.GIF"/>
          <p:cNvPicPr/>
          <p:nvPr/>
        </p:nvPicPr>
        <p:blipFill>
          <a:blip r:embed="rId14"/>
          <a:stretch/>
        </p:blipFill>
        <p:spPr>
          <a:xfrm>
            <a:off x="2209680" y="45720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0">
            <a:hlinkClick r:id="rId15" action="ppaction://hlinksldjump"/>
          </p:cNvPr>
          <p:cNvSpPr/>
          <p:nvPr/>
        </p:nvSpPr>
        <p:spPr>
          <a:xfrm>
            <a:off x="2666880" y="35956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ИСЛЕННОСТЬ НАСЕЛЕНИЯ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04920" y="5410080"/>
            <a:ext cx="861048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лянусь при осуществлении полномочий Президента Российской Федераци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важ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охранять права и свободы человека и гражданина, соблюдать и защищать Конституцию Российской Федерации, защищать суверенитет и независимость, безопасность и целостность государства, верно служить народу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3300"/>
                </a:solidFill>
                <a:uFillTx/>
                <a:latin typeface="Verdana"/>
                <a:hlinkClick r:id="rId1" action="ppaction://hlinksldjump"/>
              </a:rPr>
              <a:t>Присяга Президента Росс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ЗИДЕНТ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7400" y="1828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>
            <a:hlinkClick r:id="rId2" action="ppaction://hlinksldjump"/>
          </p:cNvPr>
          <p:cNvSpPr/>
          <p:nvPr/>
        </p:nvSpPr>
        <p:spPr>
          <a:xfrm>
            <a:off x="457200" y="4967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ладимир Владимирович Путин принимает присягу, 7 мая 200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9" descr="E:\!\1\byfuehfwbz.jpg"/>
          <p:cNvPicPr/>
          <p:nvPr/>
        </p:nvPicPr>
        <p:blipFill>
          <a:blip r:embed="rId3"/>
          <a:stretch/>
        </p:blipFill>
        <p:spPr>
          <a:xfrm>
            <a:off x="1981080" y="1828800"/>
            <a:ext cx="4648320" cy="3105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28600" y="1752480"/>
            <a:ext cx="39625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Клянусь при осуществлении полномочий Президента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...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  <a:ea typeface="Tahoma"/>
              </a:rPr>
              <a:t>Кляну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 - обеща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Пр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- это значит "во время". Осуществлении - от глагола осуществить - то есть сделать существующим. Например, можно осуществить свои меч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Полномочия президент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это вся сила и власть, которую дали президенту граждане Российской Федерации, выбрав его главой своего госуда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Что же обещает президент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Уважать и охраня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- Президент обещает, что не будет нарушать сам и не позволит никому другому нарушать...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Чт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П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рава и свободы человека и граждани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- это значит, что Президент обещает уважать и охранять не только права и свободы граждан нашего государств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н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 общепризн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О ОБЕЩАЕТ ПРЕЗИДЕН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8320" y="1752480"/>
            <a:ext cx="42670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во всём мире права и свободы любого челове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облюдать и защищать Конституцию Российской Федерации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то есть, Президент обещает, что ни один закон принятый в нашей стране, ни одно правило висящее, где-нибудь на стене в школе нашей страны не будет противоречить Конститу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ащищать суверенитет и независимость, безопасность и целостность государств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это значит, что президент обещает заботиться о том, чтобы у других государств не появилась возможность как-нибудь обижать наше. Например, возможность приказывать нашему государству, что ему делать или чего не делать. Или возможность отнять у нашего государства какой-нибудь горо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И самое последнее обещание в присяг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ahoma"/>
              </a:rPr>
              <a:t>Верно служить народу - то есть Президент обещает выполнять свою клятв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ИМВОЛЫ ПРЕЗИДЕНТСКОЙ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2057400"/>
          <a:ext cx="9144000" cy="923760"/>
        </p:xfrm>
        <a:graphic>
          <a:graphicData uri="http://schemas.openxmlformats.org/drawingml/2006/table">
            <a:tbl>
              <a:tblPr/>
              <a:tblGrid>
                <a:gridCol w="3021120"/>
                <a:gridCol w="2741400"/>
                <a:gridCol w="3381480"/>
              </a:tblGrid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тандарт (флаг) Президент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к Президента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пециально изготовленный единственный экземпляр официального текста Конституции Р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Picture 3" descr="Символы_флаг"/>
          <p:cNvPicPr/>
          <p:nvPr/>
        </p:nvPicPr>
        <p:blipFill>
          <a:blip r:embed="rId1"/>
          <a:srcRect l="12064" t="0" r="17750" b="0"/>
          <a:stretch/>
        </p:blipFill>
        <p:spPr>
          <a:xfrm>
            <a:off x="609480" y="2895480"/>
            <a:ext cx="177336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Символы_знак"/>
          <p:cNvPicPr/>
          <p:nvPr/>
        </p:nvPicPr>
        <p:blipFill>
          <a:blip r:embed="rId2"/>
          <a:stretch/>
        </p:blipFill>
        <p:spPr>
          <a:xfrm>
            <a:off x="3581280" y="2895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E:\!\Гражданин\конституц.jpg"/>
          <p:cNvPicPr/>
          <p:nvPr/>
        </p:nvPicPr>
        <p:blipFill>
          <a:blip r:embed="rId3"/>
          <a:stretch/>
        </p:blipFill>
        <p:spPr>
          <a:xfrm>
            <a:off x="6553080" y="289548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1"/>
          <p:cNvSpPr/>
          <p:nvPr/>
        </p:nvSpPr>
        <p:spPr>
          <a:xfrm>
            <a:off x="152280" y="5181480"/>
            <a:ext cx="8915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мволами президентской власти в Российской Федерации являются ш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тандарт Президента Российской Федерации, Знак Президента Российской Федерации и специальный экземпляр текста Конституции Российской Федерац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Эти символы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ередаются вновь избранному Президенту Российской Федерации во время церемонии вступления в должность Президента Российской Федерации после принесения им присяги на специальном экземпляре текста Конституции Российской Федераци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3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:\!\1\Символы.jpg"/>
          <p:cNvPicPr/>
          <p:nvPr/>
        </p:nvPicPr>
        <p:blipFill>
          <a:blip r:embed="rId1"/>
          <a:stretch/>
        </p:blipFill>
        <p:spPr>
          <a:xfrm>
            <a:off x="228600" y="1905120"/>
            <a:ext cx="4800600" cy="32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E:\!\1\erf.jpg"/>
          <p:cNvPicPr/>
          <p:nvPr/>
        </p:nvPicPr>
        <p:blipFill>
          <a:blip r:embed="rId2"/>
          <a:stretch/>
        </p:blipFill>
        <p:spPr>
          <a:xfrm>
            <a:off x="4495680" y="3733920"/>
            <a:ext cx="4343400" cy="2901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0" y="1295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ИМВОЛЫ ПРЕЗИДЕНТСКОЙ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181480" y="1828800"/>
            <a:ext cx="39625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Кремль, Большой Кремлевский дворец, Андреевский з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Торжественная церемония вступления 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утина в должность Президента России. Вносятся Конституция России и Знак Президента Рос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04920" y="5334120"/>
            <a:ext cx="40384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Кремль, Большой Кремлевский дворец, Андреевский з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Торжественная церемония вступления Владимира Путина в должность Президента России. Присяга народу Рос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>
            <a:hlinkClick r:id="rId3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7543800" y="38862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04920" y="4724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ИМВОЛЫ ПРЕЗИДЕНТСКОЙ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6360" y="1844640"/>
          <a:ext cx="9180360" cy="924120"/>
        </p:xfrm>
        <a:graphic>
          <a:graphicData uri="http://schemas.openxmlformats.org/drawingml/2006/table">
            <a:tbl>
              <a:tblPr/>
              <a:tblGrid>
                <a:gridCol w="3031920"/>
                <a:gridCol w="2754360"/>
                <a:gridCol w="3394080"/>
              </a:tblGrid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тандарт (флаг) Президента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Президента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о изготовленный единственный экземпляр официального текста Конституции Р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40" descr="Символы_флаг"/>
          <p:cNvPicPr/>
          <p:nvPr/>
        </p:nvPicPr>
        <p:blipFill>
          <a:blip r:embed="rId1"/>
          <a:srcRect l="12064" t="0" r="17750" b="0"/>
          <a:stretch/>
        </p:blipFill>
        <p:spPr>
          <a:xfrm>
            <a:off x="304920" y="2590920"/>
            <a:ext cx="3089160" cy="35845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1"/>
          <p:cNvSpPr/>
          <p:nvPr/>
        </p:nvSpPr>
        <p:spPr>
          <a:xfrm>
            <a:off x="3733920" y="2590920"/>
            <a:ext cx="515916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Штандарт (флаг) Президента Росс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едставляет собой квадратное полотнище из трех равновеликих горизонтальных полос: верхней - белого, средней - синего и нижней - красного цветов (цвета Государственного флага России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центре - золотое изображение Государственного герба России. Полотнище окаймлено золотой бахромо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древке Штандарта крепится серебряная скоба с фамилией, именем и отчеством Президента России и датами его пребывания на этом посту.  Древко Штандарта увенчано металлическим навершием (крепится, значит, наверху)  в виде копь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тандарт Президента России устанавливается в его рабочем кабинете, а дубликат Штандарта поднимается над резиденцией Президента в Московском Кремле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5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304920" y="5867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ИМВОЛЫ ПРЕЗИДЕНТСКОЙ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152280" y="1844640"/>
          <a:ext cx="9180360" cy="924120"/>
        </p:xfrm>
        <a:graphic>
          <a:graphicData uri="http://schemas.openxmlformats.org/drawingml/2006/table">
            <a:tbl>
              <a:tblPr/>
              <a:tblGrid>
                <a:gridCol w="3031920"/>
                <a:gridCol w="2754360"/>
                <a:gridCol w="3394080"/>
              </a:tblGrid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дарт (флаг) Президента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к Президента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о изготовленный единственный экземпляр официального текста Конституции Р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7"/>
          <p:cNvSpPr/>
          <p:nvPr/>
        </p:nvSpPr>
        <p:spPr>
          <a:xfrm>
            <a:off x="4356000" y="278136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8" descr="Символы_знак"/>
          <p:cNvPicPr/>
          <p:nvPr/>
        </p:nvPicPr>
        <p:blipFill>
          <a:blip r:embed="rId1"/>
          <a:stretch/>
        </p:blipFill>
        <p:spPr>
          <a:xfrm>
            <a:off x="380880" y="251460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9"/>
          <p:cNvSpPr/>
          <p:nvPr/>
        </p:nvSpPr>
        <p:spPr>
          <a:xfrm>
            <a:off x="3886200" y="2819520"/>
            <a:ext cx="502920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Знак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з золота представляет собой равноконечный крест с расширяющимися концами. Расстояние между концами креста - 60 мм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лицевой стороне креста в центре - накладное изображение Государственного герба России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оборотной стороне креста посередине - круглый медальон, по окружности которого - девиз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: "Польза, честь и слава"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Цепь знака из золота, серебра и эмали состоит из 17 звеньев, 9 из которых - в виде изображения Государственного герба России, 8 - в виде круглых розеток с девизом: 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"Польза, честь и слава"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76320" y="5791320"/>
            <a:ext cx="899136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оборотной стороне звеньев цепи знака помещаются накладки, покрытые белой эмалью, на которых золотыми буквами выгравированы фамилия, имя, отчество каждого Президента России и год его вступления в должность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4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380880" y="5334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ИМВОЛЫ ПРЕЗИДЕНТСКОЙ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844640"/>
          <a:ext cx="8820000" cy="858960"/>
        </p:xfrm>
        <a:graphic>
          <a:graphicData uri="http://schemas.openxmlformats.org/drawingml/2006/table">
            <a:tbl>
              <a:tblPr/>
              <a:tblGrid>
                <a:gridCol w="2912760"/>
                <a:gridCol w="2646360"/>
                <a:gridCol w="326088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дарт (флаг) Президент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Президен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пециально изготовленный единственный экземпляр официального текста Конституции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15"/>
          <p:cNvSpPr/>
          <p:nvPr/>
        </p:nvSpPr>
        <p:spPr>
          <a:xfrm>
            <a:off x="3809880" y="2727360"/>
            <a:ext cx="510552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казом Президента Российской Федерации от 5 августа 1996 года № 1138 установлено, что специально изготовленный 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единственный экземпляр официального текста Конституции Росс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официальным символом президентской вла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вступлении вновь избранного Президента России в должность Президент России приносит присягу на специальном экземпляре текста Конституции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циальный экземпляр текста Конституции России вместе с 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Штандартом (флагом) Президента Росс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500" spc="-1" strike="noStrike">
                <a:solidFill>
                  <a:srgbClr val="cc3300"/>
                </a:solidFill>
                <a:latin typeface="Arial"/>
              </a:rPr>
              <a:t>Знаком Президента Росс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ередается вновь избранному Президенту России во время процедуры вступления в должность Президента России после принесения им присяги на специальном экземпляре текста Конституци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6" descr="E:\!\Гражданин\конституц.jpg"/>
          <p:cNvPicPr/>
          <p:nvPr/>
        </p:nvPicPr>
        <p:blipFill>
          <a:blip r:embed="rId1"/>
          <a:stretch/>
        </p:blipFill>
        <p:spPr>
          <a:xfrm>
            <a:off x="304920" y="2514600"/>
            <a:ext cx="3265200" cy="4114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8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362320" y="6278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ЗИДЕНТСКИЙ ПОЛ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E:\!\1\полк2.jpg"/>
          <p:cNvPicPr/>
          <p:nvPr/>
        </p:nvPicPr>
        <p:blipFill>
          <a:blip r:embed="rId1"/>
          <a:stretch/>
        </p:blipFill>
        <p:spPr>
          <a:xfrm>
            <a:off x="304920" y="1981080"/>
            <a:ext cx="4495680" cy="3003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E:\!\1\полк.bmp"/>
          <p:cNvPicPr/>
          <p:nvPr/>
        </p:nvPicPr>
        <p:blipFill>
          <a:blip r:embed="rId2"/>
          <a:stretch/>
        </p:blipFill>
        <p:spPr>
          <a:xfrm>
            <a:off x="4495680" y="3683160"/>
            <a:ext cx="4381560" cy="29271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4952880" y="196056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резидента России есть свой полк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зидентский (кремлевский) полк - уникальная воинская часть. О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зв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еспе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безопасно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ервых лиц государства и сохранно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кремлевских ценнос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914400" y="5376960"/>
            <a:ext cx="3657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Кремль, Соборная площад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мотр Президентского пол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>
            <a:hlinkClick r:id="rId3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724280" y="62373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762120" y="4572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ЗИДЕНТСКИЙ ОРКЕСТ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E:\!\1\оркестр.bmp"/>
          <p:cNvPicPr/>
          <p:nvPr/>
        </p:nvPicPr>
        <p:blipFill>
          <a:blip r:embed="rId1"/>
          <a:stretch/>
        </p:blipFill>
        <p:spPr>
          <a:xfrm>
            <a:off x="1828800" y="1905120"/>
            <a:ext cx="5638680" cy="3767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457200" y="5791320"/>
            <a:ext cx="8305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зидентский оркестр – главный музыкальный коллектив при проведении официальных мероприятий государственного знач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Полный состав Президентского оркестра в Андреевском зале Большого Кремлевского дворц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72200" y="5334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33520" y="198108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Символами государства являю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бери правильный ответ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>
            <a:hlinkClick r:id="rId1" action="ppaction://hlinksldjump"/>
          </p:cNvPr>
          <p:cNvSpPr/>
          <p:nvPr/>
        </p:nvSpPr>
        <p:spPr>
          <a:xfrm>
            <a:off x="1295280" y="31240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, герб, конститу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>
            <a:hlinkClick r:id="rId2" action="ppaction://hlinksldjump"/>
          </p:cNvPr>
          <p:cNvSpPr/>
          <p:nvPr/>
        </p:nvSpPr>
        <p:spPr>
          <a:xfrm>
            <a:off x="1295280" y="3595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президента, флаг, герб, конститу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>
            <a:hlinkClick r:id="rId3" action="ppaction://hlinksldjump"/>
          </p:cNvPr>
          <p:cNvSpPr/>
          <p:nvPr/>
        </p:nvSpPr>
        <p:spPr>
          <a:xfrm>
            <a:off x="1295280" y="39765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, герб, знак президен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>
            <a:hlinkClick r:id="rId4" action="ppaction://hlinksldjump"/>
          </p:cNvPr>
          <p:cNvSpPr/>
          <p:nvPr/>
        </p:nvSpPr>
        <p:spPr>
          <a:xfrm>
            <a:off x="1295280" y="4433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, герб, гим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1"/>
          <p:cNvGrpSpPr/>
          <p:nvPr/>
        </p:nvGrpSpPr>
        <p:grpSpPr>
          <a:xfrm>
            <a:off x="5943600" y="3886200"/>
            <a:ext cx="2666880" cy="2057400"/>
            <a:chOff x="5943600" y="3886200"/>
            <a:chExt cx="2666880" cy="2057400"/>
          </a:xfrm>
        </p:grpSpPr>
        <p:pic>
          <p:nvPicPr>
            <p:cNvPr id="248" name="Picture 9" descr="E:\Мои документы\СИПКРО\Пособия\Пособия\Html_2\html2\pic\prav31.gif"/>
            <p:cNvPicPr/>
            <p:nvPr/>
          </p:nvPicPr>
          <p:blipFill>
            <a:blip r:embed="rId5"/>
            <a:stretch/>
          </p:blipFill>
          <p:spPr>
            <a:xfrm>
              <a:off x="5943600" y="4800600"/>
              <a:ext cx="10666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10"/>
            <p:cNvSpPr/>
            <p:nvPr/>
          </p:nvSpPr>
          <p:spPr>
            <a:xfrm>
              <a:off x="6705720" y="3886200"/>
              <a:ext cx="1904760" cy="914400"/>
            </a:xfrm>
            <a:prstGeom prst="wedgeRoundRectCallout">
              <a:avLst>
                <a:gd name="adj1" fmla="val -43518"/>
                <a:gd name="adj2" fmla="val 7326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Твой ответ, дружок?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1066680" y="5791320"/>
            <a:ext cx="4648320" cy="304560"/>
            <a:chOff x="1066680" y="5791320"/>
            <a:chExt cx="4648320" cy="304560"/>
          </a:xfrm>
        </p:grpSpPr>
        <p:sp>
          <p:nvSpPr>
            <p:cNvPr id="251" name="Line 13"/>
            <p:cNvSpPr/>
            <p:nvPr/>
          </p:nvSpPr>
          <p:spPr>
            <a:xfrm>
              <a:off x="106668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"/>
            <p:cNvSpPr/>
            <p:nvPr/>
          </p:nvSpPr>
          <p:spPr>
            <a:xfrm>
              <a:off x="175248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>
              <a:off x="228600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16">
            <a:hlinkClick r:id="rId6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СТИТУЦИЯ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E:\!\Гражданин\конституц.jpg"/>
          <p:cNvPicPr/>
          <p:nvPr/>
        </p:nvPicPr>
        <p:blipFill>
          <a:blip r:embed="rId1"/>
          <a:stretch/>
        </p:blipFill>
        <p:spPr>
          <a:xfrm>
            <a:off x="457200" y="2133720"/>
            <a:ext cx="254016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276720" y="1905120"/>
            <a:ext cx="54864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 –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это основной закон стран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 другие законы и правила, действующие в нашей стране, не должны противоречить главным правилам, записанным в Конститу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то сказано в Конституции Российской Федерац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Конституции, во-первых, сказано, как должно быть устроено наше государство. Во-вторых, объявляется, что наше государство считает своей обязанностью защищать не только права своих граждан, но и права любого человека, даже если он не гражданин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, в Конституции перечислены основные права и обязанности человека и гражданина, то есть сказано, что можно делать человеку и гражданину Российской Федерации, а что - нельзя. Можно очень многое, а нельзя, по сути, только одно - гражданин Российской Федераци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е имеет права нарушать права других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600200" y="22096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reml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фла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657600"/>
            <a:ext cx="1523880" cy="1492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rf_g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77120" y="3733920"/>
            <a:ext cx="1137960" cy="1377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Program Files\Common Files\Microsoft Shared\Clipart\cagcat50\EN00354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4648320"/>
            <a:ext cx="1828800" cy="1431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0" y="21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СУДАРСТВЕННАЯ СИМВОЛИКА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7" descr="E:\Мои документы\СИПКРО\Пособия\Пособия\Html_2\html2\pic\prav30.gif"/>
          <p:cNvPicPr/>
          <p:nvPr/>
        </p:nvPicPr>
        <p:blipFill>
          <a:blip r:embed="rId7"/>
          <a:stretch/>
        </p:blipFill>
        <p:spPr>
          <a:xfrm>
            <a:off x="2819520" y="3581280"/>
            <a:ext cx="887400" cy="9525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914400" y="54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50532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им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485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3352680" y="2666880"/>
            <a:ext cx="2079720" cy="914400"/>
          </a:xfrm>
          <a:prstGeom prst="wedgeRoundRectCallout">
            <a:avLst>
              <a:gd name="adj1" fmla="val -38013"/>
              <a:gd name="adj2" fmla="val 99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ВИЛЬНО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3">
            <a:hlinkClick r:id="rId8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W:\7 ИЮНЯ\Галихан\флаг России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854440"/>
            <a:ext cx="2438280" cy="1500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W:\7 ИЮНЯ\Галихан\Сравни флаги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72200" y="2819520"/>
            <a:ext cx="236232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5" descr="W:\7 ИЮНЯ\Галихан\Cравни флаги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43000" y="4807080"/>
            <a:ext cx="259092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0" name="Picture 6" descr="W:\7 ИЮНЯ\Галихан\flag21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800600" y="4826160"/>
            <a:ext cx="2438280" cy="16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Text Box 7"/>
          <p:cNvSpPr/>
          <p:nvPr/>
        </p:nvSpPr>
        <p:spPr>
          <a:xfrm>
            <a:off x="533520" y="19810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 Укажи флаг Росси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E:\Мои документы\СИПКРО\Пособия\Пособия\Html_2\html2\pic\prav31.gif"/>
          <p:cNvPicPr/>
          <p:nvPr/>
        </p:nvPicPr>
        <p:blipFill>
          <a:blip r:embed="rId9"/>
          <a:stretch/>
        </p:blipFill>
        <p:spPr>
          <a:xfrm>
            <a:off x="3195720" y="3505320"/>
            <a:ext cx="85248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2"/>
          <p:cNvSpPr/>
          <p:nvPr/>
        </p:nvSpPr>
        <p:spPr>
          <a:xfrm>
            <a:off x="3886200" y="2514600"/>
            <a:ext cx="1905120" cy="914400"/>
          </a:xfrm>
          <a:prstGeom prst="wedgeRoundRectCallout">
            <a:avLst>
              <a:gd name="adj1" fmla="val -43518"/>
              <a:gd name="adj2" fmla="val 732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вой ответ, дружок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3">
            <a:hlinkClick r:id="rId10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E:\!\Гражданин\флаг.gif"/>
          <p:cNvPicPr/>
          <p:nvPr/>
        </p:nvPicPr>
        <p:blipFill>
          <a:blip r:embed="rId1"/>
          <a:stretch/>
        </p:blipFill>
        <p:spPr>
          <a:xfrm>
            <a:off x="6934320" y="1600200"/>
            <a:ext cx="1600200" cy="15685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2514600" y="2784600"/>
            <a:ext cx="4267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, состоящее из трех горизонтальных равновеликих полос: верхней - белого, средней - синего, нижней - красного цве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09480" y="4568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ще всего (неофициально) используется следующая трактовка значений цветов флага Росси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е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означает мир, чистоту, непорочность, совершенство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цвет веры и верности, постоянства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рас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символизирует энергию, силу, кровь, пролитую за Отече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1066680" y="1676520"/>
            <a:ext cx="2079720" cy="914400"/>
          </a:xfrm>
          <a:prstGeom prst="wedgeRoundRectCallout">
            <a:avLst>
              <a:gd name="adj1" fmla="val -51833"/>
              <a:gd name="adj2" fmla="val 1060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ВИЛЬНО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2" descr="E:\Мои документы\СИПКРО\Пособия\Пособия\Html_2\html2\pic\prav30.gif"/>
          <p:cNvPicPr/>
          <p:nvPr/>
        </p:nvPicPr>
        <p:blipFill>
          <a:blip r:embed="rId2"/>
          <a:stretch/>
        </p:blipFill>
        <p:spPr>
          <a:xfrm>
            <a:off x="380880" y="2895480"/>
            <a:ext cx="993960" cy="10670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3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5"/>
          <p:cNvGrpSpPr/>
          <p:nvPr/>
        </p:nvGrpSpPr>
        <p:grpSpPr>
          <a:xfrm>
            <a:off x="3352680" y="5943600"/>
            <a:ext cx="4648320" cy="304560"/>
            <a:chOff x="3352680" y="5943600"/>
            <a:chExt cx="4648320" cy="304560"/>
          </a:xfrm>
        </p:grpSpPr>
        <p:sp>
          <p:nvSpPr>
            <p:cNvPr id="282" name="Line 16"/>
            <p:cNvSpPr/>
            <p:nvPr/>
          </p:nvSpPr>
          <p:spPr>
            <a:xfrm>
              <a:off x="335268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403848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4572000" y="624816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19">
            <a:hlinkClick r:id="rId3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E:\Мои документы\СИПКРО\Пособия\Пособия\Html_2\html2\pic\prav30.gif"/>
          <p:cNvPicPr/>
          <p:nvPr/>
        </p:nvPicPr>
        <p:blipFill>
          <a:blip r:embed="rId1"/>
          <a:stretch/>
        </p:blipFill>
        <p:spPr>
          <a:xfrm>
            <a:off x="7265880" y="5638680"/>
            <a:ext cx="887400" cy="9525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33520" y="198108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  Белый цвет на флаге России означает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бери правильный ответ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флаг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514600"/>
            <a:ext cx="1523880" cy="14922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6"/>
          <p:cNvSpPr/>
          <p:nvPr/>
        </p:nvSpPr>
        <p:spPr>
          <a:xfrm flipH="1">
            <a:off x="5409360" y="4724280"/>
            <a:ext cx="1752840" cy="838440"/>
          </a:xfrm>
          <a:prstGeom prst="wedgeRoundRectCallout">
            <a:avLst>
              <a:gd name="adj1" fmla="val -61143"/>
              <a:gd name="adj2" fmla="val 97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вой ответ, дружок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">
            <a:hlinkClick r:id="rId4" action="ppaction://hlinksldjump"/>
          </p:cNvPr>
          <p:cNvSpPr/>
          <p:nvPr/>
        </p:nvSpPr>
        <p:spPr>
          <a:xfrm>
            <a:off x="685800" y="2819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, чистоту, совершен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8">
            <a:hlinkClick r:id="rId5" action="ppaction://hlinksldjump"/>
          </p:cNvPr>
          <p:cNvSpPr/>
          <p:nvPr/>
        </p:nvSpPr>
        <p:spPr>
          <a:xfrm>
            <a:off x="685800" y="3200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у и верность, постоян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">
            <a:hlinkClick r:id="rId6" action="ppaction://hlinksldjump"/>
          </p:cNvPr>
          <p:cNvSpPr/>
          <p:nvPr/>
        </p:nvSpPr>
        <p:spPr>
          <a:xfrm>
            <a:off x="685800" y="351936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ю, сил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1">
            <a:hlinkClick r:id="rId7" action="ppaction://hlinksldjump"/>
          </p:cNvPr>
          <p:cNvSpPr/>
          <p:nvPr/>
        </p:nvSpPr>
        <p:spPr>
          <a:xfrm>
            <a:off x="685800" y="3886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Богоматери, под покровительством которой находилась Росс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2"/>
          <p:cNvGrpSpPr/>
          <p:nvPr/>
        </p:nvGrpSpPr>
        <p:grpSpPr>
          <a:xfrm>
            <a:off x="1371600" y="5791320"/>
            <a:ext cx="4648320" cy="304560"/>
            <a:chOff x="1371600" y="5791320"/>
            <a:chExt cx="4648320" cy="304560"/>
          </a:xfrm>
        </p:grpSpPr>
        <p:sp>
          <p:nvSpPr>
            <p:cNvPr id="296" name="Line 13"/>
            <p:cNvSpPr/>
            <p:nvPr/>
          </p:nvSpPr>
          <p:spPr>
            <a:xfrm>
              <a:off x="137160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4"/>
            <p:cNvSpPr/>
            <p:nvPr/>
          </p:nvSpPr>
          <p:spPr>
            <a:xfrm>
              <a:off x="205740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5"/>
            <p:cNvSpPr/>
            <p:nvPr/>
          </p:nvSpPr>
          <p:spPr>
            <a:xfrm>
              <a:off x="259092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16">
            <a:hlinkClick r:id="rId8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E:\Мои документы\СИПКРО\Пособия\Пособия\Html_2\html2\pic\prav30.gif"/>
          <p:cNvPicPr/>
          <p:nvPr/>
        </p:nvPicPr>
        <p:blipFill>
          <a:blip r:embed="rId1"/>
          <a:stretch/>
        </p:blipFill>
        <p:spPr>
          <a:xfrm>
            <a:off x="609480" y="3124080"/>
            <a:ext cx="887400" cy="9525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1600200" y="2133720"/>
            <a:ext cx="2079720" cy="914400"/>
          </a:xfrm>
          <a:prstGeom prst="wedgeRoundRectCallout">
            <a:avLst>
              <a:gd name="adj1" fmla="val -62749"/>
              <a:gd name="adj2" fmla="val 1076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ВИЛЬНО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флаг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2057400"/>
            <a:ext cx="1524240" cy="1492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1752480" y="3733920"/>
            <a:ext cx="61722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настоящее врем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ще всего используется следующая трактовка значений цветов флага Росси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е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означает мир, чистоту, непорочность, совершенство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цвет веры и верности, постоянства;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рас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 символизирует энергию, силу, кровь, пролитую за Отечеств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3352680" y="5791320"/>
            <a:ext cx="4648320" cy="304560"/>
            <a:chOff x="3352680" y="5791320"/>
            <a:chExt cx="4648320" cy="304560"/>
          </a:xfrm>
        </p:grpSpPr>
        <p:sp>
          <p:nvSpPr>
            <p:cNvPr id="306" name="Line 7"/>
            <p:cNvSpPr/>
            <p:nvPr/>
          </p:nvSpPr>
          <p:spPr>
            <a:xfrm>
              <a:off x="335268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03848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57200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11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3520" y="198108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 Синий цвет на флаге России означает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бери правильный ответ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5" descr="фла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514600"/>
            <a:ext cx="1523880" cy="149220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8"/>
          <p:cNvGrpSpPr/>
          <p:nvPr/>
        </p:nvGrpSpPr>
        <p:grpSpPr>
          <a:xfrm>
            <a:off x="5409720" y="4724280"/>
            <a:ext cx="2743560" cy="1866960"/>
            <a:chOff x="5409720" y="4724280"/>
            <a:chExt cx="2743560" cy="1866960"/>
          </a:xfrm>
        </p:grpSpPr>
        <p:pic>
          <p:nvPicPr>
            <p:cNvPr id="314" name="Picture 2" descr="E:\Мои документы\СИПКРО\Пособия\Пособия\Html_2\html2\pic\prav30.gif"/>
            <p:cNvPicPr/>
            <p:nvPr/>
          </p:nvPicPr>
          <p:blipFill>
            <a:blip r:embed="rId3"/>
            <a:stretch/>
          </p:blipFill>
          <p:spPr>
            <a:xfrm>
              <a:off x="7265880" y="5638680"/>
              <a:ext cx="887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AutoShape 6"/>
            <p:cNvSpPr/>
            <p:nvPr/>
          </p:nvSpPr>
          <p:spPr>
            <a:xfrm flipH="1">
              <a:off x="5409360" y="4724280"/>
              <a:ext cx="1752840" cy="838440"/>
            </a:xfrm>
            <a:prstGeom prst="wedgeRoundRectCallout">
              <a:avLst>
                <a:gd name="adj1" fmla="val -61143"/>
                <a:gd name="adj2" fmla="val 9715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Твой ответ, дружок?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Text Box 7">
            <a:hlinkClick r:id="rId4" action="ppaction://hlinksldjump"/>
          </p:cNvPr>
          <p:cNvSpPr/>
          <p:nvPr/>
        </p:nvSpPr>
        <p:spPr>
          <a:xfrm>
            <a:off x="685800" y="2819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, чистоту, совершен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>
            <a:hlinkClick r:id="rId5" action="ppaction://hlinksldjump"/>
          </p:cNvPr>
          <p:cNvSpPr/>
          <p:nvPr/>
        </p:nvSpPr>
        <p:spPr>
          <a:xfrm>
            <a:off x="685800" y="3200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у и верность, постоян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>
            <a:hlinkClick r:id="rId6" action="ppaction://hlinksldjump"/>
          </p:cNvPr>
          <p:cNvSpPr/>
          <p:nvPr/>
        </p:nvSpPr>
        <p:spPr>
          <a:xfrm>
            <a:off x="685800" y="351936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ю, сил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>
            <a:hlinkClick r:id="rId7" action="ppaction://hlinksldjump"/>
          </p:cNvPr>
          <p:cNvSpPr/>
          <p:nvPr/>
        </p:nvSpPr>
        <p:spPr>
          <a:xfrm>
            <a:off x="685800" y="3962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у и независим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14"/>
          <p:cNvGrpSpPr/>
          <p:nvPr/>
        </p:nvGrpSpPr>
        <p:grpSpPr>
          <a:xfrm>
            <a:off x="914400" y="5791320"/>
            <a:ext cx="4648320" cy="304560"/>
            <a:chOff x="914400" y="5791320"/>
            <a:chExt cx="4648320" cy="304560"/>
          </a:xfrm>
        </p:grpSpPr>
        <p:sp>
          <p:nvSpPr>
            <p:cNvPr id="321" name="Line 15"/>
            <p:cNvSpPr/>
            <p:nvPr/>
          </p:nvSpPr>
          <p:spPr>
            <a:xfrm>
              <a:off x="91440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6"/>
            <p:cNvSpPr/>
            <p:nvPr/>
          </p:nvSpPr>
          <p:spPr>
            <a:xfrm>
              <a:off x="160020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213372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Rectangle 19">
            <a:hlinkClick r:id="rId8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3" descr="rf_g4"/>
          <p:cNvPicPr/>
          <p:nvPr/>
        </p:nvPicPr>
        <p:blipFill>
          <a:blip r:embed="rId1"/>
          <a:stretch/>
        </p:blipFill>
        <p:spPr>
          <a:xfrm>
            <a:off x="380880" y="2590920"/>
            <a:ext cx="2156040" cy="260964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4"/>
          <p:cNvGrpSpPr/>
          <p:nvPr/>
        </p:nvGrpSpPr>
        <p:grpSpPr>
          <a:xfrm>
            <a:off x="914400" y="5791320"/>
            <a:ext cx="4648320" cy="304560"/>
            <a:chOff x="914400" y="5791320"/>
            <a:chExt cx="4648320" cy="304560"/>
          </a:xfrm>
        </p:grpSpPr>
        <p:sp>
          <p:nvSpPr>
            <p:cNvPr id="328" name="Line 5"/>
            <p:cNvSpPr/>
            <p:nvPr/>
          </p:nvSpPr>
          <p:spPr>
            <a:xfrm>
              <a:off x="91440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6"/>
            <p:cNvSpPr/>
            <p:nvPr/>
          </p:nvSpPr>
          <p:spPr>
            <a:xfrm>
              <a:off x="160020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>
              <a:off x="213372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8"/>
          <p:cNvGrpSpPr/>
          <p:nvPr/>
        </p:nvGrpSpPr>
        <p:grpSpPr>
          <a:xfrm>
            <a:off x="5638320" y="4648320"/>
            <a:ext cx="2743560" cy="1866960"/>
            <a:chOff x="5638320" y="4648320"/>
            <a:chExt cx="2743560" cy="1866960"/>
          </a:xfrm>
        </p:grpSpPr>
        <p:pic>
          <p:nvPicPr>
            <p:cNvPr id="332" name="Picture 9" descr="E:\Мои документы\СИПКРО\Пособия\Пособия\Html_2\html2\pic\prav30.gif"/>
            <p:cNvPicPr/>
            <p:nvPr/>
          </p:nvPicPr>
          <p:blipFill>
            <a:blip r:embed="rId2"/>
            <a:stretch/>
          </p:blipFill>
          <p:spPr>
            <a:xfrm>
              <a:off x="7494480" y="5562720"/>
              <a:ext cx="887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AutoShape 10"/>
            <p:cNvSpPr/>
            <p:nvPr/>
          </p:nvSpPr>
          <p:spPr>
            <a:xfrm flipH="1">
              <a:off x="5637960" y="4648320"/>
              <a:ext cx="1752840" cy="838440"/>
            </a:xfrm>
            <a:prstGeom prst="wedgeRoundRectCallout">
              <a:avLst>
                <a:gd name="adj1" fmla="val -61143"/>
                <a:gd name="adj2" fmla="val 9715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Твой ответ, дружок?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11"/>
          <p:cNvSpPr/>
          <p:nvPr/>
        </p:nvSpPr>
        <p:spPr>
          <a:xfrm>
            <a:off x="533520" y="198108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5. На груди орла на гербе Российской Федерации расположен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бери правильный ответ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>
            <a:hlinkClick r:id="rId3" action="ppaction://hlinksldjump"/>
          </p:cNvPr>
          <p:cNvSpPr/>
          <p:nvPr/>
        </p:nvSpPr>
        <p:spPr>
          <a:xfrm>
            <a:off x="3124080" y="2986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Кие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3">
            <a:hlinkClick r:id="rId4" action="ppaction://hlinksldjump"/>
          </p:cNvPr>
          <p:cNvSpPr/>
          <p:nvPr/>
        </p:nvSpPr>
        <p:spPr>
          <a:xfrm>
            <a:off x="3124080" y="3367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Новгор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4">
            <a:hlinkClick r:id="rId5" action="ppaction://hlinksldjump"/>
          </p:cNvPr>
          <p:cNvSpPr/>
          <p:nvPr/>
        </p:nvSpPr>
        <p:spPr>
          <a:xfrm>
            <a:off x="3124080" y="37479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Москв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5">
            <a:hlinkClick r:id="rId6" action="ppaction://hlinksldjump"/>
          </p:cNvPr>
          <p:cNvSpPr/>
          <p:nvPr/>
        </p:nvSpPr>
        <p:spPr>
          <a:xfrm>
            <a:off x="3124080" y="4129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Сузда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6">
            <a:hlinkClick r:id="rId7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914400" y="5791320"/>
            <a:ext cx="4648320" cy="304560"/>
            <a:chOff x="914400" y="5791320"/>
            <a:chExt cx="4648320" cy="304560"/>
          </a:xfrm>
        </p:grpSpPr>
        <p:sp>
          <p:nvSpPr>
            <p:cNvPr id="341" name="Line 3"/>
            <p:cNvSpPr/>
            <p:nvPr/>
          </p:nvSpPr>
          <p:spPr>
            <a:xfrm>
              <a:off x="91440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4"/>
            <p:cNvSpPr/>
            <p:nvPr/>
          </p:nvSpPr>
          <p:spPr>
            <a:xfrm>
              <a:off x="160020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>
              <a:off x="213372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828800" y="3733920"/>
            <a:ext cx="52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груди орла расположен щит с изображением всадника (древнейший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герб Моск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С 1730 года всадника стали называть Святым Георгием Победоносцем, поражающим змия -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ом борьбы добра со з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месте с тем этот символ указывает, чт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сква - сердце Ру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rf_g4"/>
          <p:cNvPicPr/>
          <p:nvPr/>
        </p:nvPicPr>
        <p:blipFill>
          <a:blip r:embed="rId1"/>
          <a:stretch/>
        </p:blipFill>
        <p:spPr>
          <a:xfrm>
            <a:off x="7010280" y="1600200"/>
            <a:ext cx="1778040" cy="21528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9"/>
          <p:cNvGrpSpPr/>
          <p:nvPr/>
        </p:nvGrpSpPr>
        <p:grpSpPr>
          <a:xfrm>
            <a:off x="685800" y="2057400"/>
            <a:ext cx="3657600" cy="1638360"/>
            <a:chOff x="685800" y="2057400"/>
            <a:chExt cx="3657600" cy="1638360"/>
          </a:xfrm>
        </p:grpSpPr>
        <p:pic>
          <p:nvPicPr>
            <p:cNvPr id="348" name="Picture 10" descr="E:\Мои документы\СИПКРО\Пособия\Пособия\Html_2\html2\pic\prav30.gif"/>
            <p:cNvPicPr/>
            <p:nvPr/>
          </p:nvPicPr>
          <p:blipFill>
            <a:blip r:embed="rId2"/>
            <a:stretch/>
          </p:blipFill>
          <p:spPr>
            <a:xfrm>
              <a:off x="685800" y="2743200"/>
              <a:ext cx="887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AutoShape 11"/>
            <p:cNvSpPr/>
            <p:nvPr/>
          </p:nvSpPr>
          <p:spPr>
            <a:xfrm>
              <a:off x="2263680" y="2057400"/>
              <a:ext cx="2079720" cy="914400"/>
            </a:xfrm>
            <a:prstGeom prst="wedgeRoundRectCallout">
              <a:avLst>
                <a:gd name="adj1" fmla="val -90916"/>
                <a:gd name="adj2" fmla="val 8159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ПРАВИЛЬНО!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2">
            <a:hlinkClick r:id="rId3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>
            <a:hlinkClick r:id="rId1" action="ppaction://hlinksldjump"/>
          </p:cNvPr>
          <p:cNvSpPr/>
          <p:nvPr/>
        </p:nvSpPr>
        <p:spPr>
          <a:xfrm>
            <a:off x="152280" y="1522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>
            <a:hlinkClick r:id="rId2" action="ppaction://hlinksldjump"/>
          </p:cNvPr>
          <p:cNvSpPr/>
          <p:nvPr/>
        </p:nvSpPr>
        <p:spPr>
          <a:xfrm>
            <a:off x="304920" y="30492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533520" y="198108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6. Символами президентской власти являю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бери правильный ответ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>
            <a:hlinkClick r:id="rId3" action="ppaction://hlinksldjump"/>
          </p:cNvPr>
          <p:cNvSpPr/>
          <p:nvPr/>
        </p:nvSpPr>
        <p:spPr>
          <a:xfrm>
            <a:off x="1295280" y="31240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ндарт (флаг), герб, специальный экземпляр конститу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9">
            <a:hlinkClick r:id="rId4" action="ppaction://hlinksldjump"/>
          </p:cNvPr>
          <p:cNvSpPr/>
          <p:nvPr/>
        </p:nvSpPr>
        <p:spPr>
          <a:xfrm>
            <a:off x="1295280" y="3581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ндарт (флаг), герб, президентский пол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>
            <a:hlinkClick r:id="rId5" action="ppaction://hlinksldjump"/>
          </p:cNvPr>
          <p:cNvSpPr/>
          <p:nvPr/>
        </p:nvSpPr>
        <p:spPr>
          <a:xfrm>
            <a:off x="1295280" y="39765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, герб, гим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1">
            <a:hlinkClick r:id="rId6" action="ppaction://hlinksldjump"/>
          </p:cNvPr>
          <p:cNvSpPr/>
          <p:nvPr/>
        </p:nvSpPr>
        <p:spPr>
          <a:xfrm>
            <a:off x="1295280" y="4357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, специальный экземпляр Конституц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знак презид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12"/>
          <p:cNvGrpSpPr/>
          <p:nvPr/>
        </p:nvGrpSpPr>
        <p:grpSpPr>
          <a:xfrm>
            <a:off x="5943600" y="3886200"/>
            <a:ext cx="2666880" cy="2057400"/>
            <a:chOff x="5943600" y="3886200"/>
            <a:chExt cx="2666880" cy="2057400"/>
          </a:xfrm>
        </p:grpSpPr>
        <p:pic>
          <p:nvPicPr>
            <p:cNvPr id="360" name="Picture 13" descr="E:\Мои документы\СИПКРО\Пособия\Пособия\Html_2\html2\pic\prav31.gif"/>
            <p:cNvPicPr/>
            <p:nvPr/>
          </p:nvPicPr>
          <p:blipFill>
            <a:blip r:embed="rId7"/>
            <a:stretch/>
          </p:blipFill>
          <p:spPr>
            <a:xfrm>
              <a:off x="5943600" y="4800600"/>
              <a:ext cx="10666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14"/>
            <p:cNvSpPr/>
            <p:nvPr/>
          </p:nvSpPr>
          <p:spPr>
            <a:xfrm>
              <a:off x="6705720" y="3886200"/>
              <a:ext cx="1904760" cy="914400"/>
            </a:xfrm>
            <a:prstGeom prst="wedgeRoundRectCallout">
              <a:avLst>
                <a:gd name="adj1" fmla="val -43518"/>
                <a:gd name="adj2" fmla="val 7326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Твой ответ, дружок?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914400" y="5791320"/>
            <a:ext cx="4648320" cy="304560"/>
            <a:chOff x="914400" y="5791320"/>
            <a:chExt cx="4648320" cy="304560"/>
          </a:xfrm>
        </p:grpSpPr>
        <p:sp>
          <p:nvSpPr>
            <p:cNvPr id="363" name="Line 16"/>
            <p:cNvSpPr/>
            <p:nvPr/>
          </p:nvSpPr>
          <p:spPr>
            <a:xfrm>
              <a:off x="914400" y="579132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>
              <a:off x="1600200" y="594360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2133720" y="6095880"/>
              <a:ext cx="3429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Rectangle 19">
            <a:hlinkClick r:id="rId8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Символы_флаг"/>
          <p:cNvPicPr/>
          <p:nvPr/>
        </p:nvPicPr>
        <p:blipFill>
          <a:blip r:embed="rId1"/>
          <a:srcRect l="12064" t="0" r="17750" b="0"/>
          <a:stretch/>
        </p:blipFill>
        <p:spPr>
          <a:xfrm>
            <a:off x="838080" y="2057400"/>
            <a:ext cx="1773360" cy="2057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Символы_знак"/>
          <p:cNvPicPr/>
          <p:nvPr/>
        </p:nvPicPr>
        <p:blipFill>
          <a:blip r:embed="rId2"/>
          <a:stretch/>
        </p:blipFill>
        <p:spPr>
          <a:xfrm>
            <a:off x="3505320" y="35812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E:\!\Гражданин\конституц.jpg"/>
          <p:cNvPicPr/>
          <p:nvPr/>
        </p:nvPicPr>
        <p:blipFill>
          <a:blip r:embed="rId3"/>
          <a:stretch/>
        </p:blipFill>
        <p:spPr>
          <a:xfrm>
            <a:off x="6553080" y="2133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E:\Мои документы\СИПКРО\Пособия\Пособия\Html_2\html2\pic\prav30.gif"/>
          <p:cNvPicPr/>
          <p:nvPr/>
        </p:nvPicPr>
        <p:blipFill>
          <a:blip r:embed="rId4"/>
          <a:stretch/>
        </p:blipFill>
        <p:spPr>
          <a:xfrm>
            <a:off x="2895480" y="2514600"/>
            <a:ext cx="887400" cy="9525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9"/>
          <p:cNvSpPr/>
          <p:nvPr/>
        </p:nvSpPr>
        <p:spPr>
          <a:xfrm>
            <a:off x="609480" y="4361040"/>
            <a:ext cx="19051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Штандарт (флаг) Президента</a:t>
            </a:r>
            <a:br>
              <a:rPr sz="1400"/>
            </a:b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Российской Фед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352680" y="586728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Знак Президента Российской</a:t>
            </a:r>
            <a:br>
              <a:rPr sz="1400"/>
            </a:b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      Федерации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324480" y="4419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Специально изготовленный единственный экземпляр официального текста Конституции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733920" y="1981080"/>
            <a:ext cx="2209680" cy="914400"/>
          </a:xfrm>
          <a:prstGeom prst="wedgeRoundRectCallout">
            <a:avLst>
              <a:gd name="adj1" fmla="val -54023"/>
              <a:gd name="adj2" fmla="val 732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ВИЛЬНО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4">
            <a:hlinkClick r:id="rId5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26">
            <a:hlinkClick r:id="rId1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27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ОСУДАРСТВЕННЫЙ ЯЗЫ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80880" y="1876320"/>
            <a:ext cx="853452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осударственным языком Российской Федерации на всей ее территории является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усский язык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язык - национальное достояние всех народов Российской Федерации. Но наше государство гордится каждым из языков, на которых говорят его граждане, стремится сохранить их. По результатам последней переписи сегодня в России проживают представители свыше 160 национальностей, и у каждой из них - свой язык, не похожий на остальные. И как трудно было бы им понимать друг друга, если бы на помощь не пришел русский язык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ько тот, кто хочет стать государственным деятелем или государственным служащим в Российской Федерации,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бязан знать русский язы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Государство на всей своей территории всем своим гражданам предоставляет такую возможнос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русский язык - это не только возможность быть услышанным и понятым в любом, самом дальнем, уголке нашей страны. Это ещё и прекрасные песни, замечательные книги, потрясающие стихи на русском языке. Очень обидно всё это не слышать, не читать и не зн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оссийская Федерация гарантирует всем своим народам право на сохранение родного языка и создание условий для его изучени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ВАЖНО ПОНЯТ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только русский язык, но и все языки народов Российской Федерации находятся под защитой государст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>
            <a:hlinkClick r:id="rId1" action="ppaction://hlinksldjump"/>
          </p:cNvPr>
          <p:cNvSpPr/>
          <p:nvPr/>
        </p:nvSpPr>
        <p:spPr>
          <a:xfrm>
            <a:off x="2050920" y="2421000"/>
            <a:ext cx="68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икреплённое к древку или шнуру полотнище определённого цвета или нескольких цветов, часто с эмблемой, официальный символ государственной власти, олицетворяет суверенитет государства. Описание флага, как правило, фиксируется в конститу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>
            <a:hlinkClick r:id="rId2" action="ppaction://hlinksldjump"/>
          </p:cNvPr>
          <p:cNvSpPr/>
          <p:nvPr/>
        </p:nvSpPr>
        <p:spPr>
          <a:xfrm>
            <a:off x="2050920" y="43131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мблема государства, города, сословия, рода, изображаемая на флагах, монетах, печатях, государственных и других официальных докумен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>
            <a:hlinkClick r:id="rId3" action="ppaction://hlinksldjump"/>
          </p:cNvPr>
          <p:cNvSpPr/>
          <p:nvPr/>
        </p:nvSpPr>
        <p:spPr>
          <a:xfrm>
            <a:off x="2050920" y="56674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им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жественная песня, принятая как символ государ-ственного или социального един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ОСУДАРСТВЕННАЯ СИМВОЛИК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79280" y="1982880"/>
            <a:ext cx="88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Из словар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1" descr="rf_g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4038480"/>
            <a:ext cx="949320" cy="114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флаг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9440" y="2492280"/>
            <a:ext cx="131292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C:\Program Files\Common Files\Microsoft Shared\Clipart\cagcat50\EN00354_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5486400"/>
            <a:ext cx="1447920" cy="1133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>
            <a:hlinkClick r:id="rId10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">
            <a:hlinkClick r:id="rId11" action="ppaction://hlinksldjump"/>
          </p:cNvPr>
          <p:cNvSpPr/>
          <p:nvPr/>
        </p:nvSpPr>
        <p:spPr>
          <a:xfrm>
            <a:off x="152280" y="1522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ЕРБ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rf_g4"/>
          <p:cNvPicPr/>
          <p:nvPr/>
        </p:nvPicPr>
        <p:blipFill>
          <a:blip r:embed="rId1"/>
          <a:stretch/>
        </p:blipFill>
        <p:spPr>
          <a:xfrm>
            <a:off x="304920" y="2819520"/>
            <a:ext cx="2597040" cy="3143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250920" y="184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ноября 1993 года президент Российской Федерации подписал указ, в котором дается описание нового герб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348000" y="2565360"/>
            <a:ext cx="5545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 представляет собой изображение золотого двуглавого орла, помещенного на красном геральдическом щите; над орлом - три исторические короны Петра Великого (над головами - две малые и над ними - одна большего размера); в лапах орла -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скипет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ержав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на груди орла на красном щите - всадник, поражающий копьем дракон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читай страницы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из истории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ссийского герба и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276720" y="5075280"/>
            <a:ext cx="5867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1. Когда в качестве государственного герба впервые стал использоваться двуглавый оре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2. Что такое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скипетр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ержава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3. Герб какого города изображен на груди орл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4. Как зовут всадника с копьем? Что он символизиру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0">
            <a:hlinkClick r:id="rId4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ЕРБ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ger1"/>
          <p:cNvPicPr/>
          <p:nvPr/>
        </p:nvPicPr>
        <p:blipFill>
          <a:blip r:embed="rId1"/>
          <a:stretch/>
        </p:blipFill>
        <p:spPr>
          <a:xfrm>
            <a:off x="411120" y="3068640"/>
            <a:ext cx="2793960" cy="345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3348000" y="2849400"/>
            <a:ext cx="5651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илась раскраска герба - орел становится черным, а фон - желтым. На груди орла был щит с изображением всадника (древнейший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герб Моск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С 1730 года всадника стали называть Святым Георгием Победоносцем, поражающим змия -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ом борьбы добра со з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месте с тем этот символ указывает, чт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сква - сердце Ру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XVII ве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кончательно утверждается тип герба - золотой двуглавый орел на красном поле с тремя коронами, скипетром и державой.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кипет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воначально - это булава, ударное оружие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 защиты суверените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Держа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виде шара) -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 единства, целостност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расный (пурпурный) цвет считался императорским, царским цветом, золотой - символом веч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79280" y="1844640"/>
            <a:ext cx="871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честве государственного герба двуглавый орел появился на Руси в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4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равление Ива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у на правах престолонаследия. В петровское время государственный герб России был дополнен изображением цепи со знаком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рдена святого Андрея Первозван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круг щита на груди ор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284720" y="2727360"/>
            <a:ext cx="453528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1920 года Гознак подготовил образец герба РСФСР в том виде, в котором с небольшими изменениями он дошел до 1993 года. Герб состоял из изображения золотых серпа и молота на красном фоне в золотых лучах солнца и обрамлении золотых колосьев. Надпис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СФС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ролетарии всех стран, соединяйтесь!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спроизведены черными буквами на красном фоне.</a:t>
            </a:r>
            <a:br>
              <a:rPr sz="1600"/>
            </a:b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30 ноября 1993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зидент Российской Федерации подписал указ, в котором дается описание нового герб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ussr"/>
          <p:cNvPicPr/>
          <p:nvPr/>
        </p:nvPicPr>
        <p:blipFill>
          <a:blip r:embed="rId1"/>
          <a:stretch/>
        </p:blipFill>
        <p:spPr>
          <a:xfrm>
            <a:off x="324000" y="2565360"/>
            <a:ext cx="3830400" cy="388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50920" y="1916280"/>
            <a:ext cx="86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б РСФСР впервые описан в Конституции РСФСР 1918 года. Его прообразом была эмблема Красной Армии - красная пятиконечная звезда со скрещенным плугом и молотом в цент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ЕРБ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24000" y="4138560"/>
            <a:ext cx="85690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осударственную власть и единое государ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на груди - изображение всадника, поражающего копьем дракона. Это один из древних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ов борьбы добра со злом, света с тьмой, защиты Отече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осстановление двуглавого орла как Государственного герба России олицетворяет неразрывность и преемственность отечественной истор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годняшний герб России - эт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вый герб, но его составные части глубоко традицио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он и отражает разные этапы отечественной истории, и продолжает их в преддверье третьего тысячелет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rf_g4"/>
          <p:cNvPicPr/>
          <p:nvPr/>
        </p:nvPicPr>
        <p:blipFill>
          <a:blip r:embed="rId1"/>
          <a:stretch/>
        </p:blipFill>
        <p:spPr>
          <a:xfrm>
            <a:off x="324000" y="1989000"/>
            <a:ext cx="1666800" cy="2017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2124000" y="1844640"/>
            <a:ext cx="67690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лотой двуглавый орел на красном поле сохраняет историческую преемственность в цветовой гамме гербов конца XV - XVII века. Рисунок орла восходит к изображениям на памятниках эпохи Петра Великого. Над головами орла изображены три исторические короны Петра Великого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мволизирующие в новых условиях суверенитет как всей Российской Федерации, так и ее частей, субъектов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    в    лапах  -  скипетр   и   держава,    олицетворяющ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2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 ИСТОРИИ ГЕРБА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32360" y="623736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2">
            <a:hlinkClick r:id="rId2" action="ppaction://hlinksldjump"/>
          </p:cNvPr>
          <p:cNvSpPr/>
          <p:nvPr/>
        </p:nvSpPr>
        <p:spPr>
          <a:xfrm>
            <a:off x="0" y="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8:49Z</dcterms:created>
  <dc:creator>admin</dc:creator>
  <dc:description/>
  <dc:language>en-US</dc:language>
  <cp:lastModifiedBy>Win 7</cp:lastModifiedBy>
  <dcterms:modified xsi:type="dcterms:W3CDTF">2013-08-30T13:42:03Z</dcterms:modified>
  <cp:revision>65</cp:revision>
  <dc:subject/>
  <dc:title>Презентация PowerPoint</dc:title>
</cp:coreProperties>
</file>