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E26-59EA-45B2-B69A-15B4B553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0B2-95CE-4804-9BC9-640D76E4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BA2-CC82-4D35-958B-B89250B0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AB4-9FB1-462D-BAEE-E16A58C2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05D5-6C1F-4ADF-90BF-91E961D6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A6B4-C728-4821-A727-C78E5AB4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A001-5CFC-444E-83A2-365E73CF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86EF-BA04-403F-AABE-9E85570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2B4F-F43E-4DAF-92AA-3D51286F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7D17-A243-457F-9A45-9A0C2762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A23F-7456-4DED-A531-10EEBA0E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C54-F25A-4E08-95CD-CFF2893E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D126-52A5-489E-BF0B-7BCA9D7F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BF7E-583D-4C0F-8F07-8ED98C8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1CDC-7DAF-49C9-87B9-B287C73B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845A-369E-45C0-83E3-CF25928F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7253-51AE-419D-B4AB-37D2E176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387D-5BBC-46F4-9E5B-4CC55AE1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DA57-F4E3-4756-81AF-202F5365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6CD8-C323-44E4-90E1-7F4019FF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5D3B-F0EB-4227-BF03-7FAD99F8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BE5C-7581-4B43-9B9E-8D3A659E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151-CFDB-4AB4-8BED-96E4C1C4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6B9A-3BA3-443F-8670-23C1A4B0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B9D2-ACFC-4141-93E7-DEBF7058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DF5D-E878-4E1D-BA73-08B10B2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EB09-241D-43C2-88FE-62D37CD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585FA-557E-4C91-8B1E-0521BFFD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D0D4-F217-4D01-BFD2-9962B404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D6B9-A442-4B88-A781-A6856186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F2A-2CF2-4131-AD41-BCE68CA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FFF-BDEF-4F04-9363-5CA5080D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8AD-5214-4CA6-A9E8-A45CBA19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9E3-74E8-49ED-8D8C-8062ED22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E66-860A-453D-81E4-BFD91875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D41-5CBA-4D12-98BE-2364620E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E1C9-825F-42AC-954F-53574CC16B90}" type="slidenum">
              <a:rPr b="0" lang="en-US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137D-6810-4626-9386-FD4E6B653644}" type="slidenum">
              <a:rPr b="0" lang="en-US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79A4-3EEA-4D1F-A2DB-6A3C95F79091}" type="slidenum">
              <a:rPr b="0" lang="en-US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836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7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5776"/>
                </a:solidFill>
                <a:latin typeface="Georgia"/>
              </a:rPr>
              <a:t>WATERMELON </a:t>
            </a:r>
            <a:endParaRPr b="0" lang="en-US" sz="6000" spc="-1" strike="noStrike">
              <a:solidFill>
                <a:srgbClr val="ffffff"/>
              </a:solidFill>
              <a:latin typeface="Georgia"/>
            </a:endParaRPr>
          </a:p>
          <a:p>
            <a:pPr marL="27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5776"/>
                </a:solidFill>
                <a:latin typeface="Georgia"/>
              </a:rPr>
              <a:t>PARADISE</a:t>
            </a:r>
            <a:endParaRPr b="0" lang="en-US" sz="6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144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Trebuchet MS"/>
              </a:rPr>
              <a:t>Zakharova Anastasia</a:t>
            </a:r>
            <a:endParaRPr b="0" lang="en-US" sz="5000" spc="-1" strike="noStrike">
              <a:solidFill>
                <a:srgbClr val="d4d4d6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5776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275f32"/>
                </a:solidFill>
                <a:latin typeface="Arial"/>
              </a:rPr>
              <a:t>The festival “Watermelon Paradise” takes place in the village of Strelka, in Krasnodar Region at the beginning of August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5f32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75f32"/>
                </a:solidFill>
                <a:latin typeface="Arial"/>
              </a:rPr>
              <a:t>It is held since 2009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8" name="Picture 2" descr="C:\Users\элла\Downloads\s90041566.jpg"/>
          <p:cNvPicPr/>
          <p:nvPr/>
        </p:nvPicPr>
        <p:blipFill>
          <a:blip r:embed="rId2"/>
          <a:stretch/>
        </p:blipFill>
        <p:spPr>
          <a:xfrm>
            <a:off x="4211640" y="1052640"/>
            <a:ext cx="471636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5f32"/>
                </a:solidFill>
                <a:latin typeface="Georgia"/>
              </a:rPr>
              <a:t>This is a very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5f32"/>
                </a:solidFill>
                <a:latin typeface="Georgia"/>
              </a:rPr>
              <a:t>funny and tasty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5f32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275f32"/>
                </a:solidFill>
                <a:latin typeface="Georgia"/>
              </a:rPr>
              <a:t>even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0" name="Picture 3" descr="C:\Users\элла\Downloads\695543081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55640" y="4230720"/>
            <a:ext cx="3311640" cy="2262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1" name="Picture 6" descr="C:\Users\элла\Downloads\1307220013st.jpg"/>
          <p:cNvPicPr/>
          <p:nvPr/>
        </p:nvPicPr>
        <p:blipFill>
          <a:blip r:embed="rId3"/>
          <a:stretch/>
        </p:blipFill>
        <p:spPr>
          <a:xfrm rot="607800">
            <a:off x="4519440" y="1301400"/>
            <a:ext cx="3996000" cy="288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5f32"/>
                </a:solidFill>
                <a:latin typeface="Arial"/>
              </a:rPr>
              <a:t>Over a 100 farmers get ready for the festival </a:t>
            </a:r>
            <a:br>
              <a:rPr sz="2400"/>
            </a:br>
            <a:r>
              <a:rPr b="1" lang="en-US" sz="2400" spc="-1" strike="noStrike">
                <a:solidFill>
                  <a:srgbClr val="275f32"/>
                </a:solidFill>
                <a:latin typeface="Arial"/>
              </a:rPr>
              <a:t>and present their products: watermelons, cantaloupes, peaches and grapes.</a:t>
            </a:r>
            <a:endParaRPr b="0" lang="en-US" sz="2400" spc="-1" strike="noStrike">
              <a:solidFill>
                <a:srgbClr val="5a6378"/>
              </a:solidFill>
              <a:latin typeface="Trebuchet MS"/>
            </a:endParaRPr>
          </a:p>
        </p:txBody>
      </p:sp>
      <p:pic>
        <p:nvPicPr>
          <p:cNvPr id="153" name="Picture 2" descr="http://s46.radikal.ru/i113/0907/4f/ae20c56166e9.jpg"/>
          <p:cNvPicPr/>
          <p:nvPr/>
        </p:nvPicPr>
        <p:blipFill>
          <a:blip r:embed="rId2"/>
          <a:stretch/>
        </p:blipFill>
        <p:spPr>
          <a:xfrm>
            <a:off x="324000" y="1989000"/>
            <a:ext cx="3828960" cy="250524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5" descr="34698_Original.jpg"/>
          <p:cNvPicPr/>
          <p:nvPr/>
        </p:nvPicPr>
        <p:blipFill>
          <a:blip r:embed="rId3"/>
          <a:stretch/>
        </p:blipFill>
        <p:spPr>
          <a:xfrm>
            <a:off x="4427640" y="1773360"/>
            <a:ext cx="3755880" cy="238896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9" descr="0b26be6363c0ac7c21e49f46b76f7886.jpg"/>
          <p:cNvPicPr/>
          <p:nvPr/>
        </p:nvPicPr>
        <p:blipFill>
          <a:blip r:embed="rId4"/>
          <a:stretch/>
        </p:blipFill>
        <p:spPr>
          <a:xfrm>
            <a:off x="324000" y="4205160"/>
            <a:ext cx="3828960" cy="265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элла\Downloads\1-prodazha-krupnyim-optom-arbuza.jpg"/>
          <p:cNvPicPr/>
          <p:nvPr/>
        </p:nvPicPr>
        <p:blipFill>
          <a:blip r:embed="rId5"/>
          <a:stretch/>
        </p:blipFill>
        <p:spPr>
          <a:xfrm>
            <a:off x="4643280" y="4005360"/>
            <a:ext cx="35420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5f32"/>
                </a:solidFill>
                <a:latin typeface="Arial"/>
              </a:rPr>
              <a:t>Festival guests can taste more than a hundred varieties of watermelons and cantaloupes and even win a ton of wheat or watermelons. </a:t>
            </a:r>
            <a:br>
              <a:rPr sz="2400"/>
            </a:br>
            <a:r>
              <a:rPr b="0" lang="en-US" sz="2400" spc="-1" strike="noStrike">
                <a:solidFill>
                  <a:srgbClr val="275f32"/>
                </a:solidFill>
                <a:latin typeface="Arial"/>
              </a:rPr>
              <a:t>Festival area is a park in Strelka village which houses a colouful concert stage for local art groups and where various competitions and games are held.</a:t>
            </a:r>
            <a:endParaRPr b="0" lang="en-US" sz="2400" spc="-1" strike="noStrike">
              <a:solidFill>
                <a:srgbClr val="5a6378"/>
              </a:solidFill>
              <a:latin typeface="Trebuchet MS"/>
            </a:endParaRPr>
          </a:p>
        </p:txBody>
      </p:sp>
      <p:pic>
        <p:nvPicPr>
          <p:cNvPr id="158" name="Содержимое 4" descr="110_arbuz-ray-1.jpg"/>
          <p:cNvPicPr/>
          <p:nvPr/>
        </p:nvPicPr>
        <p:blipFill>
          <a:blip r:embed="rId2">
            <a:lum contrast="20000"/>
          </a:blip>
          <a:stretch/>
        </p:blipFill>
        <p:spPr>
          <a:xfrm rot="572400">
            <a:off x="468000" y="2349000"/>
            <a:ext cx="2133720" cy="3202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9" name="Содержимое 5" descr="110_arbuz-ray-9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3348000" y="2708280"/>
            <a:ext cx="1758960" cy="2487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0" name="Picture 8" descr="C:\Users\элла\Downloads\110_arbuz-ray-5.jpg"/>
          <p:cNvPicPr/>
          <p:nvPr/>
        </p:nvPicPr>
        <p:blipFill>
          <a:blip r:embed="rId4"/>
          <a:stretch/>
        </p:blipFill>
        <p:spPr>
          <a:xfrm>
            <a:off x="1979640" y="5132520"/>
            <a:ext cx="2232000" cy="1501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1" name="Picture 5" descr="C:\Users\элла\Downloads\971130928.jpg"/>
          <p:cNvPicPr/>
          <p:nvPr/>
        </p:nvPicPr>
        <p:blipFill>
          <a:blip r:embed="rId5">
            <a:lum contrast="20000"/>
          </a:blip>
          <a:stretch/>
        </p:blipFill>
        <p:spPr>
          <a:xfrm rot="682800">
            <a:off x="5357520" y="2841120"/>
            <a:ext cx="3095640" cy="2335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2" name="Picture 7" descr="C:\Users\элла\Downloads\738208265.jpg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5003640" y="5010120"/>
            <a:ext cx="266400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Trebuchet MS"/>
            </a:endParaRPr>
          </a:p>
        </p:txBody>
      </p:sp>
      <p:pic>
        <p:nvPicPr>
          <p:cNvPr id="164" name="Содержимое 5" descr="1364c98c2525277de7b08d7f9ab098d4_5516.jpg"/>
          <p:cNvPicPr/>
          <p:nvPr/>
        </p:nvPicPr>
        <p:blipFill>
          <a:blip r:embed="rId1"/>
          <a:stretch/>
        </p:blipFill>
        <p:spPr>
          <a:xfrm>
            <a:off x="0" y="0"/>
            <a:ext cx="5737320" cy="438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5" name="Picture 6" descr="C:\Users\элла\Downloads\artificii_revelion.jpg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86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6" name="Picture 4" descr="C:\Users\элла\Downloads\1129.jpg"/>
          <p:cNvPicPr/>
          <p:nvPr/>
        </p:nvPicPr>
        <p:blipFill>
          <a:blip r:embed="rId3"/>
          <a:stretch/>
        </p:blipFill>
        <p:spPr>
          <a:xfrm>
            <a:off x="0" y="3789360"/>
            <a:ext cx="4500720" cy="30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7" name="Picture 5" descr="C:\Users\элла\Downloads\21304772468283.gif"/>
          <p:cNvPicPr/>
          <p:nvPr/>
        </p:nvPicPr>
        <p:blipFill>
          <a:blip r:embed="rId4"/>
          <a:srcRect l="0" t="0" r="0" b="12436"/>
          <a:stretch/>
        </p:blipFill>
        <p:spPr>
          <a:xfrm>
            <a:off x="4210200" y="3618000"/>
            <a:ext cx="4933800" cy="32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8" name=""/>
          <p:cNvSpPr/>
          <p:nvPr/>
        </p:nvSpPr>
        <p:spPr>
          <a:xfrm>
            <a:off x="1042920" y="3141720"/>
            <a:ext cx="7201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d4d6"/>
              </a:gs>
              <a:gs pos="50000">
                <a:srgbClr val="616162"/>
              </a:gs>
              <a:gs pos="100000">
                <a:srgbClr val="d4d4d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THE EVENING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PARTICIPANTS OF THE FESTIVAL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JOY MAGNIFICENT FIREWORKS DISPLA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11:39:43Z</dcterms:created>
  <dc:creator>элла</dc:creator>
  <dc:description/>
  <dc:language>en-US</dc:language>
  <cp:lastModifiedBy>Валерия</cp:lastModifiedBy>
  <dcterms:modified xsi:type="dcterms:W3CDTF">2013-10-10T10:52:16Z</dcterms:modified>
  <cp:revision>26</cp:revision>
  <dc:subject/>
  <dc:title>Festival «Watermelon Heaven»</dc:title>
</cp:coreProperties>
</file>