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309-AE7A-4863-AE27-30A48C53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C86-E763-4D65-B970-4F1FC114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507-2799-42E9-AF7F-FC0EA5B4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6AE-E6A3-4F09-8B99-9589943A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837-59FF-4818-994E-94A38AF6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756-0EC1-47A7-A53C-ABFE7536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B81-F625-4C82-9464-F5661E14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3DA-F2EB-40E1-942D-A87AE0D8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9BA-E734-4411-BBAF-0CC9E2F2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37D-4A7D-467C-846F-DE59AAC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A8D-487E-46CD-A676-86B4851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0E7-6CB5-45EC-8295-27A273B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7F750-9838-420D-8853-E22F297329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1"/>
          <p:cNvSpPr/>
          <p:nvPr/>
        </p:nvSpPr>
        <p:spPr>
          <a:xfrm>
            <a:off x="34920" y="0"/>
            <a:ext cx="10044000" cy="7559640"/>
          </a:xfrm>
          <a:custGeom>
            <a:avLst/>
            <a:gdLst/>
            <a:ahLst/>
            <a:rect l="l" t="t" r="r" b="b"/>
            <a:pathLst>
              <a:path w="27902" h="21001">
                <a:moveTo>
                  <a:pt x="27901" y="0"/>
                </a:moveTo>
                <a:cubicBezTo>
                  <a:pt x="2282" y="4244"/>
                  <a:pt x="0" y="21000"/>
                  <a:pt x="0" y="21000"/>
                </a:cubicBezTo>
              </a:path>
            </a:pathLst>
          </a:custGeom>
          <a:noFill/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"/>
          <p:cNvSpPr/>
          <p:nvPr/>
        </p:nvSpPr>
        <p:spPr>
          <a:xfrm>
            <a:off x="0" y="6792840"/>
            <a:ext cx="382680" cy="38268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/>
          <p:cNvSpPr/>
          <p:nvPr/>
        </p:nvSpPr>
        <p:spPr>
          <a:xfrm>
            <a:off x="163440" y="5923080"/>
            <a:ext cx="642960" cy="6458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606600" y="5005440"/>
            <a:ext cx="723600" cy="7254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"/>
          <p:cNvSpPr/>
          <p:nvPr/>
        </p:nvSpPr>
        <p:spPr>
          <a:xfrm>
            <a:off x="1111320" y="3959280"/>
            <a:ext cx="925560" cy="9288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"/>
          <p:cNvSpPr/>
          <p:nvPr/>
        </p:nvSpPr>
        <p:spPr>
          <a:xfrm>
            <a:off x="1987560" y="2603520"/>
            <a:ext cx="1325520" cy="13302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3348000" y="1263600"/>
            <a:ext cx="1592280" cy="159696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5178600" y="155520"/>
            <a:ext cx="1898640" cy="19051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7559640" y="0"/>
            <a:ext cx="2521080" cy="1573200"/>
          </a:xfrm>
          <a:custGeom>
            <a:avLst/>
            <a:gdLst/>
            <a:ahLst/>
            <a:rect l="l" t="t" r="r" b="b"/>
            <a:pathLst>
              <a:path w="7001" h="4371">
                <a:moveTo>
                  <a:pt x="4720" y="4150"/>
                </a:moveTo>
                <a:lnTo>
                  <a:pt x="4129" y="4314"/>
                </a:lnTo>
                <a:lnTo>
                  <a:pt x="3500" y="4370"/>
                </a:lnTo>
                <a:lnTo>
                  <a:pt x="2870" y="4314"/>
                </a:lnTo>
                <a:lnTo>
                  <a:pt x="2278" y="4150"/>
                </a:lnTo>
                <a:lnTo>
                  <a:pt x="1733" y="3891"/>
                </a:lnTo>
                <a:lnTo>
                  <a:pt x="1245" y="3544"/>
                </a:lnTo>
                <a:lnTo>
                  <a:pt x="822" y="3120"/>
                </a:lnTo>
                <a:lnTo>
                  <a:pt x="477" y="2631"/>
                </a:lnTo>
                <a:lnTo>
                  <a:pt x="218" y="2083"/>
                </a:lnTo>
                <a:lnTo>
                  <a:pt x="55" y="1490"/>
                </a:lnTo>
                <a:lnTo>
                  <a:pt x="0" y="859"/>
                </a:lnTo>
                <a:lnTo>
                  <a:pt x="55" y="227"/>
                </a:lnTo>
                <a:lnTo>
                  <a:pt x="117" y="0"/>
                </a:lnTo>
                <a:lnTo>
                  <a:pt x="7000" y="0"/>
                </a:lnTo>
                <a:lnTo>
                  <a:pt x="7000" y="235"/>
                </a:lnTo>
                <a:lnTo>
                  <a:pt x="7000" y="859"/>
                </a:lnTo>
                <a:lnTo>
                  <a:pt x="6943" y="1490"/>
                </a:lnTo>
                <a:lnTo>
                  <a:pt x="6781" y="2083"/>
                </a:lnTo>
                <a:lnTo>
                  <a:pt x="6522" y="2631"/>
                </a:lnTo>
                <a:lnTo>
                  <a:pt x="6177" y="3120"/>
                </a:lnTo>
                <a:lnTo>
                  <a:pt x="5754" y="3544"/>
                </a:lnTo>
                <a:lnTo>
                  <a:pt x="5266" y="3891"/>
                </a:lnTo>
                <a:lnTo>
                  <a:pt x="4720" y="4150"/>
                </a:lnTo>
              </a:path>
            </a:pathLst>
          </a:cu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232335"/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 rot="5400000">
            <a:off x="6426000" y="3485880"/>
            <a:ext cx="6048360" cy="126072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 rot="5400000">
            <a:off x="4841640" y="2320560"/>
            <a:ext cx="400320" cy="10080720"/>
          </a:xfrm>
          <a:custGeom>
            <a:avLst/>
            <a:gdLst>
              <a:gd name="textAreaLeft" fmla="*/ 360 w 400320"/>
              <a:gd name="textAreaRight" fmla="*/ 399960 w 40032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454">
                <a:moveTo>
                  <a:pt x="85" y="0"/>
                </a:moveTo>
                <a:arcTo wR="85" hR="85" stAng="16200000" swAng="-5400000"/>
                <a:lnTo>
                  <a:pt x="0" y="543369"/>
                </a:lnTo>
                <a:arcTo wR="85" hR="85" stAng="10800000" swAng="-5400000"/>
                <a:lnTo>
                  <a:pt x="21515" y="543454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 rot="5400000">
            <a:off x="4495680" y="-44928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60160" y="167760"/>
            <a:ext cx="89024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55640" y="7034040"/>
            <a:ext cx="21002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0" y="126036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4300560" y="3633840"/>
            <a:ext cx="1008072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0" y="705636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 rot="16200000">
            <a:off x="8804160" y="-16848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 rot="16200000">
            <a:off x="8804520" y="336600"/>
            <a:ext cx="18720" cy="252720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61389">
                <a:moveTo>
                  <a:pt x="1800" y="0"/>
                </a:moveTo>
                <a:arcTo wR="1800" hR="1800" stAng="16200000" swAng="-5400000"/>
                <a:lnTo>
                  <a:pt x="0" y="2859589"/>
                </a:lnTo>
                <a:arcTo wR="1800" hR="1800" stAng="10800000" swAng="-5400000"/>
                <a:lnTo>
                  <a:pt x="19800" y="2861389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 rot="16200000">
            <a:off x="8804160" y="83916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 rot="16200000">
            <a:off x="8804160" y="1344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 rot="16200000">
            <a:off x="8804160" y="1847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 rot="16200000">
            <a:off x="8804160" y="2352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 rot="16200000">
            <a:off x="8804160" y="2855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 rot="16200000">
            <a:off x="8804160" y="3360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 rot="16200000">
            <a:off x="8804160" y="3863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 rot="16200000">
            <a:off x="8804160" y="4368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2"/>
          <p:cNvSpPr/>
          <p:nvPr/>
        </p:nvSpPr>
        <p:spPr>
          <a:xfrm rot="16200000">
            <a:off x="8804160" y="4871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3"/>
          <p:cNvSpPr/>
          <p:nvPr/>
        </p:nvSpPr>
        <p:spPr>
          <a:xfrm rot="16200000">
            <a:off x="8804160" y="5376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rot="16200000">
            <a:off x="8804160" y="5879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1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Ледяные пустыни Антарктиды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720720" y="2101680"/>
            <a:ext cx="8280360" cy="476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Кит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41240" y="2160720"/>
            <a:ext cx="4200480" cy="4859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5151600" y="2160720"/>
            <a:ext cx="42004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Спасибо за внимание!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3038400" y="2627280"/>
            <a:ext cx="4200480" cy="34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Альбатрос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4200480" cy="4500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5151600" y="1979640"/>
            <a:ext cx="420048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Поморник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741240" y="1979640"/>
            <a:ext cx="4200480" cy="4859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5462640" y="2101680"/>
            <a:ext cx="3576600" cy="476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Буревестник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741240" y="2160720"/>
            <a:ext cx="4200480" cy="467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5151600" y="2160720"/>
            <a:ext cx="420048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Баклан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093680" y="2101680"/>
            <a:ext cx="3495960" cy="4762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5151600" y="2160720"/>
            <a:ext cx="420048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Императорский пингвин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741240" y="2160720"/>
            <a:ext cx="4200480" cy="4679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5587920" y="2101680"/>
            <a:ext cx="3326040" cy="476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20720" y="5666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Хохлатый пингвин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069920" y="1979640"/>
            <a:ext cx="3543480" cy="488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5151600" y="1979640"/>
            <a:ext cx="42004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Тюлень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254240" y="2101680"/>
            <a:ext cx="3174840" cy="4762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4859280" y="3240000"/>
            <a:ext cx="504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Дельфин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741240" y="2160720"/>
            <a:ext cx="4200480" cy="4679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5151600" y="2160720"/>
            <a:ext cx="420048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8:15:32Z</dcterms:created>
  <dc:creator/>
  <dc:description/>
  <dc:language>en-US</dc:language>
  <cp:lastModifiedBy>User</cp:lastModifiedBy>
  <dcterms:modified xsi:type="dcterms:W3CDTF">2013-10-10T16:46:12Z</dcterms:modified>
  <cp:revision>2</cp:revision>
  <dc:subject/>
  <dc:title>Ледяные пустыни Антарктиды</dc:title>
</cp:coreProperties>
</file>