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52F-2074-45E0-8AB2-BBFDA491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87040" y="55566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0A4-2526-4CC9-B9D8-E3AA5448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704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7432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731-62CC-49E1-AED5-20C729A7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58040" y="2690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28680" y="2690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87040" y="55566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58040" y="55566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828680" y="55566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961-B56E-49F9-804F-4A2909CC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107E-AC12-432C-AC95-CFD4D565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87040" y="26906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3619-81C8-485A-8AB8-58BADD57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A1ED-F3E8-42BB-9B0D-6DAB8776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1750-914C-4B82-A4FC-DB090AD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401-2019-49E0-A02B-642E2E1D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63640" y="285480"/>
            <a:ext cx="584496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040D-E48C-4F5F-BDCF-E03C8922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8704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C6D2-924A-4409-BCD0-B40AC26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87040" y="26906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3A7-AAB1-41FA-ADD2-A9632E0B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7432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2451-50AE-4D1B-A88A-049869A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7040" y="55566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4E7C-D534-4154-84F1-90D3CC18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87040" y="55566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8B86-D917-4891-A000-2E320C99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704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7432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71D2-49D9-4241-B184-E2F27D38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858040" y="2690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8680" y="2690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87040" y="55566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858040" y="55566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828680" y="555660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E9B7-10FB-401D-BB2C-B065780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6BE-3BFF-4F06-96B6-6C2997CB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142-6B78-4F13-948F-AA5B37A7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FDA-FEB7-4D08-9311-EF21EA4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63640" y="285480"/>
            <a:ext cx="584496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57A-1588-4D49-9106-EBC89E9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8704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89A-21C5-4F94-AD6D-B7950E3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74320" y="555660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27A-EC15-44D5-9CBE-0B17D5E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704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4320" y="2690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7040" y="555660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E7A-6EC3-4976-818A-DAF2DEF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840" y="1465200"/>
            <a:ext cx="328680" cy="631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0120" y="1465200"/>
            <a:ext cx="245880" cy="6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6440" y="2027160"/>
            <a:ext cx="315720" cy="633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2027160"/>
            <a:ext cx="276120" cy="6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5400" y="1930320"/>
            <a:ext cx="420480" cy="5637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1320840"/>
            <a:ext cx="23760" cy="1403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1920" y="237492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285480"/>
            <a:ext cx="5844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87040" y="26906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71200" y="83246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742840" y="832464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281200" y="83246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A882-5C59-4B7D-B44E-832E55C1A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49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0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3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2234880"/>
            <a:ext cx="58291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7CA7-862E-4AD5-A229-87575C841C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640" y="285840"/>
            <a:ext cx="584496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Нарушение строения ног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лоскостопие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0280" y="1403280"/>
            <a:ext cx="576108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Этот дефект строения стопы у детей встречается чаще, чем любой другой. При плоскостопии свод стопы  недостаточно прочен и не образует правильного изгиба. В результате вся поверхность прилегает к полу, когда ребенок стоит. Причиной плоскостопия обычно бывает слабость мышц и связок стопы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Ношение неподходящей обуви не может вызвать плоскостопия у детей с нормальной стопой, но если у ребенка есть хотя бы незначительное плоскостопие, то неподходящая обувь ухудшит состояние его ног и плоскостопие станет более выраженным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Tahoma"/>
              </a:rPr>
              <a:t>Вот как можно попробовать избавиться от плоскостопи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374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Пальцами босых ног подбирай с пола или ковра небольшой шарик или предметы. Подержав шарик некоторое время пальцами ног, затем положи его в стоящую на полку миску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374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Встань лицом к стене на расстоянии 20-30 см и притесь в нее ладонями. Плавно покачивайся вперед – назад, не отрывая подошв и пяток от пола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374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Для исправления плоскостопия врачи-ортопеды советуют носить стельки-супинаторы или специальную ортопедическую обувь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Иногда плоскостопие не приносит никаких неприятностей, в других случаях ступни и ноги у ребенка с плоскостопием болят от физической нагрузки. Независимо от того болят у ребенка ноги или нет, ему не нужно воздерживаться от активных игр. Наоборот, при плоскостопии рекомендуется бегать и прыгать как можно больше. Физическая тренировка укрепляет слабые мышцы и связки стопы и помогает избавиться от плоскостопи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285480"/>
            <a:ext cx="583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Как ухаживать за нога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360" y="1116000"/>
            <a:ext cx="5904000" cy="70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ажно, чтобы время от времени состояние ног ребенка проверял ортопед. Врач сразу заметит любое отклонение от нормы и назначит лечени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любят бегать по дому и по улице босиком. это приносит несомненную пользу, если соблюдать следующие прави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 ходить босиком по полу, если в доме холодно – можно простудитьс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 бегать босиком по улице там, где валяются битое стекло, гвозди или другие предметы, которые могут поранить или занозить ног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жаркий день не бегать по раскаленному асфальту, можно сжечь ступн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ак следует беречь ноги и заботится  о н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8:53:19Z</dcterms:created>
  <dc:creator>HOME</dc:creator>
  <dc:description/>
  <dc:language>en-US</dc:language>
  <cp:lastModifiedBy>HOME</cp:lastModifiedBy>
  <dcterms:modified xsi:type="dcterms:W3CDTF">2010-02-13T20:09:59Z</dcterms:modified>
  <cp:revision>2</cp:revision>
  <dc:subject/>
  <dc:title>Нарушение строения ног. Плоскостопие.</dc:title>
</cp:coreProperties>
</file>