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603-6EA5-40E8-A48E-E9840CDF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820-C42B-4938-BBAF-9006581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1FF-05BF-46E9-8E26-CB47910F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AA4-6023-4B58-83CB-BF391BB6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CB0-AAE4-437B-ACE0-7CC7931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194-22E9-43DB-BC36-83A41E9C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831-C035-4994-A18D-7DA8C029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0A1-A096-4088-BEE4-DE6ADE15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9B5-0361-4BD5-AA5A-31ADC15D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A47-6D5C-4A0F-99C4-3AC21CD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6BD-6B11-4691-8BCF-FB0E5AA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39E-644E-46CE-A6DE-DB46B723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1D2-B3BE-49C0-8D36-F6DDA2F0FC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0040" y="157176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рок русского язы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ема «одушевлённые и неодушевлён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на существительны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786280" y="514368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гилевце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га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BD05845_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928880" y="2357280"/>
            <a:ext cx="74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лгорит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хожу имя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авлю в начальную фор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? Ч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значает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душевлённое, неодушевлё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500280" y="21430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р. 12 №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Рисунок 5" descr="05[1].gif"/>
          <p:cNvPicPr/>
          <p:nvPr/>
        </p:nvPicPr>
        <p:blipFill>
          <a:blip r:embed="rId2"/>
          <a:stretch/>
        </p:blipFill>
        <p:spPr>
          <a:xfrm>
            <a:off x="1785960" y="2786040"/>
            <a:ext cx="57150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928880" y="2071800"/>
            <a:ext cx="571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разды –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борозды, сл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ибитк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– крытая дорожная повоз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мщик –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учер, воз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лучок –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едок повоз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на котором сидит ку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улуп –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длинная  шуба  с боль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ворот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ушак -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оя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3214800" y="1714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мин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3" descr="2[1].gif"/>
          <p:cNvPicPr/>
          <p:nvPr/>
        </p:nvPicPr>
        <p:blipFill>
          <a:blip r:embed="rId2"/>
          <a:stretch/>
        </p:blipFill>
        <p:spPr>
          <a:xfrm>
            <a:off x="3071880" y="2500200"/>
            <a:ext cx="3071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785960" y="1714680"/>
            <a:ext cx="557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рточка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дчеркни одной чертой одушевлён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мена существительны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рег, горох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отец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товарищ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помидор, пшеница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учени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ол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шахматы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шахматис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428840" y="2000160"/>
            <a:ext cx="657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рточка №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дчеркни одной чертой одушевлён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мена существ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Девоч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мотрит  в окно и любуется  красотой! На солнце сверкает  и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т пролетел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синич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ветке нахохлил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оробыше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Documents and Settings\Margarita\My documents\Мои рисунки\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735640" y="2714760"/>
            <a:ext cx="411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це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5»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-  без ош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4»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1, 2 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3»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– 3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301120" y="2500200"/>
            <a:ext cx="277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Я узна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Я вспомни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Я горжусь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71680" y="343080"/>
            <a:ext cx="8010360" cy="6514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432709219.gif"/>
          <p:cNvPicPr/>
          <p:nvPr/>
        </p:nvPicPr>
        <p:blipFill>
          <a:blip r:embed="rId2"/>
          <a:stretch/>
        </p:blipFill>
        <p:spPr>
          <a:xfrm>
            <a:off x="2071800" y="2000160"/>
            <a:ext cx="485748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071800" y="6072120"/>
            <a:ext cx="55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. з.: стр. 12 – 13,  на вы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D05845_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496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1714680" y="270504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 русский – годы к ря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ушой, с усердием, с ум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с ждет великая награ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а награда – в нём са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ир Абдул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D05845_"/>
          <p:cNvPicPr/>
          <p:nvPr/>
        </p:nvPicPr>
        <p:blipFill>
          <a:blip r:embed="rId1"/>
          <a:stretch/>
        </p:blipFill>
        <p:spPr>
          <a:xfrm>
            <a:off x="428760" y="0"/>
            <a:ext cx="7993080" cy="6496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286000" y="2571840"/>
            <a:ext cx="37148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я, Род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г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D05845_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496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р"/>
          <p:cNvPicPr/>
          <p:nvPr/>
        </p:nvPicPr>
        <p:blipFill>
          <a:blip r:embed="rId2"/>
          <a:stretch/>
        </p:blipFill>
        <p:spPr>
          <a:xfrm>
            <a:off x="2428920" y="2214720"/>
            <a:ext cx="4071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357120" y="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243240" y="1785960"/>
            <a:ext cx="261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лё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б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4" descr="mig_25-1.jpg"/>
          <p:cNvPicPr/>
          <p:nvPr/>
        </p:nvPicPr>
        <p:blipFill>
          <a:blip r:embed="rId2"/>
          <a:stretch/>
        </p:blipFill>
        <p:spPr>
          <a:xfrm>
            <a:off x="6143760" y="928800"/>
            <a:ext cx="221436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Palto---quelleru-original.jpg"/>
          <p:cNvPicPr/>
          <p:nvPr/>
        </p:nvPicPr>
        <p:blipFill>
          <a:blip r:embed="rId3"/>
          <a:stretch/>
        </p:blipFill>
        <p:spPr>
          <a:xfrm rot="20136600">
            <a:off x="1631880" y="4406400"/>
            <a:ext cx="1643040" cy="1686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5ebeb31088bcb1a926e7566de5806468.gif"/>
          <p:cNvPicPr/>
          <p:nvPr/>
        </p:nvPicPr>
        <p:blipFill>
          <a:blip r:embed="rId4"/>
          <a:stretch/>
        </p:blipFill>
        <p:spPr>
          <a:xfrm>
            <a:off x="5786280" y="4143240"/>
            <a:ext cx="2000520" cy="2143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.gif"/>
          <p:cNvPicPr/>
          <p:nvPr/>
        </p:nvPicPr>
        <p:blipFill>
          <a:blip r:embed="rId5"/>
          <a:stretch/>
        </p:blipFill>
        <p:spPr>
          <a:xfrm>
            <a:off x="1214280" y="1214280"/>
            <a:ext cx="2428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571840" y="2500200"/>
            <a:ext cx="4643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               самол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бочка       паль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846000" y="2571840"/>
            <a:ext cx="72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ушевлённые и неодушевлё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а существи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785960" y="4143240"/>
            <a:ext cx="578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определить одушевлённые и неодушевлё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ена существи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071960" y="2286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143160" y="431316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. 13 №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Рисунок 3" descr="Pages_turn.gif"/>
          <p:cNvPicPr/>
          <p:nvPr/>
        </p:nvPicPr>
        <p:blipFill>
          <a:blip r:embed="rId2"/>
          <a:stretch/>
        </p:blipFill>
        <p:spPr>
          <a:xfrm>
            <a:off x="2857680" y="1928880"/>
            <a:ext cx="3143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Рисунок1.wmf"/>
          <p:cNvPicPr/>
          <p:nvPr/>
        </p:nvPicPr>
        <p:blipFill>
          <a:blip r:embed="rId1"/>
          <a:stretch/>
        </p:blipFill>
        <p:spPr>
          <a:xfrm>
            <a:off x="566640" y="171360"/>
            <a:ext cx="8010720" cy="6515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857680" y="1357200"/>
            <a:ext cx="414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есело си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есяц над се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елый снег сверк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иним огонь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. Су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3" descr="619998648.gif"/>
          <p:cNvPicPr/>
          <p:nvPr/>
        </p:nvPicPr>
        <p:blipFill>
          <a:blip r:embed="rId2"/>
          <a:stretch/>
        </p:blipFill>
        <p:spPr>
          <a:xfrm>
            <a:off x="2214720" y="3857760"/>
            <a:ext cx="471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14:53:22Z</dcterms:created>
  <dc:creator>Margarita</dc:creator>
  <dc:description/>
  <dc:language>en-US</dc:language>
  <cp:lastModifiedBy>Margarita</cp:lastModifiedBy>
  <dcterms:modified xsi:type="dcterms:W3CDTF">2013-10-06T03:36:57Z</dcterms:modified>
  <cp:revision>61</cp:revision>
  <dc:subject/>
  <dc:title>Слайд 1</dc:title>
</cp:coreProperties>
</file>