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2C538-4D89-4274-9EDC-42514DCB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120D5-A7E9-4CA8-B693-07F9C36B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F608B-D16E-4F84-B7ED-2751CB44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E3C02-C8FE-4A85-8A62-4967CD7F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618D-7C8A-4817-8728-26658BA1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BDF2-9FD8-4ADD-9B2E-2A9E6CCA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3BF7-EE11-4457-8BF8-C35E9867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0D1B-EAD7-4F27-98EB-DA12F577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D6F0-E6A5-41E0-9D41-CA5BA72F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30BB-4F87-4B4C-B137-F1D29879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8D89-51A5-4C53-9C96-5EAEC7D3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22F29-D35E-4E79-AC4D-8B476084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7E4F-1344-4E89-90F8-D5C38CE8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3478-7489-4C92-B1F1-04DD0E58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2379-8D5F-423E-A986-6E5DA741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F60F-5DA0-4C17-99E7-A29EAB81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7C65-3C90-4024-BD23-AAB7DA9E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3812-1B6E-43F0-9198-95E8D3ED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6AFC3-8758-46F9-B70A-F0521602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444F7-64AE-416A-9D97-1897289B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70B71-D0A5-4370-A2DC-652D776E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34C11-77D4-41B3-AC18-5879CCE7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D2462-E39D-41E0-AA41-6E36FDDA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0D64B-5130-479C-B97F-8BD09CA2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C52A-D0BF-4A64-BEA9-36956A8800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78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a9400"/>
                </a:gs>
                <a:gs pos="100000">
                  <a:srgbClr val="3e7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78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a9400"/>
                </a:gs>
                <a:gs pos="100000">
                  <a:srgbClr val="3e7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2B0A-C62A-422A-8AB5-CEAE445773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0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0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95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Garamond"/>
              </a:rPr>
              <a:t>Оказание первой помощи при укусах насекомых и змей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Garamond"/>
              </a:rPr>
              <a:t>Укусы жалящих насекомых</a:t>
            </a: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4464000" cy="597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9400"/>
                </a:solidFill>
                <a:latin typeface="Garamond"/>
              </a:rPr>
              <a:t>     </a:t>
            </a: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Реакция организма на укусы пчёл и ос зависит от индивидуальной переносимости к их яду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    </a:t>
            </a: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Особенно опасны множественные укус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64000" y="333360"/>
            <a:ext cx="3397320" cy="3152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64000" y="3789360"/>
            <a:ext cx="3383280" cy="2662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91520" cy="612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9400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Наиболее опасным и крупным является шершень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  </a:t>
            </a: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Расцветкой он похож на осу, но размер его значительно  больш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184720" cy="356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3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94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Если вас ужалила оса или пчела, не спешите её прихлопну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Учёные установили, что химическое соединение, которое попадает из тельца убитого насекомого в воздух, приводит всех находящихся неподалёку сородичей в агрессивное состоя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Если где-то рядом находится гнездо, то уловив сигнал тревоги, насекомые бросаются на защиту своего дома и начинают жалить всё живое на своём пу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800"/>
                            </p:stCondLst>
                            <p:childTnLst>
                              <p:par>
                                <p:cTn id="31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2500"/>
                            </p:stCondLst>
                            <p:childTnLst>
                              <p:par>
                                <p:cTn id="31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1197000"/>
            <a:ext cx="7918200" cy="2820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33"/>
                </a:solidFill>
                <a:latin typeface="Garamond"/>
              </a:rPr>
              <a:t>Что необходимо сделать если вы подверглись нападению ос или пчёл</a:t>
            </a:r>
            <a:endParaRPr b="1" lang="en-US" sz="54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625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Осторожно удалить из кожи жало, тупой стороной лезвия ножа или ногте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Промойте место укуса водой с мыл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Приложите на место укуса хол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Дать обезболивающее средство и средство от аллерг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Можно приложит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кашицу из соли и во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Хорошо помога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млечный сок одуванчи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148360" y="3419640"/>
            <a:ext cx="3673440" cy="317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500"/>
                            </p:stCondLst>
                            <p:childTnLst>
                              <p:par>
                                <p:cTn id="369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500"/>
                            </p:stCondLst>
                            <p:childTnLst>
                              <p:par>
                                <p:cTn id="3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1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272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cc33"/>
                </a:solidFill>
                <a:latin typeface="Garamond"/>
              </a:rPr>
              <a:t>Нельзя!</a:t>
            </a:r>
            <a:endParaRPr b="1" lang="en-US" sz="66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28352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4400" spc="-1" strike="noStrike">
                <a:solidFill>
                  <a:srgbClr val="2a5400"/>
                </a:solidFill>
                <a:latin typeface="Garamond"/>
              </a:rPr>
              <a:t>Извлекать пчелиное жало пинцетом или захватив его двумя пальцами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4400" spc="-1" strike="noStrike">
                <a:solidFill>
                  <a:srgbClr val="2a5400"/>
                </a:solidFill>
                <a:latin typeface="Garamond"/>
              </a:rPr>
              <a:t>Таким образом вы можете выдавить оставшийся яд в кожу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564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Garamond"/>
              </a:rPr>
              <a:t>Пиявки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064360" cy="518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94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В низких, болотистых местах, в ручьях с медленным течением на человека могут напасть пияв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Пиявок можн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встретить 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лесных тропинках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в низких влажны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местах посл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дожд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284720" y="2781360"/>
            <a:ext cx="4267080" cy="318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4038480" cy="496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94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Их укус сам по себе не опасен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  </a:t>
            </a: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Ранка кровоточи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  </a:t>
            </a: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40 – 50 минут ил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  </a:t>
            </a: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болит 2-3 дня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  </a:t>
            </a: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если в коже  остались челюсти пиявки.</a:t>
            </a:r>
            <a:r>
              <a:rPr b="0" lang="en-US" sz="2800" spc="-1" strike="noStrike">
                <a:solidFill>
                  <a:srgbClr val="4a94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4176720" cy="3837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500"/>
                            </p:stCondLst>
                            <p:childTnLst>
                              <p:par>
                                <p:cTn id="489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Garamond"/>
              </a:rPr>
              <a:t>Способ удаления пиявки</a:t>
            </a:r>
            <a:endParaRPr b="1" lang="en-US" sz="48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Посыпьте пиявку влажной солью, золой или табаком, прикоснитесь зажженной спичкой, сигаретой или помажьте йодом спирт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Слегка сдавите место укуса, чтобы убедиться, что рана чиста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Оставьте каплю крови на месте укуса как можно дольше. Кровотечение остановится через несколько мину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Смажьте рану йодом или спирт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500"/>
                            </p:stCondLst>
                            <p:childTnLst>
                              <p:par>
                                <p:cTn id="526" nodeType="after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6000"/>
                            </p:stCondLst>
                            <p:childTnLst>
                              <p:par>
                                <p:cTn id="532" nodeType="after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8500"/>
                            </p:stCondLst>
                            <p:childTnLst>
                              <p:par>
                                <p:cTn id="538" nodeType="after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10920" y="404640"/>
            <a:ext cx="8064360" cy="604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Лето в лесу. Яркий солнечный день, запах лесных трав, пение птиц…и назойливый писк комаров, который портит нам настроение и не даёт насладится природой. Они лезут везде: в лицо, уши, под рукава, кусают нас через одежду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Мы отмахиваемся от них сначала руками, затем ветками и в конце концов бежим из лесу, кляня противных насекомых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9400"/>
                            </p:stCondLst>
                            <p:childTnLst>
                              <p:par>
                                <p:cTn id="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Garamond"/>
              </a:rPr>
              <a:t>Ядовитые змеи</a:t>
            </a:r>
            <a:endParaRPr b="1" lang="en-US" sz="72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056360" cy="3229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3645000"/>
            <a:ext cx="8229600" cy="295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9400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Селится вблизи источника воды в местах хорошо прогреваемых солнце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Надёжное убежище – кучи прелого сена, сухих листьев, высокие сухие кочки, п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Укус болезненный, но не смертельны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1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6" nodeType="after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6000"/>
                            </p:stCondLst>
                            <p:childTnLst>
                              <p:par>
                                <p:cTn id="572" nodeType="after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4292640"/>
            <a:ext cx="8229600" cy="2187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9400"/>
                </a:solidFill>
                <a:latin typeface="Garamond"/>
              </a:rPr>
              <a:t>    </a:t>
            </a: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Места обитания: предгорные и горные районы Кавказа и Закавказь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   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Укус опасен для жизни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4803840" cy="2640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788000" y="304920"/>
            <a:ext cx="4356000" cy="34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0"/>
                            </p:stCondLst>
                            <p:childTnLst>
                              <p:par>
                                <p:cTn id="595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4220640"/>
            <a:ext cx="8229600" cy="20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9400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Места обитания: в Туркмении, южном Узбекистане, Таджикистан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Укус смертельно опасен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303120"/>
            <a:ext cx="4174920" cy="3357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43280" y="260280"/>
            <a:ext cx="4034160" cy="3386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2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038480" cy="612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2a5400"/>
                </a:solidFill>
                <a:latin typeface="Garamond"/>
              </a:rPr>
              <a:t>Места обитания: Дальний Восток, западная граница - река Аргунь, северная граница – устье Аму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2a5400"/>
                </a:solidFill>
                <a:latin typeface="Garamond"/>
              </a:rPr>
              <a:t>Хорошо плавают и при случае ловят рыбу. Ядовиты, но смертельные случаи после укуса не извест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43280" y="907920"/>
            <a:ext cx="4197600" cy="475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4038480" cy="619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94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Места обитания: Дагестан, Закавказь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юг Казахстана, Туркмения, Узбекистан,  Таджикистан, юг Киргизии.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Укус смертельно опасен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4183200" cy="3997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61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67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9400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2a5400"/>
                </a:solidFill>
                <a:latin typeface="Garamond"/>
              </a:rPr>
              <a:t>Ядовитые животные, как правило не агрессивны. Даже самые ядовитые змеи – кобра и гюрза – при встрече с человеком скрываются, стремительно уползая в нору, щель или заросл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4000" spc="-1" strike="noStrike">
                <a:solidFill>
                  <a:srgbClr val="2a5400"/>
                </a:solidFill>
                <a:latin typeface="Garamond"/>
              </a:rPr>
              <a:t>Доказано, что ядовитые животные наносят укусы лишь в тех случаях, когда их к этому принуждают обстоятельств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5400"/>
                            </p:stCondLst>
                            <p:childTnLst>
                              <p:par>
                                <p:cTn id="6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4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Garamond"/>
              </a:rPr>
              <a:t>Ядовита змея или нет, можно иногда определить по следам укуса</a:t>
            </a:r>
            <a:endParaRPr b="1" lang="en-US" sz="4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716000" y="2565360"/>
            <a:ext cx="4038840" cy="345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a5400"/>
                </a:solidFill>
                <a:uFillTx/>
                <a:latin typeface="Garamond"/>
              </a:rPr>
              <a:t>Следы укусов зме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9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Неядовито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9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Ядовито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9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Гадюк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3889440" cy="3484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500"/>
                            </p:stCondLst>
                            <p:childTnLst>
                              <p:par>
                                <p:cTn id="703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000"/>
                            </p:stCondLst>
                            <p:childTnLst>
                              <p:par>
                                <p:cTn id="709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500"/>
                            </p:stCondLst>
                            <p:childTnLst>
                              <p:par>
                                <p:cTn id="715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7000"/>
                            </p:stCondLst>
                            <p:childTnLst>
                              <p:par>
                                <p:cTn id="721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000" y="1484280"/>
            <a:ext cx="7846920" cy="251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ae8ba"/>
                </a:solidFill>
                <a:latin typeface="Garamond"/>
              </a:rPr>
              <a:t> </a:t>
            </a:r>
            <a:r>
              <a:rPr b="1" lang="en-US" sz="7200" spc="-1" strike="noStrike">
                <a:solidFill>
                  <a:srgbClr val="33cc33"/>
                </a:solidFill>
                <a:latin typeface="Garamond"/>
              </a:rPr>
              <a:t>Предупреждение укусов</a:t>
            </a:r>
            <a:endParaRPr b="1" lang="en-US" sz="72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04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Лучшее средство защиты – резиновые и кожаные сапог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Перед осмотром каменных глыб постучите по ним  палкой или молотк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Хорошо иметь палку при ходьбе по участкам заросшим кустарником и густой траво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Проявлять осторожность и внимательность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Осматривать утром – одежду и обувь, вечером – палатку перед тем, как лечь спа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По возможности запастись противоядной сыворотко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400"/>
                            </p:stCondLst>
                            <p:childTnLst>
                              <p:par>
                                <p:cTn id="7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9700"/>
                            </p:stCondLst>
                            <p:childTnLst>
                              <p:par>
                                <p:cTn id="7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4300"/>
                            </p:stCondLst>
                            <p:childTnLst>
                              <p:par>
                                <p:cTn id="7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1900"/>
                            </p:stCondLst>
                            <p:childTnLst>
                              <p:par>
                                <p:cTn id="7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075520" cy="597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9400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2a5400"/>
                </a:solidFill>
                <a:latin typeface="Garamond"/>
              </a:rPr>
              <a:t>Комары, мухи, гнус, оводы, слепни – довольно часто мы подвергаемся их укусам. Мелкие укусы не опасны, но массовое нападение кровососущих всегда неприятно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4000" spc="-1" strike="noStrike">
                <a:solidFill>
                  <a:srgbClr val="2a5400"/>
                </a:solidFill>
                <a:latin typeface="Garamond"/>
              </a:rPr>
              <a:t>Появляется зуд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4000" spc="-1" strike="noStrike">
                <a:solidFill>
                  <a:srgbClr val="2a5400"/>
                </a:solidFill>
                <a:latin typeface="Garamond"/>
              </a:rPr>
              <a:t>и раздраже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4000" spc="-1" strike="noStrike">
                <a:solidFill>
                  <a:srgbClr val="2a5400"/>
                </a:solidFill>
                <a:latin typeface="Garamond"/>
              </a:rPr>
              <a:t>кож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27640" y="3860640"/>
            <a:ext cx="4248000" cy="2625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7200"/>
                            </p:stCondLst>
                            <p:childTnLst>
                              <p:par>
                                <p:cTn id="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950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160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1736640"/>
            <a:ext cx="6048360" cy="212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Garamond"/>
              </a:rPr>
              <a:t>Ядовитые насекомые</a:t>
            </a:r>
            <a:endParaRPr b="1" lang="en-US" sz="72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280360" cy="583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5400"/>
                </a:solidFill>
                <a:latin typeface="Garamond"/>
              </a:rPr>
              <a:t>       </a:t>
            </a:r>
            <a:r>
              <a:rPr b="1" lang="en-US" sz="3600" spc="-1" strike="noStrike">
                <a:solidFill>
                  <a:srgbClr val="2a5400"/>
                </a:solidFill>
                <a:latin typeface="Garamond"/>
              </a:rPr>
              <a:t>Караку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Житель жарки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пустынь и степ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Место обитания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Средняя Азия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Казахстан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Южный Урал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Украина, Молдавия, Поволжье, распространены сплошным кольцом выше эквато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Garamond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Garamond"/>
              </a:rPr>
              <a:t>Яд каракурта в 15 раз сильнее яда гремучей зме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11640" y="476280"/>
            <a:ext cx="444816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3000"/>
                            </p:stCondLst>
                            <p:childTnLst>
                              <p:par>
                                <p:cTn id="8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4000"/>
                            </p:stCondLst>
                            <p:childTnLst>
                              <p:par>
                                <p:cTn id="8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3816360" cy="75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Garamond"/>
              </a:rPr>
              <a:t>Тарантул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94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5400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2a5400"/>
                </a:solidFill>
                <a:latin typeface="Garamond"/>
              </a:rPr>
              <a:t>Обитает в пустынях, полупустынях и лесостепях.  Иногда по долина рек проникает в лесную зон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5400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2a5400"/>
                </a:solidFill>
                <a:latin typeface="Garamond"/>
              </a:rPr>
              <a:t>Яд тарантула оказывает общее токсическое действ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803760" cy="3624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259440" cy="360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000"/>
                            </p:stCondLst>
                            <p:childTnLst>
                              <p:par>
                                <p:cTn id="8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79640" y="333360"/>
            <a:ext cx="5400720" cy="100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33"/>
                </a:solidFill>
                <a:latin typeface="Garamond"/>
              </a:rPr>
              <a:t>Паук-скакун</a:t>
            </a:r>
            <a:endParaRPr b="1" lang="en-US" sz="5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4038480" cy="482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94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Garamond"/>
              </a:rPr>
              <a:t>Является самым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Garamond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Garamond"/>
              </a:rPr>
              <a:t>опасным.</a:t>
            </a: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 Встречается в Боливи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Через несколько  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часов после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укуса наступает смерть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203720" cy="482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8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8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3000"/>
                            </p:stCondLst>
                            <p:childTnLst>
                              <p:par>
                                <p:cTn id="9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4000"/>
                            </p:stCondLst>
                            <p:childTnLst>
                              <p:par>
                                <p:cTn id="9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0"/>
                            </p:stCondLst>
                            <p:childTnLst>
                              <p:par>
                                <p:cTn id="9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000"/>
                            </p:stCondLst>
                            <p:childTnLst>
                              <p:par>
                                <p:cTn id="9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3600360" cy="129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33"/>
                </a:solidFill>
                <a:latin typeface="Garamond"/>
              </a:rPr>
              <a:t>Скорпион</a:t>
            </a:r>
            <a:endParaRPr b="1" lang="en-US" sz="54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356000" y="189000"/>
            <a:ext cx="4314960" cy="27939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920" y="3213000"/>
            <a:ext cx="8302680" cy="345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9400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Насчитывается около 500 вид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Живут скорпионы в самых разных местах от влажных лесов и морских побережий до бесплодны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каменистых местностей и песчаных пустын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3300"/>
                </a:solidFill>
                <a:latin typeface="Garamond"/>
              </a:rPr>
              <a:t>Особенно опасен укус чёрного скорпион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000"/>
                            </p:stCondLst>
                            <p:childTnLst>
                              <p:par>
                                <p:cTn id="943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4000"/>
                            </p:stCondLst>
                            <p:childTnLst>
                              <p:par>
                                <p:cTn id="949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5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8000"/>
                            </p:stCondLst>
                            <p:childTnLst>
                              <p:par>
                                <p:cTn id="961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8000" y="475920"/>
            <a:ext cx="36716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Garamond"/>
              </a:rPr>
              <a:t>Сколопендра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678200" cy="3044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4005360"/>
            <a:ext cx="8569080" cy="244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2a5400"/>
                </a:solidFill>
                <a:latin typeface="Garamond"/>
              </a:rPr>
              <a:t>Кольчатая сколопендра обитает на юге европейской части России и Средиземноморских страна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2a5400"/>
                </a:solidFill>
                <a:latin typeface="Garamond"/>
              </a:rPr>
              <a:t>Гигантская – Южная Америка, Ямайк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2a5400"/>
                </a:solidFill>
                <a:latin typeface="Garamond"/>
              </a:rPr>
              <a:t>(в тропиках и субтропиках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Укус гигантской сколопендры смертелен для человека.</a:t>
            </a:r>
            <a:r>
              <a:rPr b="0" lang="en-US" sz="1800" spc="-1" strike="noStrike">
                <a:solidFill>
                  <a:srgbClr val="ff33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000"/>
                            </p:stCondLst>
                            <p:childTnLst>
                              <p:par>
                                <p:cTn id="985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91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97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3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7772400" cy="212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cc33"/>
                </a:solidFill>
                <a:latin typeface="Garamond"/>
              </a:rPr>
              <a:t>Предупреждение укусов</a:t>
            </a:r>
            <a:endParaRPr b="1" lang="en-US" sz="66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351640" cy="561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Garamond"/>
              </a:rPr>
              <a:t>Избегать мест обитания пауков, их можно определить по наличию паутинной тенё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Garamond"/>
              </a:rPr>
              <a:t>Не устраиваться на отдых или ночлег в местах скопления нор мелких грызун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Garamond"/>
              </a:rPr>
              <a:t>Не переворачивать без надобности камни, комья земли, мусо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Garamond"/>
              </a:rPr>
              <a:t>Исключить передвижения на местности в ночное врем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Garamond"/>
              </a:rPr>
              <a:t>Перед одеванием следует проверить одежду и обув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solidFill>
            <a:srgbClr val="ffff99"/>
          </a:solidFill>
          <a:ln w="9360">
            <a:solidFill>
              <a:srgbClr val="33cc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cc33"/>
                </a:solidFill>
                <a:latin typeface="Garamond"/>
              </a:rPr>
              <a:t>Оказание помощи при укусах змей</a:t>
            </a:r>
            <a:endParaRPr b="1" lang="en-US" sz="66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33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Уложить пострадавшего, чтобы замедлить работу  сердц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Очистить ранку, протирая её в направлени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от укус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Отсосать яд ??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Произвест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иммобилизацию конеч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Дать пострадавшем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обильное тёплое питьё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Срочно транспортирова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пострадавшего 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2a5400"/>
                </a:solidFill>
                <a:latin typeface="Garamond"/>
              </a:rPr>
              <a:t>медицинское учрежден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148360" y="2492280"/>
            <a:ext cx="3671640" cy="3392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5256000" cy="633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5400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2a5400"/>
                </a:solidFill>
                <a:latin typeface="Garamond"/>
              </a:rPr>
              <a:t>В лиственных лесах на узких тропах или в траве к одежде или к волосам может прицепиться лесной клещ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5400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2a5400"/>
                </a:solidFill>
                <a:latin typeface="Garamond"/>
              </a:rPr>
              <a:t>Он добирается до нежных участков кожи, где ему легче отсасывать кров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5400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2a5400"/>
                </a:solidFill>
                <a:latin typeface="Garamond"/>
              </a:rPr>
              <a:t>Клещ имеет прочный с зазубринками хитиновый хоботок и мягкое растягивающееся брюшк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73024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12000" y="3860640"/>
            <a:ext cx="2808000" cy="2800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200"/>
                            </p:stCondLst>
                            <p:childTnLst>
                              <p:par>
                                <p:cTn id="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200"/>
                            </p:stCondLst>
                            <p:childTnLst>
                              <p:par>
                                <p:cTn id="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1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8100"/>
                            </p:stCondLst>
                            <p:childTnLst>
                              <p:par>
                                <p:cTn id="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5614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Garamond"/>
              </a:rPr>
              <a:t>Нельзя!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7570800" cy="43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5400"/>
                </a:solidFill>
                <a:latin typeface="Garamond"/>
              </a:rPr>
              <a:t>Позволять пострадавшему двигатьс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0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5400"/>
                </a:solidFill>
                <a:latin typeface="Garamond"/>
              </a:rPr>
              <a:t>Накладывать жгут на укушенную конечность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0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5400"/>
                </a:solidFill>
                <a:latin typeface="Garamond"/>
              </a:rPr>
              <a:t>Прижигать область укус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0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5400"/>
                </a:solidFill>
                <a:latin typeface="Garamond"/>
              </a:rPr>
              <a:t>Делать надрезы в области укус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0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9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1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4535640"/>
          </a:xfrm>
          <a:prstGeom prst="rect">
            <a:avLst/>
          </a:prstGeom>
          <a:solidFill>
            <a:srgbClr val="ffff99"/>
          </a:solidFill>
          <a:ln w="10152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2a5400"/>
                </a:solidFill>
                <a:latin typeface="Garamond"/>
              </a:rPr>
              <a:t>При укусе ядовитыми змеями и насекомыми, смерть наступает в 10% случаев. НО это не означает, что в 90% остальных случаев  без проведения лечения наступает выздоровление.</a:t>
            </a:r>
            <a:endParaRPr b="1" lang="en-US" sz="40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0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989840" cy="504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Garamond"/>
              </a:rPr>
              <a:t>Сам клещ не опасен -  опасен вирус клещевого энцефалита, который он переносит.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Garamond"/>
              </a:rPr>
              <a:t>Способ удаления клеща</a:t>
            </a:r>
            <a:endParaRPr b="1" lang="en-US" sz="48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475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Капнуть на клеща маслом или керосином. зачастую это помогает и клещ отваливается са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Обвязать клеща нитк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в месте присасывания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растянув концы нити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разные сторон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вытаскиваем медлен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раскачива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03640" y="3068640"/>
            <a:ext cx="3851280" cy="3125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Удалить клеща можно и пальцами, обёрнутыми в марлю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9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Захватив клеща, его вытягивают медленными, покачивающими движениям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9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Руки и место укуса обязательно нужно продезинфицировать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9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400"/>
                </a:solidFill>
                <a:latin typeface="Garamond"/>
              </a:rPr>
              <a:t>Измерять температуру тела в течении трёх дне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68612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cc33"/>
                </a:solidFill>
                <a:latin typeface="Garamond"/>
              </a:rPr>
              <a:t>Нельзя!</a:t>
            </a:r>
            <a:endParaRPr b="1" lang="en-US" sz="66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6920" y="2637000"/>
            <a:ext cx="6913800" cy="302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9400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4a9400"/>
                </a:solidFill>
                <a:latin typeface="Garamond"/>
              </a:rPr>
              <a:t>Резко дёргать обнаруженного клеща, так как можно оторвать брюшко, а хоботок останется в коже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Garamond"/>
              </a:rPr>
              <a:t>Меры профилактики укусов насекомых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Вакцинация против клещевого энцефали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Подобрать соответствующую одежд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Применять репелленты («Дета», «Тайга»), отпугивающие насекомы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Использовать накомарники, москитные сет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400"/>
                </a:solidFill>
                <a:latin typeface="Garamond"/>
              </a:rPr>
              <a:t>Производить осмотр одежды через каждые 2 часа, утром и вечером перед сн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0:31:55Z</dcterms:created>
  <dc:creator>12345</dc:creator>
  <dc:description/>
  <dc:language>en-US</dc:language>
  <cp:lastModifiedBy>Пользователь</cp:lastModifiedBy>
  <dcterms:modified xsi:type="dcterms:W3CDTF">2013-10-09T10:28:03Z</dcterms:modified>
  <cp:revision>27</cp:revision>
  <dc:subject/>
  <dc:title>Слайд 1</dc:title>
</cp:coreProperties>
</file>