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C0F-BDF3-4EDD-A73D-886E0F59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D6A-A0FA-4CE5-BB35-4918A0DF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157-60DD-4B2B-BD05-7C9CBFBE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416-8CD3-4141-A431-CB3502F5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AC8-226E-4DB4-8867-50596ECA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1B8-C11A-46AF-BEC3-DBBBDEF9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C41-9F72-4884-92C1-BBE59053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6D1-B4C5-4143-B1CE-F01257E6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930-3F3F-4ADF-A45C-03DEB9AB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270-0E89-4E7F-8CF0-31037332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3E5-16E5-4599-8225-2A244FC5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C3E-3F93-4690-899A-0CB23B6B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66EF-85BF-4404-B84F-7C0FC77AC9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47;&#1080;&#1084;&#1085;&#1080;&#1077;_&#1054;&#1083;&#1080;&#1084;&#1087;&#1080;&#1081;&#1089;&#1082;&#1080;&#1077;_&#1080;&#1075;&#1088;&#1099;" TargetMode="External"/><Relationship Id="rId3" Type="http://schemas.openxmlformats.org/officeDocument/2006/relationships/hyperlink" Target="http://ru.wikipedia.org/wiki/7_&#1086;&#1082;&#1090;&#1103;&#1073;&#1088;&#1103;" TargetMode="External"/><Relationship Id="rId4" Type="http://schemas.openxmlformats.org/officeDocument/2006/relationships/hyperlink" Target="http://ru.wikipedia.org/wiki/2013_&#1075;&#1086;&#1076;" TargetMode="External"/><Relationship Id="rId5" Type="http://schemas.openxmlformats.org/officeDocument/2006/relationships/hyperlink" Target="http://ru.wikipedia.org/wiki/7_&#1092;&#1077;&#1074;&#1088;&#1072;&#1083;&#1103;" TargetMode="External"/><Relationship Id="rId6" Type="http://schemas.openxmlformats.org/officeDocument/2006/relationships/hyperlink" Target="http://ru.wikipedia.org/wiki/2014_&#1075;&#1086;&#1076;" TargetMode="External"/><Relationship Id="rId7" Type="http://schemas.openxmlformats.org/officeDocument/2006/relationships/hyperlink" Target="http://ru.wikipedia.org/wiki/&#1054;&#1083;&#1080;&#1084;&#1087;&#1080;&#1081;&#1089;&#1082;&#1080;&#1081;_&#1086;&#1075;&#1086;&#1085;&#1100;" TargetMode="External"/><Relationship Id="rId8" Type="http://schemas.openxmlformats.org/officeDocument/2006/relationships/hyperlink" Target="http://ru.wikipedia.org/wiki/&#1054;&#1088;&#1075;&#1082;&#1086;&#1084;&#1080;&#1090;&#1077;&#1090;_&#171;&#1057;&#1086;&#1095;&#1080;_2014&#187;" TargetMode="External"/><Relationship Id="rId9" Type="http://schemas.openxmlformats.org/officeDocument/2006/relationships/hyperlink" Target="http://ru.wikipedia.org/wiki/&#1040;&#1074;&#1090;&#1086;&#1084;&#1086;&#1073;&#1080;&#1083;&#1100;" TargetMode="External"/><Relationship Id="rId10" Type="http://schemas.openxmlformats.org/officeDocument/2006/relationships/hyperlink" Target="http://ru.wikipedia.org/wiki/&#1055;&#1086;&#1077;&#1079;&#1076;" TargetMode="External"/><Relationship Id="rId11" Type="http://schemas.openxmlformats.org/officeDocument/2006/relationships/hyperlink" Target="http://ru.wikipedia.org/wiki/&#1057;&#1072;&#1084;&#1086;&#1083;&#1105;&#1090;" TargetMode="External"/><Relationship Id="rId12" Type="http://schemas.openxmlformats.org/officeDocument/2006/relationships/hyperlink" Target="http://ru.wikipedia.org/wiki/&#1058;&#1088;&#1086;&#1081;&#1082;&#1072;_&#1083;&#1086;&#1096;&#1072;&#1076;&#1077;&#1081;" TargetMode="External"/><Relationship Id="rId13" Type="http://schemas.openxmlformats.org/officeDocument/2006/relationships/hyperlink" Target="http://ru.wikipedia.org/wiki/&#1059;&#1087;&#1088;&#1103;&#1078;&#1082;&#1072;" TargetMode="External"/><Relationship Id="rId14" Type="http://schemas.openxmlformats.org/officeDocument/2006/relationships/hyperlink" Target="http://ru.wikipedia.org/wiki/&#1053;&#1072;&#1089;&#1077;&#1083;&#1105;&#1085;&#1085;&#1099;&#1081;_&#1087;&#1091;&#1085;&#1082;&#1090;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лимпийский ого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940000">
            <a:off x="3679560" y="5609880"/>
            <a:ext cx="2403360" cy="3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Жарков Георгий 4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уть олимпийского ог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Ритуал зажжения священного огня происходит от древних греков и был возобновлен в 1912 году. Факел зажигают в Олимпии направленным пучком солнечных лучей, образованных вогнутым зеркал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лимпийский огонь символизирует чистоту, попытку совершенствования и борьбу за победу, а также мир и дружб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радиция зажигать огонь на стадионах была начата в 1928 году (на зимних Играх — в 1952 году). Эстафета по доставке факела в город-хозяин Игр впервые состоялась в 1936 году. Олимпийский факел доставляется на главный стадион Игр во время церемонии открытия, где с помощью него зажигается огонь в специальной чаше на стадионе. Олимпийский огонь горит до закрытия Олимпиа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бычно зажжение огня доверяют известному человеку, чаще всего, спортсмену, хотя бывают и исключения. Считается большой честью быть избранным для проведения этой церемо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стафета олимпийского огня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очи 2014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Эстафета олимпийского огня </a:t>
            </a:r>
            <a:r>
              <a:rPr b="1" i="1" lang="en-US" sz="2500" spc="-1" strike="noStrike">
                <a:solidFill>
                  <a:srgbClr val="0070c0"/>
                </a:solidFill>
                <a:latin typeface="Calibri"/>
              </a:rPr>
              <a:t>”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Сочи 2014</a:t>
            </a:r>
            <a:r>
              <a:rPr b="1" i="1" lang="en-US" sz="2500" spc="-1" strike="noStrike">
                <a:solidFill>
                  <a:srgbClr val="0070c0"/>
                </a:solidFill>
                <a:latin typeface="Calibri"/>
              </a:rPr>
              <a:t>”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 является самой продолжительной и масштабной в истории </a:t>
            </a: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зимних Олимпийских игр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. Эстафета началась </a:t>
            </a: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7 октября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2013 года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 и завершится в день открытия Олимпиады </a:t>
            </a: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7 февраля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2014 года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Маршрут </a:t>
            </a: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лимпийского огня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 по регионам России был презентован </a:t>
            </a: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оргкомитетом «Сочи 2014»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 ровно за год до старта эстафеты. В течение 123 дней факел Игр в руках спортсменов преодолеет более 65 тысяч километров на </a:t>
            </a: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автомобилях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, </a:t>
            </a: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поездах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, </a:t>
            </a: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самолётах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, а также на </a:t>
            </a: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русской тройке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 и оленьих </a:t>
            </a: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упряжках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 на глазах 130 миллионов жителей 2900 </a:t>
            </a: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населённых пунктов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 России, побывает в столицах всех 83 субъектов РФ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Факелонос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Самая масштабная из национальных эстафет олимпийского огня в истории стартовала 7 октября в Москве.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Московский этап эстафеты огня XXII зимних Олимпийских игр 2014 года в Сочи завершился во вторник вечером на Красной площади в Москв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5688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alibri"/>
              </a:rPr>
              <a:t>Осторожно</a:t>
            </a:r>
            <a:r>
              <a:rPr b="0" lang="en-US" sz="40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ru-RU" sz="4000" spc="-1" strike="noStrike">
                <a:solidFill>
                  <a:srgbClr val="ffc000"/>
                </a:solidFill>
                <a:latin typeface="Calibri"/>
              </a:rPr>
              <a:t> олимпийский огонь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57840" y="6215040"/>
            <a:ext cx="42861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7:18:27Z</dcterms:created>
  <dc:creator>Андрей</dc:creator>
  <dc:description/>
  <dc:language>en-US</dc:language>
  <cp:lastModifiedBy>Андрей</cp:lastModifiedBy>
  <dcterms:modified xsi:type="dcterms:W3CDTF">2013-10-09T18:36:37Z</dcterms:modified>
  <cp:revision>8</cp:revision>
  <dc:subject/>
  <dc:title>Слайд 1</dc:title>
</cp:coreProperties>
</file>