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1F0-5342-46CE-9C60-1F0CE3BA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B55-E7CD-4C27-B56E-5C1A48E5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823-1945-4E30-9F1C-563FF27E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01B-EC89-43BD-9928-D49220EA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1EA9-74D0-47C9-B9B0-DBEACE9E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9607-78F5-46F0-BDCF-5978D1A5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D653-D33A-4B8B-B87F-1880290E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DD67-D6CB-4166-AAFF-90AE90A5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2E6A-72D4-43F0-A2AB-65893FBE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7540-2E5F-4FDD-BDD8-F120E7FE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6328-A9EE-41C1-B0C3-7BF58250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32F-F5A9-409F-9E7A-F091C6AF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EA2E-B08A-4E12-8B32-1D1CFD86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CC33-2FD2-4AB9-80AE-3A23C3FC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1BB7-BD77-48E8-BD4A-0BB1B08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D014-1831-4A1F-AE3D-B80DD9CE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77DC-BA59-487E-B5FB-D1C1180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2108E-8000-4815-AECD-CD60A571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44D8-0D35-4C95-B955-126EA00D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EC5F-5E1F-45E1-9669-04849C39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E042-4377-4AD9-8261-616A61E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563B-4AC5-455D-BA37-B92E2F54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8A7-C15F-4271-BDA7-D39544B3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E8F7-F4E6-455F-B450-1094A0B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81DB-7739-4359-8303-E415CA16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1ADE-7B91-46CD-B4F2-ACE645B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94E4-6D0A-40B1-8B82-991A91D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11F32-96D5-4CE6-910C-5E6E6F0C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6D5B-8B01-4A2F-86B1-C839BA35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8410-D46C-4AD2-B09B-A8D41CAB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315C-30A7-4C8C-9527-262CD12C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FC6F-86D2-4250-97C4-1902B4D1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94BD-75D1-4112-B799-C1940E9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A71-BA46-42BC-903C-95B38817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AB4C8-F566-457F-81C6-EC6644DA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86E4-C7B0-4AC0-A039-19E77435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5C20A-311D-416F-976E-D31A537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A029-C32B-4E64-8C48-97F3558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9AE6-8BCA-4451-8F94-0F51C98E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BBC6A-A807-4C70-90C0-99752FD9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8E9A5-938C-4AD1-A340-05CEC33C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D72C5-F961-4950-B9E6-A8AA0ABF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457A-0531-45A0-8FDA-D0C45046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BE1F2-0068-408D-BD3D-99DA8D93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047-D916-48ED-9601-109CF12E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9197-BED3-48B3-BDFE-C7216497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43353-F2C5-476D-8546-DEFE5B76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138BC-AF19-4739-9321-F26DE82C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AC50-0C47-4964-8603-5B995EA2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DEE80-9BB1-42D1-89B2-EBF2E173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CB0F-C5B8-4221-9877-EC566B80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C6564-E82F-4CBB-B38D-482194C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DF690-062E-4F5F-99DE-6C977399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B9E54-9FDF-4B8B-AC44-833C1D6F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C9C7B-A986-45AA-B339-4492B485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3B7-D7AA-40F5-B875-A7B683E3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585F-E76F-40D8-B4C7-B34856BC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43B2E-6CF6-4594-87CA-CB9B40CD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44583-1AFB-4800-B2A3-84FEF60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5C78-6B61-4D26-87FB-EAE9A3B4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5D934-0CE8-4FFB-B7CA-9DC5F3D7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B11F-8885-4FA9-8E88-CA3D577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D789C-FC90-475B-875A-990392B3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E25B7-B599-4B3D-AD06-C745895E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3D043-A3EE-498D-8AA6-AA4582AC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4000B-DB9E-4F91-8256-668C1AB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E30-4F81-4E54-87ED-B96CE746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654BC-7621-48B7-8BCA-1E9F0B56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D101-6019-4735-9579-D0A061F7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506D2-5BDD-4F9B-B918-AA83BBA2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CE232-66C0-494F-907E-66D6FEB0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929E4-CCED-4CE7-9452-DDF6FA5C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4865D-7513-4ECA-93AD-B1FE184E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C6904-F08B-4790-A1A3-B89EB1B3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BC2E3-DCEC-4AF9-984E-186E845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1CA9D-F557-4561-BA45-F22918FD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26FC8-136B-46EF-BB71-C35C40D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8DD-B0DB-4056-93DB-9D55A188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048A9-F167-4EA8-8779-BFF6AE87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49D9-E590-4E47-9B09-885BD91A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6ABFE-42AA-4230-9378-7F0E2801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79880-6DB8-4425-8969-81F19849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D704-240F-41AE-8F63-7E9DF1F4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6B0-7159-4E84-8D35-61B0A376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019D-F4BE-4434-8A21-A90210D68BC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EB1E-A949-454E-810B-D22F721818E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4075-17A5-487F-92E7-81989BF4EE3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29FB-07DF-4A76-9B6E-7E40A1B670D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8331-6AD0-4DD3-92D1-7711AE0CDFD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703F-E86B-4CD3-9BC6-4732FEB675E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A942-8605-4303-A3A5-E3E74841FE7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322280" y="1736640"/>
            <a:ext cx="7072560" cy="43657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5219640" y="429264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067280" y="6237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10"/>
          <p:cNvPicPr/>
          <p:nvPr/>
        </p:nvPicPr>
        <p:blipFill>
          <a:blip r:embed="rId1"/>
          <a:srcRect l="3076" t="0" r="4614" b="8024"/>
          <a:stretch/>
        </p:blipFill>
        <p:spPr>
          <a:xfrm>
            <a:off x="1619280" y="1052640"/>
            <a:ext cx="5905440" cy="56386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826920" y="11592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ейники имеют более пологую сторону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826920" y="26028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оло деревьев, пней, больших камней снег быстрее оттаивает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11"/>
          <p:cNvPicPr/>
          <p:nvPr/>
        </p:nvPicPr>
        <p:blipFill>
          <a:blip r:embed="rId1">
            <a:lum contrast="36000"/>
          </a:blip>
          <a:srcRect l="2260" t="5468" r="753" b="2734"/>
          <a:stretch/>
        </p:blipFill>
        <p:spPr>
          <a:xfrm>
            <a:off x="179280" y="1700280"/>
            <a:ext cx="878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5651640" y="5373720"/>
            <a:ext cx="32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ки деревьев более развиты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4" descr="12"/>
          <p:cNvPicPr/>
          <p:nvPr/>
        </p:nvPicPr>
        <p:blipFill>
          <a:blip r:embed="rId1"/>
          <a:stretch/>
        </p:blipFill>
        <p:spPr>
          <a:xfrm>
            <a:off x="179280" y="189000"/>
            <a:ext cx="5159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5724360" y="4724280"/>
            <a:ext cx="32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северном склоне оврагов снег сходит быстр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4" descr="13"/>
          <p:cNvPicPr/>
          <p:nvPr/>
        </p:nvPicPr>
        <p:blipFill>
          <a:blip r:embed="rId1"/>
          <a:stretch/>
        </p:blipFill>
        <p:spPr>
          <a:xfrm>
            <a:off x="179280" y="404640"/>
            <a:ext cx="5419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250920" y="5516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но ориентироваться по лесным просекам, которые делят лес на кварталы. Как правило, их прорубают в направлении север – юг и запад – вос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4" descr="3"/>
          <p:cNvPicPr/>
          <p:nvPr/>
        </p:nvPicPr>
        <p:blipFill>
          <a:blip r:embed="rId1"/>
          <a:stretch/>
        </p:blipFill>
        <p:spPr>
          <a:xfrm>
            <a:off x="1042920" y="189000"/>
            <a:ext cx="72010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1835280" y="2852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287280" y="11592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е условие безопасного пребывания человека в природных условиях – это умение ориентироваться на местности. Самым простым и надёжным прибором для определения  сторон горизонта является компас. Наиболее распространённый вид компаса – компас системы Андриан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5" descr="1"/>
          <p:cNvPicPr/>
          <p:nvPr/>
        </p:nvPicPr>
        <p:blipFill>
          <a:blip r:embed="rId1">
            <a:lum contrast="48000"/>
          </a:blip>
          <a:srcRect l="0" t="1367" r="2734" b="4101"/>
          <a:stretch/>
        </p:blipFill>
        <p:spPr>
          <a:xfrm>
            <a:off x="250920" y="2637000"/>
            <a:ext cx="4105080" cy="3808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4572000" y="2349360"/>
            <a:ext cx="4572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определения сторон горизонта необходимо положить компас горизонтально и повернуть его так, чтобы северный конец стрелки компаса совпадал с нулевым делением шкалы. При таком положении стрелка компаса показывает направление север – ю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4"/>
          <p:cNvPicPr/>
          <p:nvPr/>
        </p:nvPicPr>
        <p:blipFill>
          <a:blip r:embed="rId1"/>
          <a:srcRect l="0" t="0" r="802" b="0"/>
          <a:stretch/>
        </p:blipFill>
        <p:spPr>
          <a:xfrm>
            <a:off x="108000" y="115920"/>
            <a:ext cx="4032360" cy="2917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4319640" y="18900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та-схема разворачивается верхней стороной на север. На шкале положенного сверху на карту компаса замечается градус (азимут), соответствующий данному направл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4"/>
          <p:cNvSpPr/>
          <p:nvPr/>
        </p:nvSpPr>
        <p:spPr>
          <a:xfrm flipV="1">
            <a:off x="826920" y="549000"/>
            <a:ext cx="0" cy="208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611280" y="1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541440" y="256536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1403280" y="981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476360" y="189000"/>
            <a:ext cx="0" cy="792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1547640" y="1052640"/>
            <a:ext cx="2160720" cy="1224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3" descr="5"/>
          <p:cNvPicPr/>
          <p:nvPr/>
        </p:nvPicPr>
        <p:blipFill>
          <a:blip r:embed="rId2"/>
          <a:stretch/>
        </p:blipFill>
        <p:spPr>
          <a:xfrm>
            <a:off x="108000" y="3213000"/>
            <a:ext cx="5130720" cy="34606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5472000" y="342900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ерь достаточно установить визирное приспособление на избранный курс и двигаться в заданном направл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2771640" y="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по азиму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3" descr="6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1159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тсутствии компаса следует обратиться к астрономическим способам определения сторон горизо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3" descr="ориентирование по пол"/>
          <p:cNvPicPr/>
          <p:nvPr/>
        </p:nvPicPr>
        <p:blipFill>
          <a:blip r:embed="rId1"/>
          <a:stretch/>
        </p:blipFill>
        <p:spPr>
          <a:xfrm>
            <a:off x="324000" y="1413000"/>
            <a:ext cx="5108400" cy="53197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4"/>
          <p:cNvSpPr/>
          <p:nvPr/>
        </p:nvSpPr>
        <p:spPr>
          <a:xfrm>
            <a:off x="5472000" y="2421000"/>
            <a:ext cx="36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ие по Полярной звезде основано на том, что кажущееся движение небесной сферы происходит вокруг Полярной звезды, т.е. она  остаётся неподвиж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7"/>
          <p:cNvPicPr/>
          <p:nvPr/>
        </p:nvPicPr>
        <p:blipFill>
          <a:blip r:embed="rId1"/>
          <a:stretch/>
        </p:blipFill>
        <p:spPr>
          <a:xfrm>
            <a:off x="179280" y="115920"/>
            <a:ext cx="4133880" cy="66038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4606920" y="260280"/>
            <a:ext cx="45370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чка, находящаяся под полярной звездой на горизонте и будет указывать на Се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у же Полярную звезду нетрудно найти по двум крайним звёздам созвездия Большой Медведи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8"/>
          <p:cNvPicPr/>
          <p:nvPr/>
        </p:nvPicPr>
        <p:blipFill>
          <a:blip r:embed="rId1">
            <a:lum contrast="72000"/>
          </a:blip>
          <a:srcRect l="3076" t="753" r="3076" b="753"/>
          <a:stretch/>
        </p:blipFill>
        <p:spPr>
          <a:xfrm>
            <a:off x="5796000" y="115920"/>
            <a:ext cx="3092400" cy="66261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250920" y="476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ить направление сторон горизонта может помочь полуденное Солн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50920" y="26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м нужен небольшой шест (длиной около 1 м) и немного времени (20-30 мину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250920" y="479736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встанете спиной к солнцу по своим засечкам, то в таком положении перед Вами – Се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87280" y="11592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вольно часто стороны горизонта можно определить с помощью Солнца и механических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3" descr="9"/>
          <p:cNvPicPr/>
          <p:nvPr/>
        </p:nvPicPr>
        <p:blipFill>
          <a:blip r:embed="rId1">
            <a:lum contrast="42000"/>
          </a:blip>
          <a:srcRect l="0" t="0" r="0" b="5272"/>
          <a:stretch/>
        </p:blipFill>
        <p:spPr>
          <a:xfrm>
            <a:off x="1476360" y="981000"/>
            <a:ext cx="6696000" cy="49323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287280" y="587700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ом часы переведены на час вперёд, поэтому берём не 12 а 13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3"/>
          <p:cNvSpPr/>
          <p:nvPr/>
        </p:nvSpPr>
        <p:spPr>
          <a:xfrm>
            <a:off x="287280" y="115920"/>
            <a:ext cx="885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эти способы ориентирования не помогли, то надо вспомнить ориентирование по местным призна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4" descr="1"/>
          <p:cNvPicPr/>
          <p:nvPr/>
        </p:nvPicPr>
        <p:blipFill>
          <a:blip r:embed="rId1"/>
          <a:stretch/>
        </p:blipFill>
        <p:spPr>
          <a:xfrm>
            <a:off x="2050920" y="1484280"/>
            <a:ext cx="4824720" cy="46022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755640" y="616572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х и лишайники нарастают с север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8:07:44Z</dcterms:created>
  <dc:creator>SamLab.ws</dc:creator>
  <dc:description/>
  <dc:language>en-US</dc:language>
  <cp:lastModifiedBy>Win 7</cp:lastModifiedBy>
  <dcterms:modified xsi:type="dcterms:W3CDTF">2013-10-10T10:11:52Z</dcterms:modified>
  <cp:revision>6</cp:revision>
  <dc:subject/>
  <dc:title>Ориентирование        на местности</dc:title>
</cp:coreProperties>
</file>