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4B6-037B-42E2-A131-B300CC8E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667-9493-4E7C-982D-58230C83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8B8-81E1-407E-83C4-04212861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8F1-67DE-4F0A-8EF3-10673C1D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346-B580-4A7B-9F70-9304E268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80E-2402-4B46-8386-ACFF77CF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2D5-392B-4587-A198-005BA31D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22B-6F5F-4DE0-AE5A-80B5ECF3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FB9-B354-4E86-BA27-88DF1DA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A49-BC17-464B-BD8E-7CE3B4B1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48E-601D-45B7-B019-D3F7480B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599-1C62-4813-BB26-229488D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D2F-3495-48C8-902A-486CCEB55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3623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633240" y="676440"/>
            <a:ext cx="8017200" cy="1938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writingonbook"/>
          <p:cNvPicPr/>
          <p:nvPr/>
        </p:nvPicPr>
        <p:blipFill>
          <a:blip r:embed="rId2"/>
          <a:stretch/>
        </p:blipFill>
        <p:spPr>
          <a:xfrm>
            <a:off x="357120" y="3071880"/>
            <a:ext cx="3429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56760" y="2071800"/>
            <a:ext cx="857268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мя произошло от греческого слова «мнемо», что значит «памят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риемы запоминания называют мнемотехн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42840"/>
            <a:ext cx="78775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мять – это психическое свойство человека, способность накапливать, хранить и использовать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мять бывает двигательная, зрительная, слуховая и словес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109440"/>
            <a:ext cx="82965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ло, стул, мяч, лодка, банан, ковёр, книга, лес, река, пробка, рыба, парта, дом, ваза, кот, орден, море, школа, трава, зеб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18 до 20 слов – великолеп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15 до 17 слов – хорош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10 до 14 слов – сред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ьше 10 слов - пло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406000" cy="193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writingonbook"/>
          <p:cNvPicPr/>
          <p:nvPr/>
        </p:nvPicPr>
        <p:blipFill>
          <a:blip r:embed="rId2"/>
          <a:stretch/>
        </p:blipFill>
        <p:spPr>
          <a:xfrm>
            <a:off x="6286680" y="5072040"/>
            <a:ext cx="2857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учение видов пам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,45,67, 90, 74, 66, 43, 71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5, 10, 69, 4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1258920" y="476280"/>
            <a:ext cx="72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ь перед собой цель – запомнить надол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 внимателен, не отвлекай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 осмысленно, не зубри механиче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уй картинки, схемы, ищи ассоци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ой текст разбей на части, составь пл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яй с перерыв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068480" y="285840"/>
            <a:ext cx="7007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109440"/>
            <a:ext cx="7877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3:48:21Z</dcterms:created>
  <dc:creator>Галина василь</dc:creator>
  <dc:description/>
  <dc:language>en-US</dc:language>
  <cp:lastModifiedBy>Admin</cp:lastModifiedBy>
  <dcterms:modified xsi:type="dcterms:W3CDTF">2013-10-10T14:39:13Z</dcterms:modified>
  <cp:revision>13</cp:revision>
  <dc:subject/>
  <dc:title>Слайд 1</dc:title>
</cp:coreProperties>
</file>