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28.gif" ContentType="image/gif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C0B-92E8-4A48-B076-0BDD27D6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2FF-A91D-4915-9348-88C2AB09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D00-D3BD-4A09-906E-2290450F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E50-CF7E-47BF-B43B-F1D14897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B8F-3E38-4E95-A5BD-61E3282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5C6-5BF9-42AD-B98F-B0632047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1FD-423F-4957-B467-04A0AFD8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506-A461-4D3E-BAFF-11D19B39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833-3B37-44B7-AE25-3002549E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CE8-067D-469E-AA5F-4AC4BF0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C24-853F-4837-8725-40A3C3C0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B81-2FB4-4E4F-B115-1B18FB2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DEA9-B3CB-421C-90A1-6F5FAB710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gifzona.com/i/pasxa/04.gif"/>
          <p:cNvPicPr/>
          <p:nvPr/>
        </p:nvPicPr>
        <p:blipFill>
          <a:blip r:embed="rId1"/>
          <a:stretch/>
        </p:blipFill>
        <p:spPr>
          <a:xfrm>
            <a:off x="1214280" y="1285920"/>
            <a:ext cx="6500880" cy="4000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2214720" y="31431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Веками любимой пасхальной игрой на Руси было катанье яиц. Устанавливают деревянный или картонный "каток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На ровном месте вокруг него раскладывают крашеные яйца, игрушки и сувениры. Игроки подходят по очереди к "катку" и катят каждый своё яйцо. Тот предмет, которого коснулось яичко и является выигрыш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gorka"/>
          <p:cNvPicPr/>
          <p:nvPr/>
        </p:nvPicPr>
        <p:blipFill>
          <a:blip r:embed="rId1"/>
          <a:stretch/>
        </p:blipFill>
        <p:spPr>
          <a:xfrm>
            <a:off x="2214720" y="357120"/>
            <a:ext cx="4500360" cy="2714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2286000" y="41432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А еще собиравшиеся на Пасху дети очень любили искать яйца в квартире или в са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content.foto.mail.ru/mail/vitasart/kartinka/i-342.jpg"/>
          <p:cNvPicPr/>
          <p:nvPr/>
        </p:nvPicPr>
        <p:blipFill>
          <a:blip r:embed="rId1"/>
          <a:stretch/>
        </p:blipFill>
        <p:spPr>
          <a:xfrm>
            <a:off x="1857240" y="214200"/>
            <a:ext cx="5072040" cy="3571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http://www.gifzona.com/i/pasxa/14.gif"/>
          <p:cNvPicPr/>
          <p:nvPr/>
        </p:nvPicPr>
        <p:blipFill>
          <a:blip r:embed="rId1"/>
          <a:stretch/>
        </p:blipFill>
        <p:spPr>
          <a:xfrm>
            <a:off x="2428920" y="571680"/>
            <a:ext cx="4143240" cy="5547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Весна – прекрасное время года. Взрослые и дети любят её за  весеннюю  песенку ручейков, за весёлую трель птиц, за нежные подснежники, за ковёр из шёлковой травки, за ласковые солнечные лучи, за воздух, наполненный запахом молодых листоч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00120" y="285840"/>
            <a:ext cx="1428840" cy="1428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6286680" y="285840"/>
            <a:ext cx="1357200" cy="1357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2643120" y="5214960"/>
            <a:ext cx="1357560" cy="1285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4857840" y="5214960"/>
            <a:ext cx="1500120" cy="1357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" name="Picture 11" descr="http://s44.radikal.ru/i104/0904/54/b0497d9b9e33.jpg"/>
          <p:cNvPicPr/>
          <p:nvPr/>
        </p:nvPicPr>
        <p:blipFill>
          <a:blip r:embed="rId5"/>
          <a:stretch/>
        </p:blipFill>
        <p:spPr>
          <a:xfrm>
            <a:off x="3924360" y="333360"/>
            <a:ext cx="1361880" cy="1428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78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85520" y="1500120"/>
            <a:ext cx="79009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Испокон веков Пасха считается одним из самых больших праздников года. На это время приходится поворот солнца на лето. Это означает пробуждение всего живого, воскресение природы, победу жизни над смер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Начало весны"/>
          <p:cNvPicPr/>
          <p:nvPr/>
        </p:nvPicPr>
        <p:blipFill>
          <a:blip r:embed="rId1"/>
          <a:stretch/>
        </p:blipFill>
        <p:spPr>
          <a:xfrm>
            <a:off x="3357720" y="214200"/>
            <a:ext cx="2428560" cy="3000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314316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К Пасхе готовятся заблаговременно. Неделю до праздника называют Вербной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скресенье – Вербным – это день торжест- венного въезда Иисуса в Иерусалим, когда люди устилали дорогу зелёными ветвями. Веточки вербы- это знак торжества жизни над смертью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content.foto.mail.ru/mail/vitasart/kartinka/i-357.jpg"/>
          <p:cNvPicPr/>
          <p:nvPr/>
        </p:nvPicPr>
        <p:blipFill>
          <a:blip r:embed="rId1"/>
          <a:stretch/>
        </p:blipFill>
        <p:spPr>
          <a:xfrm>
            <a:off x="928800" y="1714680"/>
            <a:ext cx="1714320" cy="1285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3" name="Picture 8" descr="http://www.theprayerbook.info/uploads/posts/2007-12/1198245083_ib496.jpg"/>
          <p:cNvPicPr/>
          <p:nvPr/>
        </p:nvPicPr>
        <p:blipFill>
          <a:blip r:embed="rId2"/>
          <a:stretch/>
        </p:blipFill>
        <p:spPr>
          <a:xfrm>
            <a:off x="3429000" y="214200"/>
            <a:ext cx="2333520" cy="292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4" name="Picture 4" descr="http://content.foto.mail.ru/mail/vitasart/kartinka/i-357.jpg"/>
          <p:cNvPicPr/>
          <p:nvPr/>
        </p:nvPicPr>
        <p:blipFill>
          <a:blip r:embed="rId3"/>
          <a:stretch/>
        </p:blipFill>
        <p:spPr>
          <a:xfrm>
            <a:off x="6357960" y="1714680"/>
            <a:ext cx="1785960" cy="1285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43000" y="121428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Веточки вербы освящают в церкви,   приносят домой. Дотрагиваются ими к членам семьи и приговарива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”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Не я бью – верба бьё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Будь здоровый, как во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Будь богатый, как земля.</a:t>
            </a: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http://images.cards.mail.ru/01/46/d04b5560c3f2b12e27ae01390a774601.jpg"/>
          <p:cNvPicPr/>
          <p:nvPr/>
        </p:nvPicPr>
        <p:blipFill>
          <a:blip r:embed="rId1"/>
          <a:stretch/>
        </p:blipFill>
        <p:spPr>
          <a:xfrm>
            <a:off x="3429000" y="357120"/>
            <a:ext cx="2000160" cy="1285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7" name="Picture 4" descr="http://content.foto.mail.ru/bk/vnp74/223/i-112213.jpg"/>
          <p:cNvPicPr/>
          <p:nvPr/>
        </p:nvPicPr>
        <p:blipFill>
          <a:blip r:embed="rId2"/>
          <a:srcRect l="0" t="0" r="0" b="11339"/>
          <a:stretch/>
        </p:blipFill>
        <p:spPr>
          <a:xfrm>
            <a:off x="214200" y="4429080"/>
            <a:ext cx="1071720" cy="2071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8" name="Picture 2" descr="http://content.foto.mail.ru/bk/vnp74/223/i-112937.jpg"/>
          <p:cNvPicPr/>
          <p:nvPr/>
        </p:nvPicPr>
        <p:blipFill>
          <a:blip r:embed="rId3"/>
          <a:srcRect l="0" t="0" r="0" b="17940"/>
          <a:stretch/>
        </p:blipFill>
        <p:spPr>
          <a:xfrm>
            <a:off x="3714840" y="5143680"/>
            <a:ext cx="2143080" cy="1357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9" name="Picture 7" descr="http://s52.radikal.ru/i138/0904/bf/4485cfd281e1.jpg"/>
          <p:cNvPicPr/>
          <p:nvPr/>
        </p:nvPicPr>
        <p:blipFill>
          <a:blip r:embed="rId4"/>
          <a:stretch/>
        </p:blipFill>
        <p:spPr>
          <a:xfrm>
            <a:off x="7858080" y="4500720"/>
            <a:ext cx="976320" cy="2000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56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К Пасхе разрисовывают писанки, красят яйца.</a:t>
            </a:r>
            <a:br>
              <a:rPr sz="3200"/>
            </a:b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 В чистый четверг начинают печь пасх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Мастерица писанкарства показывает процесс изготовления писанок на выставке пасхальных писанок и гончарных изделий в Киеве 4 апреля. Фото: The Epoch Times"/>
          <p:cNvPicPr/>
          <p:nvPr/>
        </p:nvPicPr>
        <p:blipFill>
          <a:blip r:embed="rId1"/>
          <a:stretch/>
        </p:blipFill>
        <p:spPr>
          <a:xfrm>
            <a:off x="3643200" y="428760"/>
            <a:ext cx="1928880" cy="2000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2" name="Picture 5" descr="Пасхальное яйцо - это символ воскрешения Христа"/>
          <p:cNvPicPr/>
          <p:nvPr/>
        </p:nvPicPr>
        <p:blipFill>
          <a:blip r:embed="rId2"/>
          <a:stretch/>
        </p:blipFill>
        <p:spPr>
          <a:xfrm>
            <a:off x="785880" y="357120"/>
            <a:ext cx="2071800" cy="2000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3" name="Picture 2" descr="http://www.interfax.ru/ftproot/photos/PhotoText/2008_4_27/280east.jpg"/>
          <p:cNvPicPr/>
          <p:nvPr/>
        </p:nvPicPr>
        <p:blipFill>
          <a:blip r:embed="rId3"/>
          <a:stretch/>
        </p:blipFill>
        <p:spPr>
          <a:xfrm>
            <a:off x="3643200" y="4357800"/>
            <a:ext cx="2000520" cy="1928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4" name="Picture 2" descr=""/>
          <p:cNvPicPr/>
          <p:nvPr/>
        </p:nvPicPr>
        <p:blipFill>
          <a:blip r:embed="rId4"/>
          <a:srcRect l="3840" t="0" r="3840" b="5254"/>
          <a:stretch/>
        </p:blipFill>
        <p:spPr>
          <a:xfrm>
            <a:off x="785880" y="4357800"/>
            <a:ext cx="2071800" cy="2000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5" name="Picture 4" descr="Клипарт - Пасха!"/>
          <p:cNvPicPr/>
          <p:nvPr/>
        </p:nvPicPr>
        <p:blipFill>
          <a:blip r:embed="rId5"/>
          <a:srcRect l="0" t="1050" r="0" b="16798"/>
          <a:stretch/>
        </p:blipFill>
        <p:spPr>
          <a:xfrm>
            <a:off x="6357960" y="428760"/>
            <a:ext cx="2000160" cy="1928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6" name="Picture 2" descr=""/>
          <p:cNvPicPr/>
          <p:nvPr/>
        </p:nvPicPr>
        <p:blipFill>
          <a:blip r:embed="rId6"/>
          <a:stretch/>
        </p:blipFill>
        <p:spPr>
          <a:xfrm>
            <a:off x="6357960" y="4429080"/>
            <a:ext cx="1928880" cy="1928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28440" y="114264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Люди приходят в церковь и святят пасхи. Проходят торжественные Богослужения, а после службы вся процессия выходит из церкви, где священники святят пасхи,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да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paskha.ru/images/gallerykon/big/kulichi.jpg"/>
          <p:cNvPicPr/>
          <p:nvPr/>
        </p:nvPicPr>
        <p:blipFill>
          <a:blip r:embed="rId1"/>
          <a:stretch/>
        </p:blipFill>
        <p:spPr>
          <a:xfrm>
            <a:off x="285840" y="4786200"/>
            <a:ext cx="2857320" cy="1857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9" name="Picture 6" descr="http://paskha.ru/images/gallery/big/2a.jpg"/>
          <p:cNvPicPr/>
          <p:nvPr/>
        </p:nvPicPr>
        <p:blipFill>
          <a:blip r:embed="rId2"/>
          <a:stretch/>
        </p:blipFill>
        <p:spPr>
          <a:xfrm>
            <a:off x="6072120" y="4786200"/>
            <a:ext cx="2800440" cy="1900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70" name="Picture 6" descr="http://paskha.ru/images/gallery/big/7b.jpg"/>
          <p:cNvPicPr/>
          <p:nvPr/>
        </p:nvPicPr>
        <p:blipFill>
          <a:blip r:embed="rId3"/>
          <a:stretch/>
        </p:blipFill>
        <p:spPr>
          <a:xfrm>
            <a:off x="2571840" y="214200"/>
            <a:ext cx="3929040" cy="2214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294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286000" y="40006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На Пасху принято христосоваться. Старые и молодые, дети и взрослые, мужчины и женщины целуют трижды друг друга. Принято, чтобы младшие словами "Христос Воскресе!" приветствовали первыми, а старшие отвечали им: "Воистину Воскресе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russisch-fuer-kinder.de/pictures/pasha2.jpg"/>
          <p:cNvPicPr/>
          <p:nvPr/>
        </p:nvPicPr>
        <p:blipFill>
          <a:blip r:embed="rId1"/>
          <a:stretch/>
        </p:blipFill>
        <p:spPr>
          <a:xfrm>
            <a:off x="3429000" y="285840"/>
            <a:ext cx="2502000" cy="3549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3857400"/>
            <a:ext cx="822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Любимой пасхальной игрой является "чокание" яйцами друг с другом. Надо ударить тупым или острым концом крашеного крутого яйца яйцо соперника. Выигрывает тот, чьё яйцо не треснет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content.foto.mail.ru/bk/vnp74/223/i-112510.jpg"/>
          <p:cNvPicPr/>
          <p:nvPr/>
        </p:nvPicPr>
        <p:blipFill>
          <a:blip r:embed="rId1"/>
          <a:stretch/>
        </p:blipFill>
        <p:spPr>
          <a:xfrm>
            <a:off x="2214720" y="285840"/>
            <a:ext cx="4714560" cy="35002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21:17:27Z</dcterms:created>
  <dc:creator>INNA</dc:creator>
  <dc:description/>
  <dc:language>en-US</dc:language>
  <cp:lastModifiedBy>DNA7 X86</cp:lastModifiedBy>
  <dcterms:modified xsi:type="dcterms:W3CDTF">2013-10-10T18:53:52Z</dcterms:modified>
  <cp:revision>425</cp:revision>
  <dc:subject/>
  <dc:title>ПАСХА</dc:title>
</cp:coreProperties>
</file>