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3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FCE-8E78-4AB4-B22A-0599F7AB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BF8-F29B-4361-A3B0-A5A7190E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AB3-1A17-4363-860D-53612757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A47-98BA-4E05-8B00-37452FCF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332-371E-4042-8CB2-4465D7B4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757-7267-42C2-9822-793FD887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1B5-FA9F-4334-B911-750411D6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F3D-3854-4DE5-947B-41E68E6E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433-89F2-48BF-BEEB-54D05568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466-3534-4800-A1C6-3C40CDA6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027-C219-4CEE-876B-E5F5DD90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72C-1034-48B3-B00E-AB891D06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EAE3-C1AA-4A09-B390-4C7A920E3B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1075000">
            <a:off x="945720" y="477360"/>
            <a:ext cx="7364520" cy="552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6600" spc="-1" strike="noStrike">
                <a:solidFill>
                  <a:srgbClr val="8a44e8"/>
                </a:solidFill>
                <a:latin typeface="Calibri"/>
              </a:rPr>
              <a:t>ПИСЬМО</a:t>
            </a:r>
            <a:br>
              <a:rPr sz="6600"/>
            </a:br>
            <a:br>
              <a:rPr sz="6600"/>
            </a:br>
            <a:br>
              <a:rPr sz="4000"/>
            </a:br>
            <a:r>
              <a:rPr b="1" lang="ru-RU" sz="2800" spc="-1" strike="noStrike">
                <a:solidFill>
                  <a:srgbClr val="2ac45a"/>
                </a:solidFill>
                <a:latin typeface="Calibri"/>
              </a:rPr>
              <a:t>КУЗНЕЦОВА </a:t>
            </a:r>
            <a:br>
              <a:rPr sz="2800"/>
            </a:br>
            <a:r>
              <a:rPr b="1" lang="ru-RU" sz="2800" spc="-1" strike="noStrike">
                <a:solidFill>
                  <a:srgbClr val="2ac45a"/>
                </a:solidFill>
                <a:latin typeface="Calibri"/>
              </a:rPr>
              <a:t>ЕЛЕНА</a:t>
            </a:r>
            <a:br>
              <a:rPr sz="2800"/>
            </a:br>
            <a:r>
              <a:rPr b="1" lang="ru-RU" sz="2800" spc="-1" strike="noStrike">
                <a:solidFill>
                  <a:srgbClr val="2ac45a"/>
                </a:solidFill>
                <a:latin typeface="Calibri"/>
              </a:rPr>
              <a:t>СЕРГЕЕВНА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D:\Документы\Мои рисунки\Office3\АНИМАЦИИ\анимации\cvety45[1].gif"/>
          <p:cNvPicPr/>
          <p:nvPr/>
        </p:nvPicPr>
        <p:blipFill>
          <a:blip r:embed="rId1"/>
          <a:stretch/>
        </p:blipFill>
        <p:spPr>
          <a:xfrm>
            <a:off x="108000" y="115920"/>
            <a:ext cx="2603520" cy="2487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Документы\Мои рисунки\Office3\АНИМАЦИИ\анимации\cvety45[1].gif"/>
          <p:cNvPicPr/>
          <p:nvPr/>
        </p:nvPicPr>
        <p:blipFill>
          <a:blip r:embed="rId2"/>
          <a:stretch/>
        </p:blipFill>
        <p:spPr>
          <a:xfrm>
            <a:off x="6032520" y="3871800"/>
            <a:ext cx="311148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музыка_для_души_-_Красивая_грустная_мелодия_(mp3ostrov.com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6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6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 rot="21089400">
            <a:off x="901800" y="113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ac45a"/>
                </a:solidFill>
                <a:latin typeface="Calibri"/>
              </a:rPr>
              <a:t>И ЖАРКИМ ДНЁМ,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ac45a"/>
                </a:solidFill>
                <a:latin typeface="Calibri"/>
              </a:rPr>
              <a:t>И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ac45a"/>
                </a:solidFill>
                <a:latin typeface="Calibri"/>
              </a:rPr>
              <a:t>ТЁМНОЙ НОЧЬЮ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ac45a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2ac45a"/>
                </a:solidFill>
                <a:latin typeface="Calibri"/>
              </a:rPr>
              <a:t>ВЛАЖНОЙ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D:\Документы\Мои рисунки\Office3\АНИМАЦИИ\анимации\cvety149[1].gif"/>
          <p:cNvPicPr/>
          <p:nvPr/>
        </p:nvPicPr>
        <p:blipFill>
          <a:blip r:embed="rId1"/>
          <a:stretch/>
        </p:blipFill>
        <p:spPr>
          <a:xfrm>
            <a:off x="-228600" y="2803680"/>
            <a:ext cx="3200400" cy="4047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300"/>
                            </p:stCondLst>
                            <p:childTnLst>
                              <p:par>
                                <p:cTn id="2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300"/>
                            </p:stCondLst>
                            <p:childTnLst>
                              <p:par>
                                <p:cTn id="2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300"/>
                            </p:stCondLst>
                            <p:childTnLst>
                              <p:par>
                                <p:cTn id="2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 rot="21089400">
            <a:off x="901800" y="12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f07a2"/>
                </a:solidFill>
                <a:latin typeface="Calibri"/>
              </a:rPr>
              <a:t>ТЫ НАПИСАЛ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D:\Документы\Мои рисунки\Office3\АНИМАЦИИ\анимации\cvety158[1].gif"/>
          <p:cNvPicPr/>
          <p:nvPr/>
        </p:nvPicPr>
        <p:blipFill>
          <a:blip r:embed="rId1"/>
          <a:stretch/>
        </p:blipFill>
        <p:spPr>
          <a:xfrm>
            <a:off x="179280" y="3429000"/>
            <a:ext cx="1905120" cy="3400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 rot="21089400">
            <a:off x="901800" y="12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Calibri"/>
              </a:rPr>
              <a:t>ТЫ МОГ ПИСАТЬ ТОМА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ТВОЁ ПИСЬМО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D:\Документы\Мои рисунки\Office3\АНИМАЦИИ\анимации\cvety145[1].gif"/>
          <p:cNvPicPr/>
          <p:nvPr/>
        </p:nvPicPr>
        <p:blipFill>
          <a:blip r:embed="rId1"/>
          <a:stretch/>
        </p:blipFill>
        <p:spPr>
          <a:xfrm>
            <a:off x="0" y="4551480"/>
            <a:ext cx="2306520" cy="2306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0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 rot="21089400">
            <a:off x="901800" y="12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libri"/>
              </a:rPr>
              <a:t>ОНО УЖЕ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alibri"/>
              </a:rPr>
              <a:t>НЕ НУЖНО</a:t>
            </a:r>
            <a:r>
              <a:rPr b="0" lang="ru-RU" sz="88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Документы\Мои рисунки\Office3\АНИМАЦИИ\анимации\cvety95[1].gif"/>
          <p:cNvPicPr/>
          <p:nvPr/>
        </p:nvPicPr>
        <p:blipFill>
          <a:blip r:embed="rId1"/>
          <a:stretch/>
        </p:blipFill>
        <p:spPr>
          <a:xfrm>
            <a:off x="0" y="4437000"/>
            <a:ext cx="2066760" cy="219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D:\Документы\Мои рисунки\Office3\АНИМАЦИИ\анимации\cvety95[1].gif"/>
          <p:cNvPicPr/>
          <p:nvPr/>
        </p:nvPicPr>
        <p:blipFill>
          <a:blip r:embed="rId2"/>
          <a:stretch/>
        </p:blipFill>
        <p:spPr>
          <a:xfrm>
            <a:off x="108000" y="115920"/>
            <a:ext cx="2066760" cy="219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D:\Документы\Мои рисунки\Office3\АНИМАЦИИ\анимации\cvety95[1].gif"/>
          <p:cNvPicPr/>
          <p:nvPr/>
        </p:nvPicPr>
        <p:blipFill>
          <a:blip r:embed="rId3"/>
          <a:stretch/>
        </p:blipFill>
        <p:spPr>
          <a:xfrm>
            <a:off x="3132000" y="981000"/>
            <a:ext cx="2067120" cy="2190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0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500"/>
                            </p:stCondLst>
                            <p:childTnLst>
                              <p:par>
                                <p:cTn id="2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21089400">
            <a:off x="901800" y="12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Calibri"/>
              </a:rPr>
              <a:t>ЖДАЛА  ПИСЬМА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Calibri"/>
              </a:rPr>
              <a:t>ВО ВСЁМ ТЕБЯ ПРОС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Calibri"/>
              </a:rPr>
              <a:t>ТЫ НЕ ПИСАЛ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Calibri"/>
              </a:rPr>
              <a:t>ДАЛЁКИЙ И НЕДРУЖНЫЙ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D:\Документы\Мои рисунки\Office3\АНИМАЦИИ\анимации\cvety48[1].gif"/>
          <p:cNvPicPr/>
          <p:nvPr/>
        </p:nvPicPr>
        <p:blipFill>
          <a:blip r:embed="rId1"/>
          <a:stretch/>
        </p:blipFill>
        <p:spPr>
          <a:xfrm>
            <a:off x="0" y="5661000"/>
            <a:ext cx="1609560" cy="102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D:\Документы\Мои рисунки\Office3\АНИМАЦИИ\анимации\cvety48[1].gif"/>
          <p:cNvPicPr/>
          <p:nvPr/>
        </p:nvPicPr>
        <p:blipFill>
          <a:blip r:embed="rId2"/>
          <a:stretch/>
        </p:blipFill>
        <p:spPr>
          <a:xfrm>
            <a:off x="1476360" y="5818320"/>
            <a:ext cx="1609920" cy="1028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D:\Документы\Мои рисунки\Office3\АНИМАЦИИ\анимации\cvety48[1].gif"/>
          <p:cNvPicPr/>
          <p:nvPr/>
        </p:nvPicPr>
        <p:blipFill>
          <a:blip r:embed="rId3"/>
          <a:stretch/>
        </p:blipFill>
        <p:spPr>
          <a:xfrm>
            <a:off x="2970360" y="5818320"/>
            <a:ext cx="1609560" cy="1028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D:\Документы\Мои рисунки\Office3\АНИМАЦИИ\анимации\cvety48[1].gif"/>
          <p:cNvPicPr/>
          <p:nvPr/>
        </p:nvPicPr>
        <p:blipFill>
          <a:blip r:embed="rId4"/>
          <a:stretch/>
        </p:blipFill>
        <p:spPr>
          <a:xfrm>
            <a:off x="4643280" y="5818320"/>
            <a:ext cx="1609920" cy="102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D:\Документы\Мои рисунки\Office3\АНИМАЦИИ\анимации\cvety48[1].gif"/>
          <p:cNvPicPr/>
          <p:nvPr/>
        </p:nvPicPr>
        <p:blipFill>
          <a:blip r:embed="rId5"/>
          <a:stretch/>
        </p:blipFill>
        <p:spPr>
          <a:xfrm>
            <a:off x="6253200" y="5818320"/>
            <a:ext cx="1609560" cy="102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D:\Документы\Мои рисунки\Office3\АНИМАЦИИ\анимации\cvety48[1].gif"/>
          <p:cNvPicPr/>
          <p:nvPr/>
        </p:nvPicPr>
        <p:blipFill>
          <a:blip r:embed="rId6"/>
          <a:stretch/>
        </p:blipFill>
        <p:spPr>
          <a:xfrm>
            <a:off x="7862760" y="5818320"/>
            <a:ext cx="1609920" cy="1028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3000"/>
                            </p:stCondLst>
                            <p:childTnLst>
                              <p:par>
                                <p:cTn id="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2500"/>
                            </p:stCondLst>
                            <p:childTnLst>
                              <p:par>
                                <p:cTn id="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 rot="21089400">
            <a:off x="901800" y="12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2d050"/>
                </a:solidFill>
                <a:latin typeface="Calibri"/>
              </a:rPr>
              <a:t>ДА, ТЫ МОЛЧАЛ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2d050"/>
                </a:solidFill>
                <a:latin typeface="Calibri"/>
              </a:rPr>
              <a:t>МОЛЧАЛ,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2d050"/>
                </a:solidFill>
                <a:latin typeface="Calibri"/>
              </a:rPr>
              <a:t>МОЛЧАЛ, ХОТ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D:\Документы\Мои рисунки\Office3\АНИМАЦИИ\анимации\cvety70[1].gif"/>
          <p:cNvPicPr/>
          <p:nvPr/>
        </p:nvPicPr>
        <p:blipFill>
          <a:blip r:embed="rId1"/>
          <a:stretch/>
        </p:blipFill>
        <p:spPr>
          <a:xfrm>
            <a:off x="6012000" y="4221000"/>
            <a:ext cx="3289320" cy="277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D:\Документы\Мои рисунки\Office3\АНИМАЦИИ\анимации\cvety70[1].gif"/>
          <p:cNvPicPr/>
          <p:nvPr/>
        </p:nvPicPr>
        <p:blipFill>
          <a:blip r:embed="rId2"/>
          <a:stretch/>
        </p:blipFill>
        <p:spPr>
          <a:xfrm>
            <a:off x="0" y="4365720"/>
            <a:ext cx="2940120" cy="2474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100"/>
                            </p:stCondLst>
                            <p:childTnLst>
                              <p:par>
                                <p:cTn id="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21089400">
            <a:off x="901800" y="12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3684"/>
                </a:solidFill>
                <a:latin typeface="Calibri"/>
              </a:rPr>
              <a:t>ТВОЁ ПИСЬМО,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3684"/>
                </a:solidFill>
                <a:latin typeface="Calibri"/>
              </a:rPr>
              <a:t>КАК ЖИЗНЬ,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3684"/>
                </a:solidFill>
                <a:latin typeface="Calibri"/>
              </a:rPr>
              <a:t>МНЕ БЫЛО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3684"/>
                </a:solidFill>
                <a:latin typeface="Calibri"/>
              </a:rPr>
              <a:t>НУЖНО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D:\Документы\Мои рисунки\Office3\АНИМАЦИИ\анимации\cvety160[1].gif"/>
          <p:cNvPicPr/>
          <p:nvPr/>
        </p:nvPicPr>
        <p:blipFill>
          <a:blip r:embed="rId1"/>
          <a:stretch/>
        </p:blipFill>
        <p:spPr>
          <a:xfrm>
            <a:off x="0" y="3432240"/>
            <a:ext cx="1476360" cy="3457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800"/>
                            </p:stCondLst>
                            <p:childTnLst>
                              <p:par>
                                <p:cTn id="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6.6666662693024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900"/>
                            </p:stCondLst>
                            <p:childTnLst>
                              <p:par>
                                <p:cTn id="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21089400">
            <a:off x="901800" y="12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b8557"/>
                </a:solidFill>
                <a:latin typeface="Calibri"/>
              </a:rPr>
              <a:t>В ПОЛЯХ И РОЩ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b8557"/>
                </a:solidFill>
                <a:latin typeface="Calibri"/>
              </a:rPr>
              <a:t>С ПТИЧЬЕМ ПЕРЕЗВОНОМ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b8557"/>
                </a:solidFill>
                <a:latin typeface="Calibri"/>
              </a:rPr>
              <a:t>МНЕ В ЦЕЛОМ СВЕТЕ НЕ БЫЛО ЛЮД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b8557"/>
                </a:solidFill>
                <a:latin typeface="Calibri"/>
              </a:rPr>
              <a:t>ДОРОЖЕ ТЁТИ НЮРЫ – ПОЧТАЛЬОН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D:\Документы\Мои рисунки\Office3\АНИМАЦИИ\анимации\cvety148[1].gif"/>
          <p:cNvPicPr/>
          <p:nvPr/>
        </p:nvPicPr>
        <p:blipFill>
          <a:blip r:embed="rId1"/>
          <a:stretch/>
        </p:blipFill>
        <p:spPr>
          <a:xfrm>
            <a:off x="-108000" y="4292640"/>
            <a:ext cx="2586240" cy="2565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6200"/>
                            </p:stCondLst>
                            <p:childTnLst>
                              <p:par>
                                <p:cTn id="1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 rot="21089400">
            <a:off x="901800" y="12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f07a2"/>
                </a:solidFill>
                <a:latin typeface="Calibri"/>
              </a:rPr>
              <a:t>ГОДА ПРОШЛИ.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f07a2"/>
                </a:solidFill>
                <a:latin typeface="Calibri"/>
              </a:rPr>
              <a:t>И ВОТ – ТВОЁ </a:t>
            </a:r>
            <a:r>
              <a:rPr b="0" lang="ru-RU" sz="6600" spc="-1" strike="noStrike">
                <a:solidFill>
                  <a:srgbClr val="4732c4"/>
                </a:solidFill>
                <a:latin typeface="Calibri"/>
              </a:rPr>
              <a:t>ПИСЬМ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:\Документы\Мои рисунки\Office3\АНИМАЦИИ\анимации\cvety159[1].gif"/>
          <p:cNvPicPr/>
          <p:nvPr/>
        </p:nvPicPr>
        <p:blipFill>
          <a:blip r:embed="rId1"/>
          <a:stretch/>
        </p:blipFill>
        <p:spPr>
          <a:xfrm>
            <a:off x="7596360" y="3400560"/>
            <a:ext cx="1476360" cy="3457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 rot="21089400">
            <a:off x="901800" y="12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Calibri"/>
              </a:rPr>
              <a:t>КРАСИВЫХ БУКВ ЗНАКОМЫЙ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Calibri"/>
              </a:rPr>
              <a:t>РОСЧЕРК ДЛИННЫЙ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D:\Документы\Мои рисунки\Office3\АНИМАЦИИ\анимации\cvety180[1].gif"/>
          <p:cNvPicPr/>
          <p:nvPr/>
        </p:nvPicPr>
        <p:blipFill>
          <a:blip r:embed="rId1"/>
          <a:stretch/>
        </p:blipFill>
        <p:spPr>
          <a:xfrm>
            <a:off x="900000" y="189000"/>
            <a:ext cx="5334120" cy="1190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 rot="21089400">
            <a:off x="901800" y="12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a44e8"/>
                </a:solidFill>
                <a:latin typeface="Calibri"/>
              </a:rPr>
              <a:t>НО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a44e8"/>
                </a:solidFill>
                <a:latin typeface="Calibri"/>
              </a:rPr>
              <a:t>КАЖЕТСЯ: КОНВЕРТ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a44e8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8a44e8"/>
                </a:solidFill>
                <a:latin typeface="Calibri"/>
              </a:rPr>
              <a:t>ПИСЬМО САМО 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a44e8"/>
                </a:solidFill>
                <a:latin typeface="Calibri"/>
              </a:rPr>
              <a:t>КАК БУДТО ВСЁ ПРОПАХЛО НАФТАЛИНО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Документы\Мои рисунки\Office3\АНИМАЦИИ\анимации\cvety209[1].gif"/>
          <p:cNvPicPr/>
          <p:nvPr/>
        </p:nvPicPr>
        <p:blipFill>
          <a:blip r:embed="rId1"/>
          <a:stretch/>
        </p:blipFill>
        <p:spPr>
          <a:xfrm>
            <a:off x="179280" y="115920"/>
            <a:ext cx="2880000" cy="2496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500"/>
                            </p:stCondLst>
                            <p:childTnLst>
                              <p:par>
                                <p:cTn id="1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 rot="21089400">
            <a:off x="901800" y="12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46c0a"/>
                </a:solidFill>
                <a:latin typeface="Calibri"/>
              </a:rPr>
              <a:t>Я СТОЛЬКО ЛЕ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e46c0a"/>
                </a:solidFill>
                <a:latin typeface="Calibri"/>
              </a:rPr>
              <a:t>ЖДАЛ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46c0a"/>
                </a:solidFill>
                <a:latin typeface="Calibri"/>
              </a:rPr>
              <a:t>ТОГ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732c4"/>
                </a:solidFill>
                <a:latin typeface="Calibri"/>
              </a:rPr>
              <a:t>ПИСЬМА</a:t>
            </a:r>
            <a:r>
              <a:rPr b="0" lang="ru-RU" sz="4800" spc="-1" strike="noStrike">
                <a:solidFill>
                  <a:srgbClr val="e46c0a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Документы\Мои рисунки\Office3\АНИМАЦИИ\анимации\razdelitel_9[1].jpg"/>
          <p:cNvPicPr/>
          <p:nvPr/>
        </p:nvPicPr>
        <p:blipFill>
          <a:blip r:embed="rId1"/>
          <a:stretch/>
        </p:blipFill>
        <p:spPr>
          <a:xfrm rot="20143800">
            <a:off x="23760" y="323640"/>
            <a:ext cx="4591080" cy="198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400"/>
                            </p:stCondLst>
                            <p:childTnLst>
                              <p:par>
                                <p:cTn id="2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2700"/>
                            </p:stCondLst>
                            <p:childTnLst>
                              <p:par>
                                <p:cTn id="2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21:25:12Z</dcterms:created>
  <dc:creator>ppsworld.ru</dc:creator>
  <dc:description/>
  <dc:language>en-US</dc:language>
  <cp:lastModifiedBy>пользователь</cp:lastModifiedBy>
  <dcterms:modified xsi:type="dcterms:W3CDTF">2013-08-05T21:02:58Z</dcterms:modified>
  <cp:revision>14</cp:revision>
  <dc:subject/>
  <dc:title>Ваш текст     </dc:title>
</cp:coreProperties>
</file>