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C9AF-3FD6-40A3-959A-339476237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B364-345D-4711-A6A8-3B4319277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AA77-1D5B-4EE9-AA10-CFA661882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74E5-E573-42B0-B688-BC19BEC77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48F1-5332-48F9-B902-F04F8A76EE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8616-D0A2-4562-9238-CC38665A93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D8DD-7730-4C99-BA0B-9C1CC6A086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95A8-262E-4629-9C4C-D0C2A7E5D4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33D3-11D6-43F7-9D18-903B432B9D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FA6F-8ACB-4518-8351-622A96B06C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3598-DFEF-48E2-8AB8-8DD87FFE30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1BBB-69FD-498B-B15D-9F789FFA5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6EBC-528D-406E-ADA5-9865F5FA22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B6A3-BE61-458A-B3F9-A0923F2127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ADBF-2183-4F0F-9373-E87DDD0959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7C64-5AC8-4627-ABC5-155E4E726E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7FF5-9E6C-452C-A62E-3D1CA17DAD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BD0E-49D2-450A-849C-21CCE1677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9501-0D1C-4E44-8052-0CACECD19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2DDE-F706-49AC-9D90-9A70AA3BF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53A0-EAD3-432E-95FC-F3B5B0586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5CD0-783C-4B64-A8F2-F1022D3C7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6097-6677-4821-8609-6081C123B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016E-FB67-4B98-87C6-823BC52CF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084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e2a6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f1e2a6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80160" y="659088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5A4F-4363-4DB4-96FB-083D2D36E733}" type="slidenum">
              <a:rPr b="0" lang="en-US" sz="1200" spc="-1" strike="noStrike">
                <a:solidFill>
                  <a:srgbClr val="bababa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371600" y="333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7000"/>
          </a:bodyPr>
          <a:p>
            <a:pPr marL="160920" indent="-160920" algn="ctr"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1" marL="196920" indent="17640" algn="ctr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2" marL="411480" indent="17640" algn="ctr"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3" marL="626400" indent="17640" algn="ctr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4" marL="841320" indent="17640" algn="ctr">
              <a:spcBef>
                <a:spcPts val="700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5" marL="841320" indent="17640" algn="ctr">
              <a:spcBef>
                <a:spcPts val="700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6" marL="841320" indent="17640" algn="ctr">
              <a:spcBef>
                <a:spcPts val="700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1e2a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09760" indent="-411480">
              <a:spcBef>
                <a:spcPts val="700"/>
              </a:spcBef>
              <a:buClr>
                <a:srgbClr val="f9f9f9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404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28600">
              <a:spcBef>
                <a:spcPts val="700"/>
              </a:spcBef>
              <a:buClr>
                <a:srgbClr val="ffffff"/>
              </a:buClr>
              <a:buSzPct val="94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0660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0660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0660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80160" y="659088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Arial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3552-FD80-47D0-9A98-F6E9E02A1514}" type="slidenum">
              <a:rPr b="0" lang="en-US" sz="1200" spc="-1" strike="noStrike">
                <a:solidFill>
                  <a:srgbClr val="bababa"/>
                </a:solidFill>
                <a:latin typeface="Arial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leverstudents.ru/function_graph_transformations.html" TargetMode="External"/><Relationship Id="rId2" Type="http://schemas.openxmlformats.org/officeDocument/2006/relationships/hyperlink" Target="http://www.distedu.ru/mirror/_fiz/archive.1september.ru/mat/2001/47/no47_01.htm" TargetMode="External"/><Relationship Id="rId3" Type="http://schemas.openxmlformats.org/officeDocument/2006/relationships/hyperlink" Target="http://www.mathematics.ru/courses/function/content/chapter2/section3/paragraph2/theory.html" TargetMode="External"/><Relationship Id="rId4" Type="http://schemas.openxmlformats.org/officeDocument/2006/relationships/hyperlink" Target="http://www.mathematics.ru/courses/function/content/chapter2/section3/paragraph2/theory.html" TargetMode="External"/><Relationship Id="rId5" Type="http://schemas.openxmlformats.org/officeDocument/2006/relationships/hyperlink" Target="http://www.mathematics.ru/courses/function/content/chapter2/section3/paragraph2/theory.html" TargetMode="External"/><Relationship Id="rId6" Type="http://schemas.openxmlformats.org/officeDocument/2006/relationships/hyperlink" Target="http://www.cleverstudents.ru/function_graph_transformations.html" TargetMode="External"/><Relationship Id="rId7" Type="http://schemas.openxmlformats.org/officeDocument/2006/relationships/hyperlink" Target="http://www.cleverstudents.ru/function_graph_transformations.html" TargetMode="External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0840" y="64296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e2a6"/>
                </a:solidFill>
                <a:latin typeface="Lucida Grande"/>
              </a:rPr>
              <a:t>Преобразование графиков тригонометрических функций</a:t>
            </a:r>
            <a:endParaRPr b="1" lang="en-US" sz="4000" spc="-1" strike="noStrike">
              <a:solidFill>
                <a:srgbClr val="f1e2a6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0400" y="3214440"/>
            <a:ext cx="3174840" cy="307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Авторы проекта учителя математики ГБС(К)ОУ школы – интерната №113 г.о.Самара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Губарева Е.Г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Пискаева С.В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067280" y="2786040"/>
            <a:ext cx="4848120" cy="3500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Пошаговое построение графика функции у = 2sin(2x-π/3)</a:t>
            </a:r>
            <a:endParaRPr b="1" lang="en-US" sz="36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14120"/>
            <a:ext cx="7975800" cy="4343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09760" indent="-411480">
              <a:lnSpc>
                <a:spcPct val="90000"/>
              </a:lnSpc>
              <a:buClr>
                <a:srgbClr val="f9f9f9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им график функции у = s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760" indent="-4114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троим график функции y = sin 2x, сжимая исходный график в 2 раза к ос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760" indent="-4114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троим график функции у = sin(2x – π/3), сдвигая параллельным переносом в положительном направлении на π/3 граф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760" indent="-4114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sin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760" indent="-4114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Строим график функции у = 2sin(2x - π/3), растяжением вдоль оси ОУ в 2 раза граф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760" indent="-4114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= sin(2x – π/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1e2a6"/>
                </a:solidFill>
                <a:latin typeface="Arial"/>
              </a:rPr>
              <a:t>Проверь себя:</a:t>
            </a: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36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23800" y="1538280"/>
            <a:ext cx="8099640" cy="2324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012680" y="4076640"/>
            <a:ext cx="6829560" cy="233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3"/>
          <p:cNvSpPr/>
          <p:nvPr/>
        </p:nvSpPr>
        <p:spPr>
          <a:xfrm>
            <a:off x="8480520" y="659124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E832-A22E-4FE0-ABBB-ABF95344ECBF}" type="slidenum">
              <a:rPr b="0" lang="en-US" sz="1200" spc="-1" strike="noStrike">
                <a:solidFill>
                  <a:srgbClr val="bababa"/>
                </a:solidFill>
                <a:latin typeface="Arial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1184760" y="1434960"/>
            <a:ext cx="9594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47560" indent="-411120">
              <a:lnSpc>
                <a:spcPct val="100000"/>
              </a:lnSpc>
              <a:spcBef>
                <a:spcPts val="663"/>
              </a:spcBef>
              <a:buClr>
                <a:srgbClr val="f9f9f9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1e2a6"/>
                </a:solidFill>
                <a:latin typeface="Arial"/>
              </a:rPr>
              <a:t>Итоговый график</a:t>
            </a:r>
            <a:endParaRPr b="1" lang="en-US" sz="41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4280"/>
            <a:ext cx="8229600" cy="4013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7680" y="2392200"/>
            <a:ext cx="8102520" cy="2732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8480520" y="659124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4439-5BAB-406A-862D-3B6FD88247A3}" type="slidenum">
              <a:rPr b="0" lang="en-US" sz="1200" spc="-1" strike="noStrike">
                <a:solidFill>
                  <a:srgbClr val="bababa"/>
                </a:solidFill>
                <a:latin typeface="Arial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3080" y="1983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Список используемых источников</a:t>
            </a:r>
            <a:endParaRPr b="1" lang="en-US" sz="36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 для 10-11 классов общеобразовательных учреждений «Алгебра и начала анализа» под редакцией А.Н.Колмог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1"/>
              </a:rPr>
              <a:t>www.cleverstudents.ru/function_graph_transformations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2"/>
              </a:rPr>
              <a:t>www.distedu.ru/mirror/_fiz/archive.1september.ru/mat/2001/47/no47_0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ение графиков функций, содержащих знак мод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3"/>
              </a:rPr>
              <a:t>www.mathematics.ru/courses/function/content/chapter2/section3/paragraph2/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4"/>
              </a:rPr>
              <a:t>             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5"/>
              </a:rPr>
              <a:t>t heory.htm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ментарные функции и их   граф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ztes.ru/abstracts/?idabstract=5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6"/>
              </a:rPr>
              <a:t>Тригонометрические функции. Синус и косину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7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-30240"/>
            <a:ext cx="8229600" cy="2424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Параллельный перенос на </a:t>
            </a:r>
            <a:br>
              <a:rPr sz="3600"/>
            </a:b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вектор (0; b) вдоль оси ординат:</a:t>
            </a:r>
            <a:br>
              <a:rPr sz="3600"/>
            </a:br>
            <a:r>
              <a:rPr b="1" lang="en-US" sz="1600" spc="-1" strike="noStrike">
                <a:solidFill>
                  <a:srgbClr val="f1e2a6"/>
                </a:solidFill>
                <a:latin typeface="Arial"/>
              </a:rPr>
              <a:t>График функции f(x)+b получается параллельным переносом графика f(x) в положительном направлении оси ОУ на ǀbǀ единиц при b&gt;0  и в отрицательном направлении этой оси на ǀbǀ единиц  при b&lt;0.</a:t>
            </a:r>
            <a:br>
              <a:rPr sz="3600"/>
            </a:b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1e2a6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638360" y="2422440"/>
            <a:ext cx="5865840" cy="435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0080" cy="228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Параллельный перенос вдоль оси абсцисс на вектор (c; 0).</a:t>
            </a:r>
            <a:br>
              <a:rPr sz="4000"/>
            </a:br>
            <a:r>
              <a:rPr b="0" lang="en-US" sz="1800" spc="-1" strike="noStrike">
                <a:solidFill>
                  <a:srgbClr val="f1e2a6"/>
                </a:solidFill>
                <a:latin typeface="Arial"/>
              </a:rPr>
              <a:t>График функции f(x+с) получается параллельным переносом в отрицательном направлении оси ОХ на ǀсǀ при с&gt;0 и в положительном направлении на ǀсǀ при с&lt;0.</a:t>
            </a:r>
            <a:endParaRPr b="1" lang="en-US" sz="1800" spc="-1" strike="noStrike">
              <a:solidFill>
                <a:srgbClr val="f1e2a6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4032360" cy="367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373716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4160" y="177840"/>
            <a:ext cx="8635680" cy="2463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Растяжение вдоль оси ОX с коэффициентом k, которое задается формулами х₁=kх, у₁=y. </a:t>
            </a:r>
            <a:r>
              <a:rPr b="1" lang="en-US" sz="1800" spc="-1" strike="noStrike">
                <a:solidFill>
                  <a:srgbClr val="f1e2a6"/>
                </a:solidFill>
                <a:latin typeface="Arial"/>
              </a:rPr>
              <a:t>Граф</a:t>
            </a:r>
            <a:r>
              <a:rPr b="0" lang="en-US" sz="1800" spc="-1" strike="noStrike">
                <a:solidFill>
                  <a:srgbClr val="f1e2a6"/>
                </a:solidFill>
                <a:latin typeface="Arial"/>
              </a:rPr>
              <a:t>ик функции  f(kx) получается сжатием графика f(x)  в k раз к оси ОУ при k&gt;1 или растяжением в 1/k раз от оси ОУ при 0&lt;k&lt;1.</a:t>
            </a:r>
            <a:endParaRPr b="1" lang="en-US" sz="1800" spc="-1" strike="noStrike">
              <a:solidFill>
                <a:srgbClr val="f1e2a6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55600" y="2840040"/>
            <a:ext cx="4344840" cy="3892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4748040" y="2852640"/>
            <a:ext cx="414360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0120" y="22356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Растяжение вдоль оси ОУ с коэффициентом a, которое задается формулами х₁=х, у₁=ay.</a:t>
            </a:r>
            <a:br>
              <a:rPr sz="3600"/>
            </a:br>
            <a:r>
              <a:rPr b="0" lang="en-US" sz="1600" spc="-1" strike="noStrike">
                <a:solidFill>
                  <a:srgbClr val="f1e2a6"/>
                </a:solidFill>
                <a:latin typeface="Arial"/>
              </a:rPr>
              <a:t>График функции аf(x) получается растяжением графика f(x) вдоль оси ОУ в а раз при а &gt; 1 и сжатием вдоль оси ОУ в 1/a раз при 0 &lt; a &lt; 1.</a:t>
            </a:r>
            <a:endParaRPr b="1" lang="en-US" sz="1600" spc="-1" strike="noStrike">
              <a:solidFill>
                <a:srgbClr val="f1e2a6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662472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7861320" cy="2590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График функции y= f(-x) получается симметричным отображением графика f(x) относительно оси ОУ. </a:t>
            </a:r>
            <a:endParaRPr b="1" lang="en-US" sz="3600" spc="-1" strike="noStrike">
              <a:solidFill>
                <a:srgbClr val="f1e2a6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5616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e2a6"/>
                </a:solidFill>
                <a:latin typeface="Arial"/>
              </a:rPr>
              <a:t>График функции y= -f(x) получается симметричным отображением графика f(x) относительно оси ОX. </a:t>
            </a:r>
            <a:endParaRPr b="1" lang="en-US" sz="3200" spc="-1" strike="noStrike">
              <a:solidFill>
                <a:srgbClr val="f1e2a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1200" y="29462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74760" y="2946240"/>
            <a:ext cx="8178840" cy="258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График функции </a:t>
            </a:r>
            <a:r>
              <a:rPr b="0" lang="en-US" sz="3600" spc="-1" strike="noStrike">
                <a:solidFill>
                  <a:srgbClr val="f1e2a6"/>
                </a:solidFill>
                <a:latin typeface="Arial Bold"/>
                <a:ea typeface="Arial Bold"/>
              </a:rPr>
              <a:t>│</a:t>
            </a:r>
            <a:r>
              <a:rPr b="1" lang="en-US" sz="3600" spc="-1" strike="noStrike">
                <a:solidFill>
                  <a:srgbClr val="f1e2a6"/>
                </a:solidFill>
                <a:latin typeface="Arial"/>
              </a:rPr>
              <a:t>f(x)</a:t>
            </a:r>
            <a:r>
              <a:rPr b="0" lang="en-US" sz="3600" spc="-1" strike="noStrike">
                <a:solidFill>
                  <a:srgbClr val="f1e2a6"/>
                </a:solidFill>
                <a:latin typeface="Arial Bold"/>
                <a:ea typeface="Arial Bold"/>
              </a:rPr>
              <a:t>│</a:t>
            </a:r>
            <a:br>
              <a:rPr sz="3600"/>
            </a:br>
            <a:r>
              <a:rPr b="0" lang="en-US" sz="1600" spc="-1" strike="noStrike">
                <a:solidFill>
                  <a:srgbClr val="f1e2a6"/>
                </a:solidFill>
                <a:latin typeface="Arial"/>
                <a:ea typeface="Arial"/>
              </a:rPr>
              <a:t>получается из </a:t>
            </a:r>
            <a:r>
              <a:rPr b="0" lang="en-US" sz="1800" spc="-1" strike="noStrike">
                <a:solidFill>
                  <a:srgbClr val="f1e2a6"/>
                </a:solidFill>
                <a:latin typeface="Arial"/>
                <a:ea typeface="Arial"/>
              </a:rPr>
              <a:t>графика f(x) так: часть графика f(x), лежащая над осью ОХ, сохраняется, часть , лежащая под осью ОХ, отображается симметрично относительно оси ОХ.</a:t>
            </a:r>
            <a:endParaRPr b="1" lang="en-US" sz="1800" spc="-1" strike="noStrike">
              <a:solidFill>
                <a:srgbClr val="f1e2a6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12880" y="3009960"/>
            <a:ext cx="614520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e2a6"/>
                </a:solidFill>
                <a:latin typeface="Arial"/>
              </a:rPr>
              <a:t>График функции f(</a:t>
            </a:r>
            <a:r>
              <a:rPr b="0" lang="en-US" sz="3200" spc="-1" strike="noStrike">
                <a:solidFill>
                  <a:srgbClr val="f1e2a6"/>
                </a:solidFill>
                <a:latin typeface="Arial Bold"/>
                <a:ea typeface="Arial Bold"/>
              </a:rPr>
              <a:t>│x│)</a:t>
            </a:r>
            <a:br>
              <a:rPr sz="3200"/>
            </a:br>
            <a:r>
              <a:rPr b="0" lang="en-US" sz="1600" spc="-1" strike="noStrike">
                <a:solidFill>
                  <a:srgbClr val="f1e2a6"/>
                </a:solidFill>
                <a:latin typeface="Arial"/>
                <a:ea typeface="Arial"/>
              </a:rPr>
              <a:t>получается из графика функции f(x) так: при х ≥ 0 график f(x) сохраняется, а при</a:t>
            </a:r>
            <a:br>
              <a:rPr sz="1600"/>
            </a:br>
            <a:r>
              <a:rPr b="0" lang="en-US" sz="1600" spc="-1" strike="noStrike">
                <a:solidFill>
                  <a:srgbClr val="f1e2a6"/>
                </a:solidFill>
                <a:latin typeface="Arial"/>
                <a:ea typeface="Arial"/>
              </a:rPr>
              <a:t> х &lt; 0 полученная часть графика отображается симметрично относительно оси ОУ.</a:t>
            </a:r>
            <a:br>
              <a:rPr sz="3200"/>
            </a:br>
            <a:endParaRPr b="1" lang="en-US" sz="1600" spc="-1" strike="noStrike">
              <a:solidFill>
                <a:srgbClr val="f1e2a6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141560" y="2855880"/>
            <a:ext cx="6788160" cy="300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cp:keywords/>
  <dc:language>en-US</dc:language>
  <cp:lastModifiedBy>Ученик 2</cp:lastModifiedBy>
  <dcterms:modified xsi:type="dcterms:W3CDTF">2013-03-27T06:25:18Z</dcterms:modified>
  <cp:revision>4</cp:revision>
  <dc:subject/>
  <dc:title>Презентация PowerPoint</dc:title>
</cp:coreProperties>
</file>