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07FE-69F2-4A6E-B35F-1896B0150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F325-F1BD-48AF-BF02-41B6573A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907E-26C0-40FA-A86E-DFE25FF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C0F5-3D72-40F6-B2D1-6B3BC2F3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89352-8554-4022-B844-39DD48D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2E32-2EBA-4E20-919D-813FBF8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717B-3CDF-4766-BA88-D43BB73C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7E65-A4B1-4762-92D1-F089EFE7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66C9-032C-48B6-8720-4C246F6D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25A1-1B84-40E1-AB36-C6DFCFC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029D-43A5-45E5-A445-B2D9F5E6B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729B3-9CA0-4AA5-910F-D2B52C5D39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9ADC-7CB4-4614-811D-FA5C8D1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7D651-5A58-4BB6-BB05-E638C799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34F24-65E5-46AC-878F-A45159A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1F288-782A-4DDC-9758-C6B6ED85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52976-472B-4705-9027-C5962193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D5386-E012-45F5-9690-88026C7E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BB91D-4660-4C0F-8089-91F2269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5A2F2-F635-42D5-BBD2-1F8228BF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4E6DF-52B3-42E5-B51E-25B4FF99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E2A3B-D818-4C7A-A481-8C82224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61F23-EEE2-4E58-8B7C-889CAAC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3349-1E41-45D6-A1B5-6EC3A200A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05F5E-F8F4-4F50-9855-AEF872C74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DCF8A7-A78F-4AC8-95E5-D54E85D3D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CF3D81-1ABF-4538-AAF3-11120CD6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F0428E-960C-45F0-A97D-6FE18A4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81388-ECAA-4A33-8009-EDE9998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F1A70-2EE0-4F78-A5C9-29286698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59BCF-B13E-4B0B-AE27-1B8FD7B2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59A80-7794-46A6-BB03-A15E20E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DFBBF-A0EC-46F7-B3DB-B73D90D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C91A3B-7D24-48CC-897D-4E5C547C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F74A8-262B-4F4D-AE34-007A894AF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F7EFD5-F586-4F69-B121-4043A72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0236F4-8DF5-4B6B-86B6-9986783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A16D8E-B303-42D9-A577-8441BF7D1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5B6FD-9E2B-4DA3-B86F-2B622AF2B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D0E15-B2A4-4104-B6FC-407795B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59FA5-3B88-430B-AC4D-A7BF139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5F96-060E-47F3-AA78-6274BEA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46D87-E664-4937-8DEA-9AB51AA9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FF726-8E8C-4F69-B2EC-43E87A28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0FC1-A2D8-4B00-9A6A-AB727E05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F05E3-F29C-4A16-A5FF-4437D74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13C7A-6735-4CAB-B729-8EF53B90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E6EB3-6E9E-4A0E-9839-CA699DA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8B36-92A9-4E56-95B5-1F45BA5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047D-00C5-4358-BCA6-A5F10BD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CDF6-D74F-4FFE-8422-E08B5DB53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180A2-BC92-46C9-A258-93ECE0BD6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F0A3A-EF64-46DA-B5AA-7CF66F5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75632-A26A-4827-A836-63828285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0CBBC-3D5E-482F-BA4E-E92FDB7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8B28D-5CB7-4998-B5D4-62F3C68C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A734F-1BD4-4665-AEFE-8B8C29A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F230F2-851B-4070-B14F-3FCD6D35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5A89A-271D-48D1-86CC-B5E1724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C65B4-AA34-4DBD-BF54-F0BDE9D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2747D-D278-43C5-955B-35FAD6F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A1907-25A5-4533-A29D-75255AF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F6B9F-774C-4FE3-B1DE-7459854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06F97-4D21-4224-926D-8C7887E18D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E4580-F2FF-4490-B43C-4CC075DA0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C6A26-8961-4810-9B8E-9221AB4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BF3E5-9640-4514-9410-89BA676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7534-11F6-43E0-A8C9-DE794C7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A4FA4-EB6E-4D1D-94F2-003284A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5692D-9E3B-4B6B-8EDE-607A82CD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644A8-873E-49B3-BFC8-374AD2B2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BA09D-891B-47E5-8AC7-11E402C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0C733-FA23-4ECF-9186-9D62F8E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A2D2E-C3EF-4378-884A-B793E26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39752-B4B2-43E7-8256-E2E5B3B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9C7BE-7823-4129-9DDF-44CEA20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CB2F2-9900-4FF9-AEAE-BCB3DCBCB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BE2CF-9497-4338-B5B5-544FE1CA6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4A3D6-B0DE-4A81-A391-72631105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BED24-C211-4BA1-B989-8561E2B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B36F5-E3E1-4223-AFB7-040D1AA5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B16D3-E133-4A75-ABB0-2AF064C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79178-AC25-4E33-BAE1-D3E00C98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D4FBE-6B85-42E0-A9FC-9E350554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7B13B-EF21-474B-BE27-16F23CE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17366-F832-42CC-9A84-17513C5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0238F-B8A8-4A2B-8CB8-77187E7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B6644-CFB8-45F9-9934-C10CF65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94DC-5E19-41FF-A554-6A4BB76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CE2E8-CDF7-421C-8BF9-B0677C3D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8F2DC-0234-4551-AB24-B6DFA0990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F4ADBA-3D69-49D9-BA4A-815A2E738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F7F429-5BD3-4125-A55D-4CE820E0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ECB8E4-2CB2-4100-94EA-77A0AC1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FF93AB-514D-46BD-9CF7-1D6FF95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16282D-FB70-43FC-BEDB-A94BBDE4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D36645-84E0-4E42-9A02-D91DDA79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2D33ED-5E75-4A8B-90FD-31B1481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CAE7C-ABE1-47A4-9236-6A71E29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F34CD1-7A02-475B-8D1E-4EEC0F6A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54580-3F01-4BB3-8AA2-CC8DD11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E9338-790F-4D77-872C-4C4D6FE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C27B65-1022-403B-9F30-1CD402C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3CF5A0-B095-4722-9168-3ED5A7AF5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95D0-A660-4C77-AF4C-C5D790441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C53B4-2747-4E9B-AAF4-CC19919B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9418B-2E2E-4731-BC27-9095934F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61751-6294-49A7-9B30-6FF842D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F573B-0EA1-4924-BEA8-F3F1982F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CBCDF-1EDC-4B97-BD46-79AADD8E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44EDA-9DE2-4ADE-974C-69386ACD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176D-84AB-4453-AC9F-51512110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9EA1D-2F85-4B66-AC26-809BE0F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ADFD3-4E17-4147-AC4D-E179408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359CA-0F19-4931-9EB8-B46A496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7F79D-1889-4687-A4CB-EFA7F4FD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3B7A2-9769-4D13-AA21-761B884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A2D97-D156-477B-AE64-4CE71CEE4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4FA22-66CA-4778-A7C5-B24E37011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4BFD9-D0EB-4614-B13A-18FBD84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3E030-1067-454B-A9C5-27EF563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835D4-0627-4C2C-A6C2-AA9642A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54CB7-7F1A-4B1F-A478-24565D98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EC7CB-D451-4997-B4C5-7535D54C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40A22-2369-4D45-980A-4A89A9F1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D0C8-E55A-4CC1-BDA2-0955F41A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594A3-71F9-4731-89DC-6E7B6FF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02264-C86F-4073-90BB-C6A7A22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26713-0F16-4781-B477-E527750D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B232-2825-41F7-B1DC-8E207D3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20815-363C-456F-BD37-F68109A8F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0FA7-38C3-43C7-A70A-9AC444D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31A02-0D7B-40EA-A10E-E1F62CA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5375-97F2-4E56-8C49-91EC6BA9E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A6B0-DDDE-4792-A39F-578724704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0B18-CDF7-4BFC-9974-EB0926A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2D5-95FF-4467-B72B-2BD8924C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C00-3D23-4508-AAC0-63280689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4A46-B34E-410A-9EE7-42C2795C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6AAD-E310-42AE-AA63-F95BA43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A557-EC61-4ED4-9D29-5B285B16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1D5-8932-4C8B-8E8F-4C7891A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23A4-AA68-444C-9AD9-0219A201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EA1-7576-42FA-A38F-B239929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A8FC-43AA-47F6-9BE6-47E0DD64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42F0-854F-4866-B1B4-9582F61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03B-3D3A-41E0-A64F-E778F5E0C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6ABE9-0E8B-4F53-BD75-EEBDD946DC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D8039-7838-4221-8E69-51130E7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B3D4F-8311-4388-9ED5-99BB11BD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AB7C-4473-49BE-9D74-4F41436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A94B3-9C68-4798-8765-744B2681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4136-D421-4D26-96D6-BA0184B8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AD0D9-78F4-4C2D-9E2C-31E8BF5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B3BDF-B6EE-4E75-9F0A-493E0D8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A48F-FE0B-4E44-AEA8-3527E4C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91B94-CC7D-46E4-BEE5-9509DA4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3B4E5-BF3B-4802-A876-6BD30B3F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28A0C-9EA0-445A-A8E8-8F337E4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E3C05-8675-47A6-B8A5-9980D7614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A39EB-6ED0-4659-99C4-12740419C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9770-4146-424C-924C-C7DC271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FD5DE-A6AC-4059-B0E7-9DE9DD7A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79120-B55C-477D-AE87-9B492C23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F0683-A82D-45C9-89F3-A8BE193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BEC6E-4C0A-4B88-A77E-9647708A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229FF-B88E-4E2E-AED3-9A9DBA39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D268D-B4AA-41C8-B234-CE7F97E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8500D-0B60-43EB-8E6D-DAF8C93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5793D-F24E-4A14-8E2A-17A51DC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11ABC-C956-4C50-B89E-4977C39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871AC-CCE0-47CF-BC0B-503811E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5C31-DA6C-4D0D-A7B4-45BE742F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CA7D6-4AC4-4E3F-90AB-E92EFA0A8A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7F79-555F-4E27-8E96-051596AC0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392C-4AFB-4934-9AA6-814B7F3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A6FC-F277-47EC-AED4-388BD69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57E6-003F-4F65-8400-59D8F23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46D0-40F3-49A3-8D5F-DAA94A6A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4DA1-E387-41CB-A864-972C052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8E7E-B9B2-4486-8AC5-81FB374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8E45-28BE-466B-BCF5-CB58E24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4EFB-30EF-405E-BD54-CEABD87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791E-F4FA-4F01-94AC-BF776A24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F55E-FC99-4DA0-A5CD-0FDEE03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DE30-9426-4594-B4AE-EB56B80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42CF-06CE-4AD3-A4B8-DA01B9614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F7772-47BA-4280-BBFE-F4BA731F1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E46CF-60C0-4FCD-9BA7-08FF12D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B8928-379F-447A-93B5-762405EA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ACA06-B899-4330-A34A-CB7601F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A2F9D-E2AF-4063-95E3-6E2574C1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D992C-4206-47C0-85B0-22737B2D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B3A4B-1B39-4AE8-A309-ABB27A9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BC45-D08D-46BB-849B-F53D22D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3BDCA-D54E-4C98-A740-045635C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6CD54-4AE2-4026-B438-F5030E18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3FAAC-0AC8-4C5E-9E0C-3A7F7773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12957-AE68-47A9-B157-F5AB7D8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44C9B-59BA-4932-A273-D3A9AD897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0CDA3-9D6D-4B16-BD0E-3E66E5BDC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075FE-5CE1-4F4C-AF65-824357E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08AD9C-C4F5-4753-8CF5-05606F66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4A6F8-70C0-46D3-A054-066BB3B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9C3207-B297-4ABE-97D4-0D1D15A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F439-C3D0-4B42-B82F-59F9386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6788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FBB977-F57A-4F82-8AD8-506B3C37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7C08F-EC9C-480E-B6D6-3E593A8B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6CEE4-EAD1-49EB-8E9F-10B97D1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546C0-9FB0-43E1-93F3-D7F03C9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3914280"/>
            <a:ext cx="86788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6F45C5-8859-44BF-B3A5-273653A2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2000" y="155412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52000" y="3914280"/>
            <a:ext cx="42350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51FAB-A633-4CEC-BD7F-0ABF4CC8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28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3640" y="155412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28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3640" y="3914280"/>
            <a:ext cx="27943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B838E-84DF-44C0-B78E-4E92683C1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7156-C510-4384-A01C-70B370A91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B1CFE-615D-4510-ABEA-166B44E8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4605-B49F-4019-B052-7AFAE74A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06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240" y="6477120"/>
            <a:ext cx="754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C9144-64EB-4285-BD12-90F4DB3E65A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36040" cy="17640"/>
            <a:chOff x="506520" y="1047600"/>
            <a:chExt cx="8636040" cy="1764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0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01CE8C-673F-499F-84C5-6318507917A8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506520" y="5340240"/>
            <a:ext cx="8636040" cy="15840"/>
            <a:chOff x="506520" y="5340240"/>
            <a:chExt cx="8636040" cy="15840"/>
          </a:xfrm>
        </p:grpSpPr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1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2"/>
          </p:nvPr>
        </p:nvSpPr>
        <p:spPr>
          <a:xfrm>
            <a:off x="8229600" y="6473520"/>
            <a:ext cx="750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BF89AA-E812-4690-9569-49BF598E27F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497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06520" y="1047600"/>
            <a:ext cx="8636040" cy="17640"/>
            <a:chOff x="506520" y="1047600"/>
            <a:chExt cx="8636040" cy="17640"/>
          </a:xfrm>
        </p:grpSpPr>
        <p:pic>
          <p:nvPicPr>
            <p:cNvPr id="500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3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4"/>
          </p:nvPr>
        </p:nvSpPr>
        <p:spPr>
          <a:xfrm>
            <a:off x="8229600" y="6473520"/>
            <a:ext cx="750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135EAC-F8DF-4C88-8EDE-47F0A563015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506520" y="3432240"/>
            <a:ext cx="8636040" cy="15840"/>
            <a:chOff x="506520" y="3432240"/>
            <a:chExt cx="8636040" cy="15840"/>
          </a:xfrm>
        </p:grpSpPr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26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486CCF0-8F67-4A2E-874B-494D48ED7D4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506520" y="6010200"/>
            <a:ext cx="8636040" cy="17640"/>
            <a:chOff x="506520" y="6010200"/>
            <a:chExt cx="8636040" cy="17640"/>
          </a:xfrm>
        </p:grpSpPr>
        <p:pic>
          <p:nvPicPr>
            <p:cNvPr id="588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7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4A82165-9C39-4966-8205-DCC16399C61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9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419E6E-DA41-401C-856D-27DCD8F236C0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506520" y="5840280"/>
            <a:ext cx="8636040" cy="15840"/>
            <a:chOff x="506520" y="5840280"/>
            <a:chExt cx="8636040" cy="15840"/>
          </a:xfrm>
        </p:grpSpPr>
        <p:pic>
          <p:nvPicPr>
            <p:cNvPr id="673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sldNum" idx="32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4FADD3-1142-4C7D-ADE3-A09C9A7EAAB8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3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4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B211D2-3AA0-40B3-B1D1-62F0565219D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5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C79FCD-1AC1-4046-BF41-B4BC77460390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FFE5B8-830E-4561-A31E-A88851A53D9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6520" y="1047600"/>
            <a:ext cx="8636040" cy="17640"/>
            <a:chOff x="506520" y="1047600"/>
            <a:chExt cx="8636040" cy="1764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06520" y="5340240"/>
            <a:ext cx="8636040" cy="15840"/>
            <a:chOff x="506520" y="5340240"/>
            <a:chExt cx="8636040" cy="1584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600" y="6473520"/>
            <a:ext cx="750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64F215-17DB-4CBB-8C99-798CC6CA345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06520" y="1036800"/>
            <a:ext cx="8636040" cy="21960"/>
            <a:chOff x="506520" y="1036800"/>
            <a:chExt cx="8636040" cy="2196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3604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06520" y="1047600"/>
            <a:ext cx="8636040" cy="17640"/>
            <a:chOff x="506520" y="1047600"/>
            <a:chExt cx="8636040" cy="17640"/>
          </a:xfrm>
        </p:grpSpPr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8"/>
          </p:nvPr>
        </p:nvSpPr>
        <p:spPr>
          <a:xfrm>
            <a:off x="8229600" y="6473520"/>
            <a:ext cx="750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74F538A-A217-4058-9071-1C0B625FB47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506520" y="3432240"/>
            <a:ext cx="8636040" cy="15840"/>
            <a:chOff x="506520" y="3432240"/>
            <a:chExt cx="8636040" cy="1584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9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95C189-D576-41F6-AF95-188E628387B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06520" y="6010200"/>
            <a:ext cx="8636040" cy="17640"/>
            <a:chOff x="506520" y="6010200"/>
            <a:chExt cx="8636040" cy="1764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360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1791B8-37FC-4330-92C2-DCFD30D52E28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4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08DF5A7-4118-41A8-A727-5CED9D319D2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506520" y="5840280"/>
            <a:ext cx="8636040" cy="15840"/>
            <a:chOff x="506520" y="5840280"/>
            <a:chExt cx="8636040" cy="15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3604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5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6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EDFCBB-0BC7-48DA-8017-E257E8BF18E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78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78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7"/>
          </p:nvPr>
        </p:nvSpPr>
        <p:spPr>
          <a:xfrm>
            <a:off x="6476760" y="76320"/>
            <a:ext cx="2506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1710EE-BE9A-4436-8BBA-91F44F8E45E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298440" y="450720"/>
            <a:ext cx="8691480" cy="1052640"/>
            <a:chOff x="298440" y="450720"/>
            <a:chExt cx="8691480" cy="1052640"/>
          </a:xfrm>
        </p:grpSpPr>
        <p:pic>
          <p:nvPicPr>
            <p:cNvPr id="799" name="" descr=""/>
            <p:cNvPicPr/>
            <p:nvPr/>
          </p:nvPicPr>
          <p:blipFill>
            <a:blip r:embed="rId2"/>
            <a:stretch/>
          </p:blipFill>
          <p:spPr>
            <a:xfrm>
              <a:off x="298440" y="450720"/>
              <a:ext cx="86914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98440" y="450720"/>
              <a:ext cx="86914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ормирование экологической культуры «Знаю-люблю-сохраняю!»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спитывать любовь и бережное отношение к природе, желание охранять е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ать представление детям о многообразии природных явлений и простейших связей между ним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крепление представлений о сезонных изменениях в природ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знакомить с растениями, животными, птицами, с характерными для нашего климата, во время посещения парка, на прогулках и занятиях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азвитие исследовательской деятельности, развивать умение наблюдать, анализировать, сравнивать, выделять характерные, существенные признаки предметов и явлений, обобщать их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ормировать образную речь, обогащать речь детей образными, меткими выражениями малых форм русского фольклора(пословицы, поговорки, загадки)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спитывать культуру поведения в общественных местах во время посещения парка ЛТА им.С.М.Киров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05" name=""/>
          <p:cNvGrpSpPr/>
          <p:nvPr/>
        </p:nvGrpSpPr>
        <p:grpSpPr>
          <a:xfrm>
            <a:off x="298440" y="450720"/>
            <a:ext cx="8691480" cy="1052640"/>
            <a:chOff x="298440" y="450720"/>
            <a:chExt cx="8691480" cy="1052640"/>
          </a:xfrm>
        </p:grpSpPr>
        <p:pic>
          <p:nvPicPr>
            <p:cNvPr id="806" name="" descr=""/>
            <p:cNvPicPr/>
            <p:nvPr/>
          </p:nvPicPr>
          <p:blipFill>
            <a:blip r:embed="rId3"/>
            <a:stretch/>
          </p:blipFill>
          <p:spPr>
            <a:xfrm>
              <a:off x="298440" y="450720"/>
              <a:ext cx="86914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98440" y="450720"/>
              <a:ext cx="86914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родные явления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нологические изменения в природ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стения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ивотны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тицы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3000">
    <p:wipe dir="r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3"/>
          <a:stretch/>
        </p:blipFill>
        <p:spPr>
          <a:xfrm>
            <a:off x="900000" y="1619280"/>
            <a:ext cx="2519640" cy="3240000"/>
          </a:xfrm>
          <a:prstGeom prst="rect">
            <a:avLst/>
          </a:prstGeom>
          <a:ln w="0">
            <a:noFill/>
          </a:ln>
        </p:spPr>
      </p:pic>
      <p:grpSp>
        <p:nvGrpSpPr>
          <p:cNvPr id="811" name=""/>
          <p:cNvGrpSpPr/>
          <p:nvPr/>
        </p:nvGrpSpPr>
        <p:grpSpPr>
          <a:xfrm>
            <a:off x="317520" y="334800"/>
            <a:ext cx="8294760" cy="1005120"/>
            <a:chOff x="317520" y="334800"/>
            <a:chExt cx="8294760" cy="1005120"/>
          </a:xfrm>
        </p:grpSpPr>
        <p:pic>
          <p:nvPicPr>
            <p:cNvPr id="812" name="" descr=""/>
            <p:cNvPicPr/>
            <p:nvPr/>
          </p:nvPicPr>
          <p:blipFill>
            <a:blip r:embed="rId4"/>
            <a:stretch/>
          </p:blipFill>
          <p:spPr>
            <a:xfrm>
              <a:off x="317520" y="334800"/>
              <a:ext cx="829476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317520" y="334800"/>
              <a:ext cx="829476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682560" y="1079640"/>
            <a:ext cx="345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5" name=""/>
          <p:cNvSpPr/>
          <p:nvPr/>
        </p:nvSpPr>
        <p:spPr>
          <a:xfrm>
            <a:off x="3600360" y="1619280"/>
            <a:ext cx="4680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арк играет огромную роль в культурно-историческом наследи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ы рассматриваем его в комплексе, как дом (сообщества), где живут птицы, животные и насекомые. Уголок живой природы, где человек должен и может почувствовать себя ее частью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3000">
    <p:wipe dir="r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17" name=""/>
          <p:cNvGrpSpPr/>
          <p:nvPr/>
        </p:nvGrpSpPr>
        <p:grpSpPr>
          <a:xfrm>
            <a:off x="-6480" y="291960"/>
            <a:ext cx="8148600" cy="992160"/>
            <a:chOff x="-6480" y="291960"/>
            <a:chExt cx="8148600" cy="992160"/>
          </a:xfrm>
        </p:grpSpPr>
        <p:pic>
          <p:nvPicPr>
            <p:cNvPr id="818" name="" descr=""/>
            <p:cNvPicPr/>
            <p:nvPr/>
          </p:nvPicPr>
          <p:blipFill>
            <a:blip r:embed="rId3"/>
            <a:stretch/>
          </p:blipFill>
          <p:spPr>
            <a:xfrm>
              <a:off x="-6480" y="291960"/>
              <a:ext cx="814860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-6480" y="291960"/>
              <a:ext cx="81486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5100480" y="1557360"/>
            <a:ext cx="4043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т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узыкальный руководител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4800" indent="-334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изкультурный руководител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1440000" y="234000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298440" y="450720"/>
            <a:ext cx="8691480" cy="1052640"/>
            <a:chOff x="298440" y="450720"/>
            <a:chExt cx="8691480" cy="1052640"/>
          </a:xfrm>
        </p:grpSpPr>
        <p:pic>
          <p:nvPicPr>
            <p:cNvPr id="824" name="" descr=""/>
            <p:cNvPicPr/>
            <p:nvPr/>
          </p:nvPicPr>
          <p:blipFill>
            <a:blip r:embed="rId3"/>
            <a:stretch/>
          </p:blipFill>
          <p:spPr>
            <a:xfrm>
              <a:off x="298440" y="450720"/>
              <a:ext cx="86914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298440" y="450720"/>
              <a:ext cx="86914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340000" y="1979640"/>
            <a:ext cx="4494240" cy="3771720"/>
            <a:chOff x="2340000" y="1979640"/>
            <a:chExt cx="4494240" cy="3771720"/>
          </a:xfrm>
        </p:grpSpPr>
        <p:pic>
          <p:nvPicPr>
            <p:cNvPr id="827" name="" descr=""/>
            <p:cNvPicPr/>
            <p:nvPr/>
          </p:nvPicPr>
          <p:blipFill>
            <a:blip r:embed="rId4"/>
            <a:stretch/>
          </p:blipFill>
          <p:spPr>
            <a:xfrm>
              <a:off x="2340000" y="1979640"/>
              <a:ext cx="449424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2340000" y="1979640"/>
              <a:ext cx="4494240" cy="37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advTm="3000">
    <p:wipe dir="r"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"/>
          <p:cNvGrpSpPr/>
          <p:nvPr/>
        </p:nvGrpSpPr>
        <p:grpSpPr>
          <a:xfrm>
            <a:off x="298440" y="450720"/>
            <a:ext cx="8691480" cy="1052640"/>
            <a:chOff x="298440" y="450720"/>
            <a:chExt cx="8691480" cy="1052640"/>
          </a:xfrm>
        </p:grpSpPr>
        <p:pic>
          <p:nvPicPr>
            <p:cNvPr id="830" name="" descr=""/>
            <p:cNvPicPr/>
            <p:nvPr/>
          </p:nvPicPr>
          <p:blipFill>
            <a:blip r:embed="rId2"/>
            <a:stretch/>
          </p:blipFill>
          <p:spPr>
            <a:xfrm>
              <a:off x="298440" y="450720"/>
              <a:ext cx="86914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298440" y="450720"/>
              <a:ext cx="86914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8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39640" y="1557360"/>
            <a:ext cx="813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ограмма воспитания в детском саду М.А.Васильева, В.В.Гербова, Т.С.Комаров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ограмма  коррекционно-развивающей работы в логопедической группе детского сада с ОНР. Н.В.Нищев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учите меня говорить. О.И.Крупенчук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общение детей к истокам русской  народной культуры. О.А.Князева, М.Д.Маханев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усские народные загадки, пословицы, поговорки. Составитель Ю.Г.Кругл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Деревья, кустарники средней полосы Европейской части России. Е.Т.Валягина-Малютин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казки из даров природы. Н.Докучае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Экологические  стихи и сказки. Составитель  Кузнецова 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▪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иничкин календарь. В.Бианк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3000">
    <p:wipe dir="r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3:42:13Z</dcterms:created>
  <dc:creator>ЕКАТЕРИНА</dc:creator>
  <dc:description/>
  <dc:language>en-US</dc:language>
  <cp:lastModifiedBy>Андрей</cp:lastModifiedBy>
  <dcterms:modified xsi:type="dcterms:W3CDTF">2012-03-01T15:35:45Z</dcterms:modified>
  <cp:revision>52</cp:revision>
  <dc:subject/>
  <dc:title>Слайд 1</dc:title>
</cp:coreProperties>
</file>