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0.gif" ContentType="image/gif"/>
  <Override PartName="/ppt/media/image9.wmf" ContentType="image/x-wmf"/>
  <Override PartName="/ppt/media/image14.png" ContentType="image/png"/>
  <Override PartName="/ppt/media/image12.wmf" ContentType="image/x-wmf"/>
  <Override PartName="/ppt/media/image20.gif" ContentType="image/gif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13.gif" ContentType="image/gif"/>
  <Override PartName="/ppt/media/image8.png" ContentType="image/png"/>
  <Override PartName="/ppt/media/image16.wmf" ContentType="image/x-wmf"/>
  <Override PartName="/ppt/media/image5.png" ContentType="image/png"/>
  <Override PartName="/ppt/media/image7.png" ContentType="image/png"/>
  <Override PartName="/ppt/media/image15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5711-8E5B-4614-9284-38535097C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000A-BCF1-4814-86BE-49A3E4D2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E2FB-0A5F-4325-9A34-CB3B69BC9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E7F3-4663-4317-92AA-83176D0A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E607-6C9D-41DD-9B72-A1AAAC66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ED7F-EE42-4D55-8269-6F3188DA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A462-8BEC-4F62-94CC-236C9764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5D27-01CD-41E1-AA05-CED1870B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BDB3-7D7F-41B8-8CCE-B96F56BC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5FFC-CFC7-4DD9-98C0-34BE6B19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3EE9-F231-402F-BAD1-802AF86A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BCA6-067A-4414-876A-4FB8C77B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EE32-EBAF-4462-8847-B7CC6832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6A16-8D3D-42D0-B978-3FC9C37E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77FA-82F8-4D6C-AD68-A1BB7FA1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C643-BA57-4DF1-B5F4-A6A113CE6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6E95-FE06-4CD2-82E8-63AC5E518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35554-AADE-4DB3-AFCF-03CCBD9D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95A40-75E5-430F-BA84-D310C033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1A903-ACD6-4105-9515-55CA6B75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A5372-132A-4716-93A4-2588EB6C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7442B-E260-4DAF-9921-01D96423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0E0D-D53C-4AD4-918C-74F18D41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98566-7260-497D-97DC-B0EB9193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8C240-1D74-4C95-B3EF-B31D49C6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DD792-B302-42F9-B03A-E414BBFB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E30D1-EDFA-4915-80D6-EF18D8CD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9A822-E464-4A12-99F4-FC127554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BFFB8-0110-4738-B79E-6239F3A2B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0D32C-D073-4371-ABBE-2A0D7C6F6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C7579-A8FD-40C7-A00A-C19192DF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53FFD-21BE-41E1-8C6F-116BDAF6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E6001-D944-48B4-9E2C-BFA6893E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CB13-0FCC-4934-9477-0693B03C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8F205-CCFD-4089-9EDC-007FBC11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18923-D7E3-40BD-97B9-09892C9E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0C2D6-5E40-4F93-8440-23048B92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C6960-A297-477F-897A-B79B786D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9704C-A508-4308-B2F2-68FD1CA6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11661-E98D-4A6D-81DB-8420F4D3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C77F5-BD54-4415-96FC-9251DABC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C9696-10A4-4F58-9EFA-486758D93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4A7AB-4D30-45C7-9D6C-2001388E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A177C-B0D9-42E6-8A2A-8601E214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83A1-F5D4-4E2F-80E9-7A16FBD9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6B710-4BEA-4B38-9572-778BFB24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766E6-389E-4BCD-80B6-8451ED72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7F08B-3755-4D01-9E21-57B2BC2B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81B3F-CE9E-4188-B830-C206D749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D0865-CD3D-47FC-A09A-D8EB6468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46416-75F0-48D8-AF30-7CAC8037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9DE2A-BF09-4CC2-9CB4-E396BABB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62465-D201-474D-8384-9325201A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F1D1C-5A9E-4A82-A362-088B9005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C7F49-43CE-4CEA-9EA6-BAD8F13C0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970C-6244-4149-B67F-1A49A81D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3292D-C138-477A-9C41-B35081FB2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A3CCA-591B-4AF6-8D54-F2EB6641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77B10-F433-41AD-8F5E-A5ADB328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DAC85-FCD6-44D5-962B-E5B84DA0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E9CC2-ACC8-4517-ABA0-14A5231B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E265E-66BF-4BA5-B875-B438C560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B71CD-F471-4B81-B886-94FDBEBB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E6CFD-0C19-455C-9A6D-3624E61D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6268A-D3D0-4E88-8822-69C3077A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F726D-2A90-4DC5-A35C-97EE25B8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37E6-2600-4F74-854F-0580790A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872BA-1DBE-4E99-9C89-E8CB9B25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B49F1-CE18-413D-B182-40549E52E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924EB-1722-47FF-A6C5-0CFD77BCC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C4AEE-43D8-41E8-83E9-533A35AA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FC2C4-EC46-43FD-BF5D-D70E1AB3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E40A9-0A89-44BA-ABF8-14BFF0A6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52C1A-53E7-439A-9B0A-7DB36F6D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D1F10-33C7-4EAB-AC6E-16CC5F6C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994D9-7552-46AB-8015-5064E84A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E7EFF-86BA-405D-83EC-4A39AEBB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1E9A-1BA4-4080-9570-6D008253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91A06-0540-4E3E-A0C7-ACCA4141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9FB07-8DBD-468C-80D9-A232ABB8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F18C1-E03A-44DB-B18A-80F963E6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16955-3F2E-455C-A9E8-EFBE601B4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ECD2D-1CE3-4378-8C78-B247A951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5D90-9F23-4356-854D-2372C538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FACA-5C61-44C7-8DA6-EF5B6486175A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9159-4EA1-4303-A11A-EC26D25ACFA0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345E-2A24-477F-A179-8A1D57EFF922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4853-9741-4B63-9B5F-3EF1E60A11E3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5D00-1BB8-4BB7-9B21-8283FE055C3E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992B-3C08-4972-B9BE-019168AACD5E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6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B3DE-83C2-4BA1-B962-F9DCD8833DD1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15" descr=""/>
          <p:cNvPicPr/>
          <p:nvPr/>
        </p:nvPicPr>
        <p:blipFill>
          <a:blip r:embed="rId1"/>
          <a:stretch/>
        </p:blipFill>
        <p:spPr>
          <a:xfrm>
            <a:off x="590400" y="530280"/>
            <a:ext cx="7682040" cy="42796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2133720" y="54864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04920" y="152280"/>
            <a:ext cx="76197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тренняя гимнастика является важнейшей составляющей в развитии двигательной деятельности и в формировании основ здорового образа жизни у детей дошкольного возраста. Почему часто вместо фразы “утренняя гимнастика” мы употребляем слово “зарядка”? Зарядка положительной энергией и бодростью на весь предстоящий день. Наша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разбудить детский организм от сна, повысить умственную и физическую работоспособность, улучшить настроение и подготовить организм к нагрузкам предстоящего дн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1" name="Picture 19" descr="j0232607"/>
          <p:cNvPicPr/>
          <p:nvPr/>
        </p:nvPicPr>
        <p:blipFill>
          <a:blip r:embed="rId1"/>
          <a:stretch/>
        </p:blipFill>
        <p:spPr>
          <a:xfrm>
            <a:off x="3429000" y="4495680"/>
            <a:ext cx="1487520" cy="1857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7255080" cy="1182600"/>
          </a:xfrm>
          <a:prstGeom prst="rect">
            <a:avLst/>
          </a:prstGeom>
          <a:ln w="0">
            <a:noFill/>
          </a:ln>
        </p:spPr>
      </p:pic>
      <p:pic>
        <p:nvPicPr>
          <p:cNvPr id="313" name="Содержимое 3" descr=""/>
          <p:cNvPicPr/>
          <p:nvPr/>
        </p:nvPicPr>
        <p:blipFill>
          <a:blip r:embed="rId2"/>
          <a:stretch/>
        </p:blipFill>
        <p:spPr>
          <a:xfrm>
            <a:off x="1755720" y="712800"/>
            <a:ext cx="6327720" cy="57182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1" descr="j0232431"/>
          <p:cNvPicPr/>
          <p:nvPr/>
        </p:nvPicPr>
        <p:blipFill>
          <a:blip r:embed="rId3"/>
          <a:stretch/>
        </p:blipFill>
        <p:spPr>
          <a:xfrm>
            <a:off x="152280" y="4876920"/>
            <a:ext cx="1967040" cy="1511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"/>
          <p:cNvSpPr/>
          <p:nvPr/>
        </p:nvSpPr>
        <p:spPr>
          <a:xfrm>
            <a:off x="1676520" y="1522080"/>
            <a:ext cx="5867280" cy="183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3" descr="j0283653"/>
          <p:cNvPicPr/>
          <p:nvPr/>
        </p:nvPicPr>
        <p:blipFill>
          <a:blip r:embed="rId1"/>
          <a:stretch/>
        </p:blipFill>
        <p:spPr>
          <a:xfrm>
            <a:off x="6019920" y="4267080"/>
            <a:ext cx="2666880" cy="2394000"/>
          </a:xfrm>
          <a:prstGeom prst="rect">
            <a:avLst/>
          </a:prstGeom>
          <a:ln w="0">
            <a:noFill/>
          </a:ln>
        </p:spPr>
      </p:pic>
      <p:sp>
        <p:nvSpPr>
          <p:cNvPr id="317" name="Прямоугольник 3"/>
          <p:cNvSpPr/>
          <p:nvPr/>
        </p:nvSpPr>
        <p:spPr>
          <a:xfrm>
            <a:off x="609480" y="0"/>
            <a:ext cx="7239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ительность утренней гимнастики во второй младшей группе  - 5-6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плексы составляются из 4 – 5  упражнений общеразвивающего харак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пражнения, включаемые, в утреннюю гимнастику для ребенка могут быть разными, но главное, чтобы они развивали организм и выполнялись в определенной последова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треннюю гимнастику подразделяют на три част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ввод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основную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заключитель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2000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2000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" dur="2000"/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2"/>
          <p:cNvSpPr/>
          <p:nvPr/>
        </p:nvSpPr>
        <p:spPr>
          <a:xfrm>
            <a:off x="685800" y="304920"/>
            <a:ext cx="7772400" cy="62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 вводной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асти дается ходьба, затем бег. Продолжительность бега увеличивается до 10 секунд, с постепенным замедл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роение в круг или в свободном постро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ая часть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одится в следующей последова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 для мышц плечевого пояса и ру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 для туловищ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) для плечевого поя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) для ног — прыж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торение  упражнений 5-6 р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5" descr=""/>
          <p:cNvPicPr/>
          <p:nvPr/>
        </p:nvPicPr>
        <p:blipFill>
          <a:blip r:embed="rId1"/>
          <a:stretch/>
        </p:blipFill>
        <p:spPr>
          <a:xfrm>
            <a:off x="6629400" y="4038480"/>
            <a:ext cx="2228760" cy="2229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320" name="Picture 21" descr="j0232899"/>
          <p:cNvPicPr/>
          <p:nvPr/>
        </p:nvPicPr>
        <p:blipFill>
          <a:blip r:embed="rId2"/>
          <a:stretch/>
        </p:blipFill>
        <p:spPr>
          <a:xfrm>
            <a:off x="0" y="3048120"/>
            <a:ext cx="1981080" cy="1849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57200" y="380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заключительной части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имнастики проводится ходьба или малоподвижная игра, хорошо знакомая детям, с очень простыми правилами и содержанием, чтобы восстановить пульс и дыхани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едить за дыханием ребенка  необходимо на протяжении всей  утренней гимнастик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дох должен быть глубоким через нос, а выдох – медленным и продолжительным через рот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2" name="Picture 4" descr="AG00317_"/>
          <p:cNvPicPr/>
          <p:nvPr/>
        </p:nvPicPr>
        <p:blipFill>
          <a:blip r:embed="rId1"/>
          <a:stretch/>
        </p:blipFill>
        <p:spPr>
          <a:xfrm>
            <a:off x="5715000" y="3581280"/>
            <a:ext cx="1600200" cy="32767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1" descr="j0232431"/>
          <p:cNvPicPr/>
          <p:nvPr/>
        </p:nvPicPr>
        <p:blipFill>
          <a:blip r:embed="rId2"/>
          <a:stretch/>
        </p:blipFill>
        <p:spPr>
          <a:xfrm>
            <a:off x="533520" y="4419720"/>
            <a:ext cx="1966680" cy="1511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7" descr=""/>
          <p:cNvPicPr/>
          <p:nvPr/>
        </p:nvPicPr>
        <p:blipFill>
          <a:blip r:embed="rId1"/>
          <a:stretch/>
        </p:blipFill>
        <p:spPr>
          <a:xfrm>
            <a:off x="450720" y="176040"/>
            <a:ext cx="8242560" cy="12510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j0232732"/>
          <p:cNvPicPr/>
          <p:nvPr/>
        </p:nvPicPr>
        <p:blipFill>
          <a:blip r:embed="rId2"/>
          <a:stretch/>
        </p:blipFill>
        <p:spPr>
          <a:xfrm>
            <a:off x="685800" y="2133720"/>
            <a:ext cx="2557440" cy="338904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19076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ободный вдох, на выдохе произносят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з-з-з», представьте что пчелка села на руку, ногу, нос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7" name="Picture 9" descr="FIREFLY"/>
          <p:cNvPicPr/>
          <p:nvPr/>
        </p:nvPicPr>
        <p:blipFill>
          <a:blip r:embed="rId3"/>
          <a:stretch/>
        </p:blipFill>
        <p:spPr>
          <a:xfrm flipH="1" rot="21432000">
            <a:off x="2161440" y="1631520"/>
            <a:ext cx="1335240" cy="1171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0520" y="380880"/>
            <a:ext cx="762012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тренняя гимнастика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ройдет эффективнее и увлекательней в сопровождении музыки. Музыка, сопровождая утреннюю гимнастику и физкультурные занятия, активизирует детей, значительно повышает качество выполняемых ими упражнений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 младшим дошкольникам трудно выполнять упражнения в едином темпе. Поэтому проведение утренней гимнастики под музыку возможно в том случае, если все движения хорошо усвоены                     детьми. Музыка создает хорошее настроение и вызывает положительные эмоции, снижает напряжени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9" name="Picture 10" descr="j0232449"/>
          <p:cNvPicPr/>
          <p:nvPr/>
        </p:nvPicPr>
        <p:blipFill>
          <a:blip r:embed="rId1"/>
          <a:stretch/>
        </p:blipFill>
        <p:spPr>
          <a:xfrm>
            <a:off x="0" y="4419720"/>
            <a:ext cx="1924200" cy="24382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2" descr="j0232736"/>
          <p:cNvPicPr/>
          <p:nvPr/>
        </p:nvPicPr>
        <p:blipFill>
          <a:blip r:embed="rId2"/>
          <a:stretch/>
        </p:blipFill>
        <p:spPr>
          <a:xfrm>
            <a:off x="7162920" y="4419720"/>
            <a:ext cx="1385640" cy="2438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Rectangle 4" descr=""/>
          <p:cNvPicPr/>
          <p:nvPr/>
        </p:nvPicPr>
        <p:blipFill>
          <a:blip r:embed="rId1"/>
          <a:stretch/>
        </p:blipFill>
        <p:spPr>
          <a:xfrm>
            <a:off x="450720" y="835200"/>
            <a:ext cx="8242560" cy="19144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AG00315_"/>
          <p:cNvPicPr/>
          <p:nvPr/>
        </p:nvPicPr>
        <p:blipFill>
          <a:blip r:embed="rId2"/>
          <a:stretch/>
        </p:blipFill>
        <p:spPr>
          <a:xfrm>
            <a:off x="3429000" y="4038480"/>
            <a:ext cx="1897200" cy="214164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9"/>
          <p:cNvSpPr/>
          <p:nvPr/>
        </p:nvSpPr>
        <p:spPr>
          <a:xfrm>
            <a:off x="380880" y="2133720"/>
            <a:ext cx="8229600" cy="27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13f9a"/>
                </a:solidFill>
                <a:latin typeface="Arial"/>
              </a:rPr>
              <a:t>Будьте здоровы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иля</cp:lastModifiedBy>
  <dcterms:modified xsi:type="dcterms:W3CDTF">2013-10-10T17:22:09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