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B8D-639C-486C-8ABB-46F63EB8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5BD-BE41-4B9F-B241-78AB1AF1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336-BEA3-4704-9FE1-E2141C96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619-DA20-4908-A49F-40226FA1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A02F-AA20-40AC-992E-90F061A7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DF4-AFA0-4672-BD40-80BE39F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B920-6B3F-4087-A3B6-F874E633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6A9B-0A9F-4807-9904-D4D078B2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D363-9069-42D3-9F5A-E1F75CF0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4E36-A098-4884-B2C5-FBAFC89B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0DEE-DBC7-481E-B930-61A4073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A9D-BFF7-4859-A679-63B74F6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724E-4225-4D12-92BB-5760035C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B9BE-EAFB-43E4-A0D4-52BE966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C4D6-41EF-4B58-9A0E-4F083F71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4983-C32F-480F-8A4B-D844D41D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F89-1F03-4C02-8C6D-0DD81E5F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F5B-9423-4031-A4E5-F3CBE127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53C-5199-40E7-AF9F-3CECA7B2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353-1190-4BA3-99FE-C6842734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9F7-7B29-4119-971D-CD702DD3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914-7524-401E-B2CB-28FC643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A9B-19F6-4D20-9957-37EF0492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750-EAE0-49CF-A39C-E9E524B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49A7-B95E-4ABD-841C-EDE0105E7E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9769-8B2B-4C5E-8BCB-3375C7128EC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Мини - музе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одной ДЗЕРЖИНС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7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Цель: закрепить знания детей о том, что такое музей, какие бывают музеи; о родном городе: название, достопримечательно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бразовательные: познакомить с историей возникновения города, его названия; постройками; с людьми , прославившими Дзержинск. Объяснить символику герб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азвивающие: развивать воображение, умение объяснять свою точку зрения и доказывать е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оспитательные: воспитывать чувство любви и привязанности к Дзержинску, гордость за историческое прошло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Для успешного всестороннего развития детей при ознакомлении с музеем необходимо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рганизация соответствующей предметно0- пространственной ср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пециальный подбор пособий и материа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ндивидуально-дифференцирпрованная работа воспитател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бота  проводится поэтапно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дготовка детей к посещению музе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Экскурс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нятие по закреплению музейных впечатлен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вободный доступ к экспонатам музе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азделы , представленные в музе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«родной ДЗЕРЖИНСК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ерб и название город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акет «Северные ворот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1969920" cy="1962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321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. Предприятия города и их продукц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. люди, прославившие горо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313080" cy="2076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3114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. ратные подвиги земляков в ВОВ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. фотографии города и управления городо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. стихи о Дзержинск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116000" y="2238480"/>
            <a:ext cx="2879640" cy="2342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609560" y="4371840"/>
            <a:ext cx="274644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8. Рисунки де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«мы рисуем Дзержинск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17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5:14Z</dcterms:created>
  <dc:creator>HOME</dc:creator>
  <dc:description/>
  <dc:language>en-US</dc:language>
  <cp:lastModifiedBy>HOME</cp:lastModifiedBy>
  <dcterms:modified xsi:type="dcterms:W3CDTF">2010-04-13T18:11:41Z</dcterms:modified>
  <cp:revision>3</cp:revision>
  <dc:subject/>
  <dc:title>проект</dc:title>
</cp:coreProperties>
</file>