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DC5-9B2A-4897-8AE6-C2454A75C7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D87-7AE5-44DA-87BD-90EFCA204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9E4-1A10-4D62-AC84-5B4F8C86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D9F-7829-4076-9FEF-6327EACF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CB5-52BA-49C7-9BAA-DE1D0297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E09-BE73-473F-89C7-34C041E2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D8D1-7DA1-48F1-96B4-3A84C441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1DE1-F495-4B98-B0B2-80AF1F0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61A3-C0E7-482F-A017-3E9F012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605-F487-4102-A164-5D9A479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B7F6-16ED-474E-9104-AD58FDB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BD6-43F5-4CD9-B872-CE539DC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6CDC-E084-4298-B2BA-63B1F36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141-86D4-476D-9A2E-BBEA8812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4BE7-B21F-4868-820C-922FB84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979-D5B6-4DC4-8BE1-7759D63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33D-7663-4822-B377-B7EA1877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193-57BC-4B87-BFFD-1463D45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EE5-60D6-48F0-AFB6-9B25D466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3CBC-481F-40D7-B670-14B4DDA1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F1D7-F381-4B94-A89A-8FEA824E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B229-979E-4537-9308-6EA755E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BD44-B03A-44A1-9650-FEA530F6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993A-91A7-485D-AC27-F58D8B0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F42-F257-469C-B24A-F778717F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4B54-3A2B-43D3-909F-9E5ED0FA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881E-846B-40BC-B7FE-3086AC8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8B25-B424-43ED-8A9E-E5EB377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E409-3683-42C9-B32E-5F60343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183A-FB62-4E8F-B4EB-7E00FFE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0C3D-5BDC-437C-9598-BCFBE758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9781-1674-4EFC-80DA-8432D755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6E8-5397-491F-A81B-3DAB0B3A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CE5-96EB-4820-B1BC-CCD13B1C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149-6A20-4A8B-9897-316E75C3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69C-04B2-405A-B6FE-F4DC546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F40-AE40-4E96-B872-714A516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6E3-D5F0-4847-BC8C-AF539BA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E8B-68AC-4176-9F9B-BB57AC16AB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410-A98A-4076-B14B-14D8744DBC1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BF5-1962-41A7-BC07-917B7FBA0ED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02920" y="4005360"/>
            <a:ext cx="69454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моленск  201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27280" y="206064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68360" y="1628640"/>
            <a:ext cx="53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Ожидаемые результат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комство детей с полезными и опасными сторонами огн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ладение детьми знаниями, умениями и навыками по пожарной безопас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нность у детей заботливого отношения к себе, к людям, к мир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ированность родителей о противопожарной безопас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родительской активности в воспитательном процессе ДО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1844640"/>
            <a:ext cx="8300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изучение наиболее вероятных причин возникновения пожа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е изучение правил безопасного поведения во время пожа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овых знаний и навыков в области пожарной безопасности на базе имеющихся (принцип креативности)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заботы о здоровье и его безопасности (принцип гуманизации)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92280"/>
            <a:ext cx="914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  <a:ea typeface="Arial"/>
              </a:rPr>
              <a:t>Принципы реализации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6686d"/>
                </a:solidFill>
                <a:latin typeface="Calibri"/>
              </a:rPr>
              <a:t>Подготовительный этап. Мероприятия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ие участников проекта в том, что с помощью противопожарной пропаганды число пожаров и жертв можно уменьши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методической, научно-популярной и художественной литературы, иллюстрированного материала, игрушек, атрибутов для игровой и театрализованной деятельности по противопожарной темати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дидактических игр, пособий, атрибутов по пожарной безопас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проса детей, родител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ализация проекта</a:t>
            </a:r>
            <a:br>
              <a:rPr sz="4800"/>
            </a:br>
            <a:r>
              <a:rPr b="1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сновной этап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2060640"/>
            <a:ext cx="82915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образовательная деятельность познавательного цикл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С.Я. Маршака «Пожар», «Рассказ о неизвестном герое», «Кошкин дом»,  Л. Н. Толстой «Пожарные собаки»,  Б. Жидков «Пожар в море», «Дым», «Пожар», К. И. Чуковский «Путаница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ы, опыты с огнем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, с/р игра «Пожарные», сл. игра «Закончи фраз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атрализованная деятельность, инсценировка сказки «Кошкин дом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Рисунок 3" descr="http://www.maaam.ru/upload/blogs/48c34a21fe713511392cf1340d73e380.jpg.jpg"/>
          <p:cNvPicPr/>
          <p:nvPr/>
        </p:nvPicPr>
        <p:blipFill>
          <a:blip r:embed="rId1"/>
          <a:stretch/>
        </p:blipFill>
        <p:spPr>
          <a:xfrm>
            <a:off x="1897200" y="2276640"/>
            <a:ext cx="5286240" cy="37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(«Помоги пожарному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Рисунок 3" descr="http://www.maaam.ru/upload/blogs/a65609274f80e3941268aaca35ddfa18.jpg.jpg"/>
          <p:cNvPicPr/>
          <p:nvPr/>
        </p:nvPicPr>
        <p:blipFill>
          <a:blip r:embed="rId1"/>
          <a:stretch/>
        </p:blipFill>
        <p:spPr>
          <a:xfrm>
            <a:off x="468360" y="1947960"/>
            <a:ext cx="3743280" cy="2560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http://www.maaam.ru/upload/blogs/60ca967d7e8f48f0ef253016c80a6deb.jpg.jpg"/>
          <p:cNvPicPr/>
          <p:nvPr/>
        </p:nvPicPr>
        <p:blipFill>
          <a:blip r:embed="rId2"/>
          <a:stretch/>
        </p:blipFill>
        <p:spPr>
          <a:xfrm>
            <a:off x="4572000" y="3228840"/>
            <a:ext cx="3944880" cy="299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по сад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Рисунок 3" descr="http://www.maaam.ru/upload/blogs/ea04f78ce893ceded2fdeba2c777c6d4.jpg.jpg"/>
          <p:cNvPicPr/>
          <p:nvPr/>
        </p:nvPicPr>
        <p:blipFill>
          <a:blip r:embed="rId1"/>
          <a:stretch/>
        </p:blipFill>
        <p:spPr>
          <a:xfrm>
            <a:off x="2050920" y="2421000"/>
            <a:ext cx="5097600" cy="375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работой пожарны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по эваку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6" name="Рисунок 3" descr="http://www.maaam.ru/upload/blogs/84d0f32cf694762ebf07dd451589e64d.jpg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Н «Юные пожарны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021040" y="1682640"/>
            <a:ext cx="5101920" cy="349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7724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Arial"/>
              </a:rPr>
              <a:t>Визитная карточка проекта</a:t>
            </a:r>
            <a:r>
              <a:rPr b="0" lang="ru-RU" sz="54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83763"/>
                </a:solidFill>
                <a:latin typeface="Constantia"/>
              </a:rPr>
              <a:t>БЕРЕГИСЬ БЕД, ПОКА ИХ НЕТ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Реализация проекта с родителям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060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уберечь ребенка от беды? »; «Безопасность дом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- ПЕРЕДВИЖКИ    «Как спасти себя при пожаре? 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СОБРАНИЕ    «Опасности дом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  «Не играй с огнем» (плакат рисунков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нь-друг, огонь – враг» (досуг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  «Убережем детей от беды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Результаты проекта. Заключительный этап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060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формированы у дет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полезных и опасных сторонах огня, о мерах предосторожности, о способах безопасного повед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научиться находить правильные решения в опасных ситуация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о необходимости заботливого отношения к себе, к людям, к мир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родител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е отношение к знакомству детей с противопожарной безопасность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Продукты проект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 альбом детских рисунков по пожарной безопас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а подборка наглядного материала, художественной литературы для дет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презентации для детей: «Убережем детей от беды», «Пожарные», «Пожар в лесу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а подборка наглядной агитации для родител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Проблем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горел дом на соседней улиц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се чаще происходят пожары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  <a:ea typeface="Arial"/>
              </a:rPr>
              <a:t>Актуальность проблем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последние годы значительно увеличилось количество пожаров, которые произошли по вине человека, часто из-за шалости детей с огнем (на тысячу пожаров сто вспыхивает по вине детей)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постоянно открывать что-то новое, детская непосредственность, их любопытство ставит ребенка перед реальной опасностью пожар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пассивно-оборонительная реакция: от страха ребенок прячется в укромные места, вместо того, чтобы покинуть горящий дом или позвать на помощ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сти детей к пониманию того, что в случае неосторожного обращения с огнём или электроприборами может произойти пожа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e6d"/>
                </a:solidFill>
                <a:latin typeface="Calibri"/>
              </a:rPr>
              <a:t>Задачи проект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Для дете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ть знания о полезных и опасных сторонах огня, огнеопасных предметах, причинах возникновения пожар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ть  умения  осознанного выполнения правил противопожарной безопас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у детей чувство осторожности и самосохран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педагог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рофессиональную компетентность через поисково - аналитическую деятельность по теме проект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о противопожарной безопасност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ь родителей в образовательный процесс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05228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Тип проекта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краткосрочный, ознакомительно-ориентирова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рок реализации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1 меся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озраст детей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5 - 6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Участники проекта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дети, воспитатели, родител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1:44:20Z</dcterms:created>
  <dc:creator>Пирожниковы</dc:creator>
  <dc:description/>
  <dc:language>en-US</dc:language>
  <cp:lastModifiedBy>Владелец</cp:lastModifiedBy>
  <dcterms:modified xsi:type="dcterms:W3CDTF">2012-11-22T15:12:12Z</dcterms:modified>
  <cp:revision>90</cp:revision>
  <dc:subject/>
  <dc:title>Творческий отчет на тему  «Использование метода наглядного моделирования в преодолении нарушений связной речи у дошкольников с общим недоразвитием речи»</dc:title>
</cp:coreProperties>
</file>