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media/chimes.wav" ContentType="audio/x-wav"/>
  <Override PartName="/ppt/media/suction.wav" ContentType="audio/x-wav"/>
  <Override PartName="/ppt/media/content.wav" ContentType="audio/x-wav"/>
  <Override PartName="/ppt/media/coin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A419-B6D5-4169-8F5B-829918A9C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9EC6-FF54-4461-BC10-BE831CFEA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4B06-DCDC-41A0-9464-21D99AF2B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90AC-D2E6-474E-BBDD-C0FC0F5F2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A75E3-7183-4E15-AFA4-B3682A9B8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65236-AD1B-4067-B798-79A32FAEF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562E5-398A-43B7-B6A5-1AA173E50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82F9A-0168-4959-B2BF-8E90081BE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E7EF9-D186-414B-9435-7108D47AA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48A3F-565A-4B5A-BAE3-FD54202B0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F8B1F-C1E6-43AA-82A9-37056B85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24AF-54B7-406B-A573-24958D2E3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CF109-2AFD-4CEE-A108-96B8B8EF1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A7794-C8C0-4C3E-A96F-370630887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D975C-546E-40C8-9A9C-CCE7C3F5D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034C6-F1FF-47A3-A4EE-2A9F835C8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B5BEC-1169-4C52-ABAE-3AC691EED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02D00-0F01-4426-B9EC-F7DA07124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D5DAD-127A-42D6-BB52-44EC67352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0F720-F7CD-47E5-B0E5-0BF02A7C9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D6373-EBAD-48FE-8FCD-1D5E8A89D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DD90F-C019-40C0-ABFA-C920635AB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687F-5F87-45D9-B7F0-395B86FFA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BAD16-8062-4FAE-8494-6C845061B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CF3C7-4ADA-4FFA-9760-2CCDA13E1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89543-ACDE-41F1-A1EE-D8989033B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C0E81-C537-44EC-B035-EE9D9EFE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4BB9A-31EF-45A2-91C0-ED02808E6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A7F08-E00B-403C-99DA-64B076EFF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EC169-C17A-4954-A7EB-2DED69C75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5251-1DFD-4407-8FCD-E9762105F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A0AE-E0E4-42A5-B6CB-71D104D28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0998-4AA0-4A4A-8246-B45952491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A670-B5E8-4AFF-9E37-F3BF17C9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3801-170F-435A-BD20-AA3F8AB1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E1AF-71D7-4F1F-8943-2EC9E150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F0B34-A9A1-4D5B-9C72-EFDB32B5E89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5b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0000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cc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6600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8C325-5734-4E95-AF2E-98F2AD956F1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47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5b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3f5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3f5b1"/>
          </a:solidFill>
          <a:ln w="507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0000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cc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6600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BF70E-2E56-422E-A6B6-8218B6405C5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ontent.wav"/><Relationship Id="rId2" Type="http://schemas.openxmlformats.org/officeDocument/2006/relationships/audio" Target="../media/coin.wav"/><Relationship Id="rId3" Type="http://schemas.openxmlformats.org/officeDocument/2006/relationships/audio" Target="../media/coin.wav"/><Relationship Id="rId4" Type="http://schemas.openxmlformats.org/officeDocument/2006/relationships/audio" Target="../media/coin.wav"/><Relationship Id="rId5" Type="http://schemas.openxmlformats.org/officeDocument/2006/relationships/audio" Target="../media/coin.wav"/><Relationship Id="rId6" Type="http://schemas.openxmlformats.org/officeDocument/2006/relationships/audio" Target="../media/coin.wav"/><Relationship Id="rId7" Type="http://schemas.openxmlformats.org/officeDocument/2006/relationships/audio" Target="../media/coin.wav"/><Relationship Id="rId8" Type="http://schemas.openxmlformats.org/officeDocument/2006/relationships/audio" Target="../media/coin.wav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7.xml"/><Relationship Id="rId5" Type="http://schemas.openxmlformats.org/officeDocument/2006/relationships/slide" Target="slide6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audio" Target="../media/coin.wav"/><Relationship Id="rId4" Type="http://schemas.openxmlformats.org/officeDocument/2006/relationships/audio" Target="../media/coin.wav"/><Relationship Id="rId5" Type="http://schemas.openxmlformats.org/officeDocument/2006/relationships/audio" Target="../media/coin.wav"/><Relationship Id="rId6" Type="http://schemas.openxmlformats.org/officeDocument/2006/relationships/audio" Target="../media/coin.wav"/><Relationship Id="rId7" Type="http://schemas.openxmlformats.org/officeDocument/2006/relationships/audio" Target="../media/coin.wav"/><Relationship Id="rId8" Type="http://schemas.openxmlformats.org/officeDocument/2006/relationships/audio" Target="../media/suction.wav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560" y="856800"/>
            <a:ext cx="8458200" cy="22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Определение производной от функции</a:t>
            </a:r>
            <a:br>
              <a:rPr sz="2800"/>
            </a:br>
            <a:r>
              <a:rPr b="0" lang="ru-RU" sz="1600" spc="-1" strike="noStrike">
                <a:solidFill>
                  <a:srgbClr val="2d2d87"/>
                </a:solidFill>
                <a:latin typeface="Comic Sans MS"/>
              </a:rPr>
              <a:t>(К учебнику Колмогорова А.Н. «Алгебра и начала анализа 10-11»)</a:t>
            </a:r>
            <a:br>
              <a:rPr sz="1600"/>
            </a:br>
            <a:endParaRPr b="0" lang="en-US" sz="1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полнил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ель математики МОУ «Андреевской СОШ»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ойлова Любовь  Иван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09 го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143000" y="236232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d2d87"/>
                </a:solidFill>
                <a:latin typeface="Arial"/>
              </a:rPr>
              <a:t>Цель презентации – обеспечить максимальную наглядность изучения те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4"/>
          <p:cNvSpPr/>
          <p:nvPr/>
        </p:nvSpPr>
        <p:spPr>
          <a:xfrm>
            <a:off x="0" y="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Пример вычисления производ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6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0" name="Object 5"/>
              <p:cNvSpPr txBox="1"/>
              <p:nvPr/>
            </p:nvSpPr>
            <p:spPr>
              <a:xfrm>
                <a:off x="291960" y="457200"/>
                <a:ext cx="614844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Дано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Найдем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в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точке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х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то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есть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81" name="Text Box 7"/>
          <p:cNvSpPr/>
          <p:nvPr/>
        </p:nvSpPr>
        <p:spPr>
          <a:xfrm>
            <a:off x="4267080" y="1219320"/>
            <a:ext cx="16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Monotype Corsiva"/>
              </a:rPr>
              <a:t>Реш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9"/>
          <p:cNvSpPr/>
          <p:nvPr/>
        </p:nvSpPr>
        <p:spPr>
          <a:xfrm>
            <a:off x="0" y="241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11"/>
          <p:cNvSpPr/>
          <p:nvPr/>
        </p:nvSpPr>
        <p:spPr>
          <a:xfrm>
            <a:off x="0" y="241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4" name="Object 10"/>
              <p:cNvSpPr txBox="1"/>
              <p:nvPr/>
            </p:nvSpPr>
            <p:spPr>
              <a:xfrm>
                <a:off x="228600" y="1600200"/>
                <a:ext cx="48006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Δ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5" name="Rectangle 13"/>
          <p:cNvSpPr/>
          <p:nvPr/>
        </p:nvSpPr>
        <p:spPr>
          <a:xfrm>
            <a:off x="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6" name="Object 14"/>
              <p:cNvSpPr txBox="1"/>
              <p:nvPr/>
            </p:nvSpPr>
            <p:spPr>
              <a:xfrm>
                <a:off x="228600" y="3276720"/>
                <a:ext cx="373392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7" name="Object 15"/>
              <p:cNvSpPr txBox="1"/>
              <p:nvPr/>
            </p:nvSpPr>
            <p:spPr>
              <a:xfrm>
                <a:off x="228600" y="3886200"/>
                <a:ext cx="736272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Δx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Δ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Δx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Δ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8" name="Object 16"/>
              <p:cNvSpPr txBox="1"/>
              <p:nvPr/>
            </p:nvSpPr>
            <p:spPr>
              <a:xfrm>
                <a:off x="380880" y="4495680"/>
                <a:ext cx="481644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Δx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Δ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9" name="Object 17"/>
              <p:cNvSpPr txBox="1"/>
              <p:nvPr/>
            </p:nvSpPr>
            <p:spPr>
              <a:xfrm>
                <a:off x="304920" y="5568840"/>
                <a:ext cx="6507000" cy="12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Если</m:t>
                        </m:r>
                        <m:r>
                          <m:t xml:space="preserve"> </m:t>
                        </m:r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то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Δ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r>
                          <m:t xml:space="preserve">→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то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есть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0" name="Object 18"/>
              <p:cNvSpPr txBox="1"/>
              <p:nvPr/>
            </p:nvSpPr>
            <p:spPr>
              <a:xfrm>
                <a:off x="5784840" y="6319800"/>
                <a:ext cx="33591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Ответ</m:t>
                    </m:r>
                    <m:r>
                      <m:t xml:space="preserve">: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1" name="Object 19"/>
              <p:cNvSpPr txBox="1"/>
              <p:nvPr/>
            </p:nvSpPr>
            <p:spPr>
              <a:xfrm>
                <a:off x="228600" y="2133720"/>
                <a:ext cx="5867280" cy="15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Δ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Δ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Δx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Δx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Δ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Δx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Δ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592" name="Text Box 20"/>
          <p:cNvSpPr/>
          <p:nvPr/>
        </p:nvSpPr>
        <p:spPr>
          <a:xfrm>
            <a:off x="7924680" y="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спе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AutoShape 21"/>
          <p:cNvSpPr/>
          <p:nvPr/>
        </p:nvSpPr>
        <p:spPr>
          <a:xfrm>
            <a:off x="8839080" y="662940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4400" y="3837"/>
                </a:moveTo>
                <a:lnTo>
                  <a:pt x="16976" y="6448"/>
                </a:lnTo>
                <a:lnTo>
                  <a:pt x="16976" y="4707"/>
                </a:lnTo>
                <a:lnTo>
                  <a:pt x="18752" y="4707"/>
                </a:lnTo>
                <a:lnTo>
                  <a:pt x="18752" y="8224"/>
                </a:lnTo>
                <a:lnTo>
                  <a:pt x="21363" y="10800"/>
                </a:lnTo>
                <a:lnTo>
                  <a:pt x="19709" y="10800"/>
                </a:lnTo>
                <a:lnTo>
                  <a:pt x="19709" y="17989"/>
                </a:lnTo>
                <a:lnTo>
                  <a:pt x="9091" y="17989"/>
                </a:lnTo>
                <a:lnTo>
                  <a:pt x="9091" y="10800"/>
                </a:lnTo>
                <a:lnTo>
                  <a:pt x="7437" y="10800"/>
                </a:lnTo>
                <a:close/>
              </a:path>
              <a:path fill="darkenLess" w="28800" h="21600">
                <a:moveTo>
                  <a:pt x="16976" y="6448"/>
                </a:moveTo>
                <a:lnTo>
                  <a:pt x="16976" y="4707"/>
                </a:lnTo>
                <a:lnTo>
                  <a:pt x="18752" y="4707"/>
                </a:lnTo>
                <a:lnTo>
                  <a:pt x="18752" y="8224"/>
                </a:lnTo>
                <a:close/>
              </a:path>
              <a:path fill="darkenLess" w="28800" h="21600">
                <a:moveTo>
                  <a:pt x="13477" y="14299"/>
                </a:moveTo>
                <a:lnTo>
                  <a:pt x="15323" y="14299"/>
                </a:lnTo>
                <a:lnTo>
                  <a:pt x="15323" y="17989"/>
                </a:lnTo>
                <a:lnTo>
                  <a:pt x="19709" y="17989"/>
                </a:lnTo>
                <a:lnTo>
                  <a:pt x="19709" y="10800"/>
                </a:lnTo>
                <a:lnTo>
                  <a:pt x="9091" y="10800"/>
                </a:lnTo>
                <a:lnTo>
                  <a:pt x="9091" y="17989"/>
                </a:lnTo>
                <a:lnTo>
                  <a:pt x="134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onte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807696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3300"/>
                </a:solidFill>
                <a:latin typeface="Comic Sans MS"/>
              </a:rPr>
              <a:t>Определение производной  функции</a:t>
            </a:r>
            <a:br>
              <a:rPr sz="2900"/>
            </a:br>
            <a:r>
              <a:rPr b="1" lang="ru-RU" sz="2000" spc="-1" strike="noStrike">
                <a:solidFill>
                  <a:srgbClr val="2d15bd"/>
                </a:solidFill>
                <a:latin typeface="Comic Sans MS"/>
              </a:rPr>
              <a:t>(Содержание)</a:t>
            </a:r>
            <a:endParaRPr b="0" lang="en-US" sz="2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905120"/>
            <a:ext cx="33526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9520" y="1905120"/>
            <a:ext cx="4800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78160" indent="-57816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115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d15bd"/>
                </a:solidFill>
                <a:latin typeface="Arial"/>
              </a:rPr>
              <a:t>Геометрический смысл отнош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160" indent="-57816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105000"/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d15bd"/>
                </a:solidFill>
                <a:latin typeface="Arial"/>
              </a:rPr>
              <a:t>Геометрический смысл отношения           п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160" indent="-57816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105000"/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d15bd"/>
                </a:solidFill>
                <a:latin typeface="Arial"/>
              </a:rPr>
              <a:t>Геометрический смысл производной функ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160" indent="-57816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105000"/>
              <a:buFont typeface="Arial"/>
              <a:buAutoNum type="roman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d15bd"/>
                </a:solidFill>
                <a:latin typeface="Arial"/>
              </a:rPr>
              <a:t>Определение производной фун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160" indent="-57816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105000"/>
              <a:buFont typeface="Arial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d15bd"/>
                </a:solidFill>
                <a:latin typeface="Arial"/>
              </a:rPr>
              <a:t>Физический смысл производной фун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160" indent="-57816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105000"/>
              <a:buFont typeface="Arial"/>
              <a:buAutoNum type="romanU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d15bd"/>
                </a:solidFill>
                <a:latin typeface="Arial"/>
              </a:rPr>
              <a:t>Примеры вычисления производной фун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8"/>
              <p:cNvSpPr txBox="1"/>
              <p:nvPr/>
            </p:nvSpPr>
            <p:spPr>
              <a:xfrm>
                <a:off x="7543800" y="1752480"/>
                <a:ext cx="4269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6" name="Rectangle 10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9"/>
              <p:cNvSpPr txBox="1"/>
              <p:nvPr/>
            </p:nvSpPr>
            <p:spPr>
              <a:xfrm>
                <a:off x="7238880" y="2743200"/>
                <a:ext cx="91440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х</m:t>
                    </m:r>
                    <m:r>
                      <m:t xml:space="preserve">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11"/>
              <p:cNvSpPr txBox="1"/>
              <p:nvPr/>
            </p:nvSpPr>
            <p:spPr>
              <a:xfrm>
                <a:off x="6019920" y="2743200"/>
                <a:ext cx="3794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39" name="Picture 13" descr=""/>
          <p:cNvPicPr/>
          <p:nvPr/>
        </p:nvPicPr>
        <p:blipFill>
          <a:blip r:embed="rId1"/>
          <a:stretch/>
        </p:blipFill>
        <p:spPr>
          <a:xfrm>
            <a:off x="457200" y="2209680"/>
            <a:ext cx="3209760" cy="3002040"/>
          </a:xfrm>
          <a:prstGeom prst="rect">
            <a:avLst/>
          </a:prstGeom>
          <a:ln w="0">
            <a:noFill/>
          </a:ln>
        </p:spPr>
      </p:pic>
      <p:sp>
        <p:nvSpPr>
          <p:cNvPr id="140" name="AutoShape 15">
            <a:hlinkClick r:id="rId2" action="ppaction://hlinksldjump"/>
          </p:cNvPr>
          <p:cNvSpPr/>
          <p:nvPr/>
        </p:nvSpPr>
        <p:spPr>
          <a:xfrm>
            <a:off x="8305920" y="1981080"/>
            <a:ext cx="228600" cy="152640"/>
          </a:xfrm>
          <a:custGeom>
            <a:avLst/>
            <a:gdLst>
              <a:gd name="textAreaLeft" fmla="*/ 9720 w 228600"/>
              <a:gd name="textAreaRight" fmla="*/ 218880 w 228600"/>
              <a:gd name="textAreaTop" fmla="*/ 9720 h 152640"/>
              <a:gd name="textAreaBottom" fmla="*/ 142920 h 152640"/>
            </a:gdLst>
            <a:ahLst/>
            <a:rect l="textAreaLeft" t="textAreaTop" r="textAreaRight" b="textAreaBottom"/>
            <a:pathLst>
              <a:path w="32324" h="21600">
                <a:moveTo>
                  <a:pt x="0" y="0"/>
                </a:moveTo>
                <a:lnTo>
                  <a:pt x="32324" y="0"/>
                </a:lnTo>
                <a:lnTo>
                  <a:pt x="32324" y="21600"/>
                </a:lnTo>
                <a:lnTo>
                  <a:pt x="0" y="21600"/>
                </a:lnTo>
                <a:close/>
              </a:path>
              <a:path fill="lightenLess" w="32324" h="21600">
                <a:moveTo>
                  <a:pt x="0" y="0"/>
                </a:moveTo>
                <a:lnTo>
                  <a:pt x="32324" y="0"/>
                </a:lnTo>
                <a:lnTo>
                  <a:pt x="30924" y="1400"/>
                </a:lnTo>
                <a:lnTo>
                  <a:pt x="1400" y="1400"/>
                </a:lnTo>
                <a:close/>
              </a:path>
              <a:path fill="darken" w="32324" h="21600">
                <a:moveTo>
                  <a:pt x="32324" y="0"/>
                </a:moveTo>
                <a:lnTo>
                  <a:pt x="32324" y="21600"/>
                </a:lnTo>
                <a:lnTo>
                  <a:pt x="30924" y="20200"/>
                </a:lnTo>
                <a:lnTo>
                  <a:pt x="30924" y="1400"/>
                </a:lnTo>
                <a:close/>
              </a:path>
              <a:path fill="darkenLess" w="32324" h="21600">
                <a:moveTo>
                  <a:pt x="323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24" y="20200"/>
                </a:lnTo>
                <a:close/>
              </a:path>
              <a:path fill="lighten" w="323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6">
            <a:hlinkClick r:id="rId3" action="ppaction://hlinksldjump"/>
          </p:cNvPr>
          <p:cNvSpPr/>
          <p:nvPr/>
        </p:nvSpPr>
        <p:spPr>
          <a:xfrm>
            <a:off x="8305920" y="2590920"/>
            <a:ext cx="228600" cy="152280"/>
          </a:xfrm>
          <a:custGeom>
            <a:avLst/>
            <a:gdLst>
              <a:gd name="textAreaLeft" fmla="*/ 9720 w 228600"/>
              <a:gd name="textAreaRight" fmla="*/ 218880 w 22860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7">
            <a:hlinkClick r:id="rId4" action="ppaction://hlinksldjump"/>
          </p:cNvPr>
          <p:cNvSpPr/>
          <p:nvPr/>
        </p:nvSpPr>
        <p:spPr>
          <a:xfrm>
            <a:off x="8305920" y="3581280"/>
            <a:ext cx="228600" cy="152640"/>
          </a:xfrm>
          <a:custGeom>
            <a:avLst/>
            <a:gdLst>
              <a:gd name="textAreaLeft" fmla="*/ 9720 w 228600"/>
              <a:gd name="textAreaRight" fmla="*/ 218880 w 228600"/>
              <a:gd name="textAreaTop" fmla="*/ 9720 h 152640"/>
              <a:gd name="textAreaBottom" fmla="*/ 142920 h 152640"/>
            </a:gdLst>
            <a:ahLst/>
            <a:rect l="textAreaLeft" t="textAreaTop" r="textAreaRight" b="textAreaBottom"/>
            <a:pathLst>
              <a:path w="32324" h="21600">
                <a:moveTo>
                  <a:pt x="0" y="0"/>
                </a:moveTo>
                <a:lnTo>
                  <a:pt x="32324" y="0"/>
                </a:lnTo>
                <a:lnTo>
                  <a:pt x="32324" y="21600"/>
                </a:lnTo>
                <a:lnTo>
                  <a:pt x="0" y="21600"/>
                </a:lnTo>
                <a:close/>
              </a:path>
              <a:path fill="lightenLess" w="32324" h="21600">
                <a:moveTo>
                  <a:pt x="0" y="0"/>
                </a:moveTo>
                <a:lnTo>
                  <a:pt x="32324" y="0"/>
                </a:lnTo>
                <a:lnTo>
                  <a:pt x="30924" y="1400"/>
                </a:lnTo>
                <a:lnTo>
                  <a:pt x="1400" y="1400"/>
                </a:lnTo>
                <a:close/>
              </a:path>
              <a:path fill="darken" w="32324" h="21600">
                <a:moveTo>
                  <a:pt x="32324" y="0"/>
                </a:moveTo>
                <a:lnTo>
                  <a:pt x="32324" y="21600"/>
                </a:lnTo>
                <a:lnTo>
                  <a:pt x="30924" y="20200"/>
                </a:lnTo>
                <a:lnTo>
                  <a:pt x="30924" y="1400"/>
                </a:lnTo>
                <a:close/>
              </a:path>
              <a:path fill="darkenLess" w="32324" h="21600">
                <a:moveTo>
                  <a:pt x="323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24" y="20200"/>
                </a:lnTo>
                <a:close/>
              </a:path>
              <a:path fill="lighten" w="323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8">
            <a:hlinkClick r:id="rId5" action="ppaction://hlinksldjump"/>
          </p:cNvPr>
          <p:cNvSpPr/>
          <p:nvPr/>
        </p:nvSpPr>
        <p:spPr>
          <a:xfrm>
            <a:off x="8305920" y="4191120"/>
            <a:ext cx="228600" cy="152280"/>
          </a:xfrm>
          <a:custGeom>
            <a:avLst/>
            <a:gdLst>
              <a:gd name="textAreaLeft" fmla="*/ 9720 w 228600"/>
              <a:gd name="textAreaRight" fmla="*/ 218880 w 22860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19">
            <a:hlinkClick r:id="rId6" action="ppaction://hlinksldjump"/>
          </p:cNvPr>
          <p:cNvSpPr/>
          <p:nvPr/>
        </p:nvSpPr>
        <p:spPr>
          <a:xfrm>
            <a:off x="8305920" y="4800600"/>
            <a:ext cx="228600" cy="152280"/>
          </a:xfrm>
          <a:custGeom>
            <a:avLst/>
            <a:gdLst>
              <a:gd name="textAreaLeft" fmla="*/ 9720 w 228600"/>
              <a:gd name="textAreaRight" fmla="*/ 218880 w 22860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20">
            <a:hlinkClick r:id="rId7" action="ppaction://hlinksldjump"/>
          </p:cNvPr>
          <p:cNvSpPr/>
          <p:nvPr/>
        </p:nvSpPr>
        <p:spPr>
          <a:xfrm>
            <a:off x="8305920" y="5410080"/>
            <a:ext cx="228600" cy="152640"/>
          </a:xfrm>
          <a:custGeom>
            <a:avLst/>
            <a:gdLst>
              <a:gd name="textAreaLeft" fmla="*/ 9720 w 228600"/>
              <a:gd name="textAreaRight" fmla="*/ 218880 w 228600"/>
              <a:gd name="textAreaTop" fmla="*/ 9720 h 152640"/>
              <a:gd name="textAreaBottom" fmla="*/ 142920 h 152640"/>
            </a:gdLst>
            <a:ahLst/>
            <a:rect l="textAreaLeft" t="textAreaTop" r="textAreaRight" b="textAreaBottom"/>
            <a:pathLst>
              <a:path w="32324" h="21600">
                <a:moveTo>
                  <a:pt x="0" y="0"/>
                </a:moveTo>
                <a:lnTo>
                  <a:pt x="32324" y="0"/>
                </a:lnTo>
                <a:lnTo>
                  <a:pt x="32324" y="21600"/>
                </a:lnTo>
                <a:lnTo>
                  <a:pt x="0" y="21600"/>
                </a:lnTo>
                <a:close/>
              </a:path>
              <a:path fill="lightenLess" w="32324" h="21600">
                <a:moveTo>
                  <a:pt x="0" y="0"/>
                </a:moveTo>
                <a:lnTo>
                  <a:pt x="32324" y="0"/>
                </a:lnTo>
                <a:lnTo>
                  <a:pt x="30924" y="1400"/>
                </a:lnTo>
                <a:lnTo>
                  <a:pt x="1400" y="1400"/>
                </a:lnTo>
                <a:close/>
              </a:path>
              <a:path fill="darken" w="32324" h="21600">
                <a:moveTo>
                  <a:pt x="32324" y="0"/>
                </a:moveTo>
                <a:lnTo>
                  <a:pt x="32324" y="21600"/>
                </a:lnTo>
                <a:lnTo>
                  <a:pt x="30924" y="20200"/>
                </a:lnTo>
                <a:lnTo>
                  <a:pt x="30924" y="1400"/>
                </a:lnTo>
                <a:close/>
              </a:path>
              <a:path fill="darkenLess" w="32324" h="21600">
                <a:moveTo>
                  <a:pt x="323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24" y="20200"/>
                </a:lnTo>
                <a:close/>
              </a:path>
              <a:path fill="lighten" w="323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1"/>
          <p:cNvSpPr/>
          <p:nvPr/>
        </p:nvSpPr>
        <p:spPr>
          <a:xfrm>
            <a:off x="4572000" y="32004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лайды 4,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2"/>
          <p:cNvSpPr/>
          <p:nvPr/>
        </p:nvSpPr>
        <p:spPr>
          <a:xfrm>
            <a:off x="5943600" y="22860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лайд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3"/>
          <p:cNvSpPr/>
          <p:nvPr/>
        </p:nvSpPr>
        <p:spPr>
          <a:xfrm>
            <a:off x="7467480" y="380988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 Narrow"/>
              </a:rPr>
              <a:t>Слайды 7,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4"/>
          <p:cNvSpPr/>
          <p:nvPr/>
        </p:nvSpPr>
        <p:spPr>
          <a:xfrm>
            <a:off x="5791320" y="441972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 Narrow"/>
              </a:rPr>
              <a:t>Слайд 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5"/>
          <p:cNvSpPr/>
          <p:nvPr/>
        </p:nvSpPr>
        <p:spPr>
          <a:xfrm>
            <a:off x="7010280" y="4724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 Narrow"/>
              </a:rPr>
              <a:t>Слайд 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6"/>
          <p:cNvSpPr/>
          <p:nvPr/>
        </p:nvSpPr>
        <p:spPr>
          <a:xfrm>
            <a:off x="7391520" y="56386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 Narrow"/>
              </a:rPr>
              <a:t>Слайд 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Comic Sans MS"/>
              </a:rPr>
              <a:t>Геометрический смысл приращения фун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3"/>
          <p:cNvSpPr/>
          <p:nvPr/>
        </p:nvSpPr>
        <p:spPr>
          <a:xfrm flipH="1">
            <a:off x="1828440" y="1981080"/>
            <a:ext cx="3048120" cy="350532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>
            <a:off x="4648320" y="2209680"/>
            <a:ext cx="75960" cy="763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>
            <a:off x="3276720" y="3809880"/>
            <a:ext cx="75960" cy="763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6"/>
          <p:cNvGrpSpPr/>
          <p:nvPr/>
        </p:nvGrpSpPr>
        <p:grpSpPr>
          <a:xfrm>
            <a:off x="380880" y="990720"/>
            <a:ext cx="6019920" cy="4343400"/>
            <a:chOff x="380880" y="990720"/>
            <a:chExt cx="6019920" cy="4343400"/>
          </a:xfrm>
        </p:grpSpPr>
        <p:grpSp>
          <p:nvGrpSpPr>
            <p:cNvPr id="157" name="Group 7"/>
            <p:cNvGrpSpPr/>
            <p:nvPr/>
          </p:nvGrpSpPr>
          <p:grpSpPr>
            <a:xfrm>
              <a:off x="380880" y="4800600"/>
              <a:ext cx="6019920" cy="368280"/>
              <a:chOff x="380880" y="4800600"/>
              <a:chExt cx="6019920" cy="368280"/>
            </a:xfrm>
          </p:grpSpPr>
          <p:sp>
            <p:nvSpPr>
              <p:cNvPr id="158" name="Line 8"/>
              <p:cNvSpPr/>
              <p:nvPr/>
            </p:nvSpPr>
            <p:spPr>
              <a:xfrm>
                <a:off x="380880" y="4876920"/>
                <a:ext cx="5943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9"/>
              <p:cNvSpPr/>
              <p:nvPr/>
            </p:nvSpPr>
            <p:spPr>
              <a:xfrm>
                <a:off x="6095880" y="480060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х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Group 10"/>
            <p:cNvGrpSpPr/>
            <p:nvPr/>
          </p:nvGrpSpPr>
          <p:grpSpPr>
            <a:xfrm>
              <a:off x="1371600" y="990720"/>
              <a:ext cx="380880" cy="4343400"/>
              <a:chOff x="1371600" y="990720"/>
              <a:chExt cx="380880" cy="4343400"/>
            </a:xfrm>
          </p:grpSpPr>
          <p:grpSp>
            <p:nvGrpSpPr>
              <p:cNvPr id="161" name="Group 11"/>
              <p:cNvGrpSpPr/>
              <p:nvPr/>
            </p:nvGrpSpPr>
            <p:grpSpPr>
              <a:xfrm>
                <a:off x="1371600" y="990720"/>
                <a:ext cx="304920" cy="4343400"/>
                <a:chOff x="1371600" y="990720"/>
                <a:chExt cx="304920" cy="4343400"/>
              </a:xfrm>
            </p:grpSpPr>
            <p:sp>
              <p:nvSpPr>
                <p:cNvPr id="162" name="Line 12"/>
                <p:cNvSpPr/>
                <p:nvPr/>
              </p:nvSpPr>
              <p:spPr>
                <a:xfrm flipV="1">
                  <a:off x="1676520" y="1143000"/>
                  <a:ext cx="0" cy="4191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Text Box 13"/>
                <p:cNvSpPr/>
                <p:nvPr/>
              </p:nvSpPr>
              <p:spPr>
                <a:xfrm>
                  <a:off x="1371600" y="990720"/>
                  <a:ext cx="304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y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Text Box 14"/>
              <p:cNvSpPr/>
              <p:nvPr/>
            </p:nvSpPr>
            <p:spPr>
              <a:xfrm>
                <a:off x="1447920" y="4800600"/>
                <a:ext cx="30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5" name="Text Box 15"/>
          <p:cNvSpPr/>
          <p:nvPr/>
        </p:nvSpPr>
        <p:spPr>
          <a:xfrm>
            <a:off x="2666880" y="34290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6"/>
          <p:cNvSpPr/>
          <p:nvPr/>
        </p:nvSpPr>
        <p:spPr>
          <a:xfrm>
            <a:off x="4343400" y="19051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rc 17"/>
          <p:cNvSpPr/>
          <p:nvPr/>
        </p:nvSpPr>
        <p:spPr>
          <a:xfrm>
            <a:off x="2590920" y="4572000"/>
            <a:ext cx="304560" cy="299880"/>
          </a:xfrm>
          <a:custGeom>
            <a:avLst/>
            <a:gdLst>
              <a:gd name="textAreaLeft" fmla="*/ 0 w 304560"/>
              <a:gd name="textAreaRight" fmla="*/ 304920 w 304560"/>
              <a:gd name="textAreaTop" fmla="*/ 0 h 299880"/>
              <a:gd name="textAreaBottom" fmla="*/ 300240 h 299880"/>
            </a:gdLst>
            <a:ahLst/>
            <a:rect l="textAreaLeft" t="textAreaTop" r="textAreaRight" b="textAreaBottom"/>
            <a:pathLst>
              <a:path fill="none" w="21600" h="21230">
                <a:moveTo>
                  <a:pt x="3980" y="0"/>
                </a:moveTo>
                <a:cubicBezTo>
                  <a:pt x="14197" y="1915"/>
                  <a:pt x="21600" y="10835"/>
                  <a:pt x="21600" y="21230"/>
                </a:cubicBezTo>
              </a:path>
              <a:path stroke="0" w="21600" h="21230">
                <a:moveTo>
                  <a:pt x="3980" y="0"/>
                </a:moveTo>
                <a:cubicBezTo>
                  <a:pt x="14197" y="1915"/>
                  <a:pt x="21600" y="10835"/>
                  <a:pt x="21600" y="21230"/>
                </a:cubicBezTo>
                <a:lnTo>
                  <a:pt x="0" y="2123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8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19"/>
              <p:cNvSpPr txBox="1"/>
              <p:nvPr/>
            </p:nvSpPr>
            <p:spPr>
              <a:xfrm>
                <a:off x="2743200" y="4419720"/>
                <a:ext cx="304920" cy="28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" name="Line 20"/>
          <p:cNvSpPr/>
          <p:nvPr/>
        </p:nvSpPr>
        <p:spPr>
          <a:xfrm flipH="1">
            <a:off x="1676160" y="380988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1"/>
          <p:cNvSpPr/>
          <p:nvPr/>
        </p:nvSpPr>
        <p:spPr>
          <a:xfrm flipH="1">
            <a:off x="1676160" y="2209680"/>
            <a:ext cx="2971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2"/>
          <p:cNvSpPr/>
          <p:nvPr/>
        </p:nvSpPr>
        <p:spPr>
          <a:xfrm>
            <a:off x="3276720" y="3809880"/>
            <a:ext cx="0" cy="10670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3"/>
          <p:cNvSpPr/>
          <p:nvPr/>
        </p:nvSpPr>
        <p:spPr>
          <a:xfrm>
            <a:off x="4724280" y="2209680"/>
            <a:ext cx="0" cy="26672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24"/>
          <p:cNvSpPr/>
          <p:nvPr/>
        </p:nvSpPr>
        <p:spPr>
          <a:xfrm>
            <a:off x="1676520" y="21337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25"/>
          <p:cNvSpPr/>
          <p:nvPr/>
        </p:nvSpPr>
        <p:spPr>
          <a:xfrm>
            <a:off x="4724280" y="4800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26"/>
          <p:cNvSpPr/>
          <p:nvPr/>
        </p:nvSpPr>
        <p:spPr>
          <a:xfrm>
            <a:off x="1676520" y="38098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27"/>
          <p:cNvSpPr/>
          <p:nvPr/>
        </p:nvSpPr>
        <p:spPr>
          <a:xfrm>
            <a:off x="3276720" y="48006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28"/>
          <p:cNvSpPr/>
          <p:nvPr/>
        </p:nvSpPr>
        <p:spPr>
          <a:xfrm>
            <a:off x="838080" y="1676520"/>
            <a:ext cx="5105520" cy="3504960"/>
          </a:xfrm>
          <a:custGeom>
            <a:avLst/>
            <a:gdLst>
              <a:gd name="textAreaLeft" fmla="*/ 0 w 5105520"/>
              <a:gd name="textAreaRight" fmla="*/ 5105880 w 5105520"/>
              <a:gd name="textAreaTop" fmla="*/ 0 h 3504960"/>
              <a:gd name="textAreaBottom" fmla="*/ 3505320 h 3504960"/>
            </a:gdLst>
            <a:ahLst/>
            <a:rect l="textAreaLeft" t="textAreaTop" r="textAreaRight" b="textAreaBottom"/>
            <a:pathLst>
              <a:path w="3216" h="2208">
                <a:moveTo>
                  <a:pt x="0" y="2208"/>
                </a:moveTo>
                <a:cubicBezTo>
                  <a:pt x="372" y="2044"/>
                  <a:pt x="744" y="1880"/>
                  <a:pt x="1008" y="1728"/>
                </a:cubicBezTo>
                <a:cubicBezTo>
                  <a:pt x="1272" y="1576"/>
                  <a:pt x="1416" y="1482"/>
                  <a:pt x="1584" y="1296"/>
                </a:cubicBezTo>
                <a:cubicBezTo>
                  <a:pt x="1752" y="1110"/>
                  <a:pt x="1864" y="783"/>
                  <a:pt x="2016" y="615"/>
                </a:cubicBezTo>
                <a:cubicBezTo>
                  <a:pt x="2168" y="447"/>
                  <a:pt x="2296" y="390"/>
                  <a:pt x="2496" y="288"/>
                </a:cubicBezTo>
                <a:cubicBezTo>
                  <a:pt x="2696" y="186"/>
                  <a:pt x="3096" y="48"/>
                  <a:pt x="3216" y="0"/>
                </a:cubicBezTo>
              </a:path>
            </a:pathLst>
          </a:custGeom>
          <a:noFill/>
          <a:ln w="284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Object 29"/>
              <p:cNvSpPr txBox="1"/>
              <p:nvPr/>
            </p:nvSpPr>
            <p:spPr>
              <a:xfrm>
                <a:off x="3200400" y="4952880"/>
                <a:ext cx="31608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30"/>
              <p:cNvSpPr txBox="1"/>
              <p:nvPr/>
            </p:nvSpPr>
            <p:spPr>
              <a:xfrm>
                <a:off x="3809880" y="4876920"/>
                <a:ext cx="47628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</m:t>
                    </m:r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31"/>
              <p:cNvSpPr txBox="1"/>
              <p:nvPr/>
            </p:nvSpPr>
            <p:spPr>
              <a:xfrm>
                <a:off x="6172200" y="1066680"/>
                <a:ext cx="243828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32"/>
              <p:cNvSpPr txBox="1"/>
              <p:nvPr/>
            </p:nvSpPr>
            <p:spPr>
              <a:xfrm>
                <a:off x="1295280" y="3581280"/>
                <a:ext cx="368280" cy="4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3" name="Rectangle 33"/>
          <p:cNvSpPr/>
          <p:nvPr/>
        </p:nvSpPr>
        <p:spPr>
          <a:xfrm>
            <a:off x="1800" y="247896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34"/>
          <p:cNvSpPr/>
          <p:nvPr/>
        </p:nvSpPr>
        <p:spPr>
          <a:xfrm>
            <a:off x="3126240" y="495216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5"/>
          <p:cNvSpPr/>
          <p:nvPr/>
        </p:nvSpPr>
        <p:spPr>
          <a:xfrm>
            <a:off x="2160" y="4114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6"/>
          <p:cNvSpPr/>
          <p:nvPr/>
        </p:nvSpPr>
        <p:spPr>
          <a:xfrm>
            <a:off x="1800" y="388548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37"/>
          <p:cNvSpPr/>
          <p:nvPr/>
        </p:nvSpPr>
        <p:spPr>
          <a:xfrm>
            <a:off x="0" y="437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38"/>
              <p:cNvSpPr txBox="1"/>
              <p:nvPr/>
            </p:nvSpPr>
            <p:spPr>
              <a:xfrm>
                <a:off x="1295280" y="2057400"/>
                <a:ext cx="3463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39"/>
              <p:cNvSpPr txBox="1"/>
              <p:nvPr/>
            </p:nvSpPr>
            <p:spPr>
              <a:xfrm>
                <a:off x="4572000" y="4876920"/>
                <a:ext cx="29700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40"/>
              <p:cNvSpPr txBox="1"/>
              <p:nvPr/>
            </p:nvSpPr>
            <p:spPr>
              <a:xfrm>
                <a:off x="1143000" y="2666880"/>
                <a:ext cx="50148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1" name="Text Box 41"/>
          <p:cNvSpPr/>
          <p:nvPr/>
        </p:nvSpPr>
        <p:spPr>
          <a:xfrm>
            <a:off x="1752480" y="53341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кущ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42"/>
          <p:cNvSpPr/>
          <p:nvPr/>
        </p:nvSpPr>
        <p:spPr>
          <a:xfrm>
            <a:off x="3276720" y="4876920"/>
            <a:ext cx="14475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43"/>
          <p:cNvSpPr/>
          <p:nvPr/>
        </p:nvSpPr>
        <p:spPr>
          <a:xfrm flipV="1">
            <a:off x="1676520" y="2209320"/>
            <a:ext cx="0" cy="16002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44"/>
          <p:cNvSpPr/>
          <p:nvPr/>
        </p:nvSpPr>
        <p:spPr>
          <a:xfrm>
            <a:off x="3276720" y="3809880"/>
            <a:ext cx="1447560" cy="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45"/>
          <p:cNvSpPr/>
          <p:nvPr/>
        </p:nvSpPr>
        <p:spPr>
          <a:xfrm flipV="1">
            <a:off x="4724280" y="2209320"/>
            <a:ext cx="0" cy="160020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6"/>
          <p:cNvSpPr/>
          <p:nvPr/>
        </p:nvSpPr>
        <p:spPr>
          <a:xfrm>
            <a:off x="4724280" y="3581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Object 47"/>
              <p:cNvSpPr txBox="1"/>
              <p:nvPr/>
            </p:nvSpPr>
            <p:spPr>
              <a:xfrm>
                <a:off x="4724280" y="2666880"/>
                <a:ext cx="45720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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48"/>
              <p:cNvSpPr txBox="1"/>
              <p:nvPr/>
            </p:nvSpPr>
            <p:spPr>
              <a:xfrm>
                <a:off x="3809880" y="3429000"/>
                <a:ext cx="47628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</m:t>
                    </m:r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9" name="Arc 49"/>
          <p:cNvSpPr/>
          <p:nvPr/>
        </p:nvSpPr>
        <p:spPr>
          <a:xfrm>
            <a:off x="3505320" y="3505320"/>
            <a:ext cx="304560" cy="299880"/>
          </a:xfrm>
          <a:custGeom>
            <a:avLst/>
            <a:gdLst>
              <a:gd name="textAreaLeft" fmla="*/ 0 w 304560"/>
              <a:gd name="textAreaRight" fmla="*/ 304920 w 304560"/>
              <a:gd name="textAreaTop" fmla="*/ 0 h 299880"/>
              <a:gd name="textAreaBottom" fmla="*/ 300240 h 299880"/>
            </a:gdLst>
            <a:ahLst/>
            <a:rect l="textAreaLeft" t="textAreaTop" r="textAreaRight" b="textAreaBottom"/>
            <a:pathLst>
              <a:path fill="none" w="21600" h="21230">
                <a:moveTo>
                  <a:pt x="3980" y="0"/>
                </a:moveTo>
                <a:cubicBezTo>
                  <a:pt x="14197" y="1915"/>
                  <a:pt x="21600" y="10835"/>
                  <a:pt x="21600" y="21230"/>
                </a:cubicBezTo>
              </a:path>
              <a:path stroke="0" w="21600" h="21230">
                <a:moveTo>
                  <a:pt x="3980" y="0"/>
                </a:moveTo>
                <a:cubicBezTo>
                  <a:pt x="14197" y="1915"/>
                  <a:pt x="21600" y="10835"/>
                  <a:pt x="21600" y="21230"/>
                </a:cubicBezTo>
                <a:lnTo>
                  <a:pt x="0" y="2123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Object 50"/>
              <p:cNvSpPr txBox="1"/>
              <p:nvPr/>
            </p:nvSpPr>
            <p:spPr>
              <a:xfrm>
                <a:off x="3657600" y="3352680"/>
                <a:ext cx="30492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" name="Rectangle 51"/>
          <p:cNvSpPr/>
          <p:nvPr/>
        </p:nvSpPr>
        <p:spPr>
          <a:xfrm>
            <a:off x="4495680" y="3581280"/>
            <a:ext cx="228600" cy="2286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52"/>
          <p:cNvSpPr/>
          <p:nvPr/>
        </p:nvSpPr>
        <p:spPr>
          <a:xfrm>
            <a:off x="6477120" y="20574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та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53"/>
              <p:cNvSpPr txBox="1"/>
              <p:nvPr/>
            </p:nvSpPr>
            <p:spPr>
              <a:xfrm>
                <a:off x="6095880" y="2590920"/>
                <a:ext cx="229716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54"/>
              <p:cNvSpPr txBox="1"/>
              <p:nvPr/>
            </p:nvSpPr>
            <p:spPr>
              <a:xfrm>
                <a:off x="6400800" y="4952880"/>
                <a:ext cx="20574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5" name="Text Box 55"/>
          <p:cNvSpPr/>
          <p:nvPr/>
        </p:nvSpPr>
        <p:spPr>
          <a:xfrm>
            <a:off x="5715000" y="365760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k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угловой коэффициент прямой(секуще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57">
            <a:hlinkClick r:id="rId1" action="ppaction://hlinksldjump"/>
          </p:cNvPr>
          <p:cNvSpPr/>
          <p:nvPr/>
        </p:nvSpPr>
        <p:spPr>
          <a:xfrm>
            <a:off x="8839080" y="662940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4400" y="3837"/>
                </a:moveTo>
                <a:lnTo>
                  <a:pt x="16976" y="6448"/>
                </a:lnTo>
                <a:lnTo>
                  <a:pt x="16976" y="4707"/>
                </a:lnTo>
                <a:lnTo>
                  <a:pt x="18752" y="4707"/>
                </a:lnTo>
                <a:lnTo>
                  <a:pt x="18752" y="8224"/>
                </a:lnTo>
                <a:lnTo>
                  <a:pt x="21363" y="10800"/>
                </a:lnTo>
                <a:lnTo>
                  <a:pt x="19709" y="10800"/>
                </a:lnTo>
                <a:lnTo>
                  <a:pt x="19709" y="17989"/>
                </a:lnTo>
                <a:lnTo>
                  <a:pt x="9091" y="17989"/>
                </a:lnTo>
                <a:lnTo>
                  <a:pt x="9091" y="10800"/>
                </a:lnTo>
                <a:lnTo>
                  <a:pt x="7437" y="10800"/>
                </a:lnTo>
                <a:close/>
              </a:path>
              <a:path fill="darkenLess" w="28800" h="21600">
                <a:moveTo>
                  <a:pt x="16976" y="6448"/>
                </a:moveTo>
                <a:lnTo>
                  <a:pt x="16976" y="4707"/>
                </a:lnTo>
                <a:lnTo>
                  <a:pt x="18752" y="4707"/>
                </a:lnTo>
                <a:lnTo>
                  <a:pt x="18752" y="8224"/>
                </a:lnTo>
                <a:close/>
              </a:path>
              <a:path fill="darkenLess" w="28800" h="21600">
                <a:moveTo>
                  <a:pt x="13477" y="14299"/>
                </a:moveTo>
                <a:lnTo>
                  <a:pt x="15323" y="14299"/>
                </a:lnTo>
                <a:lnTo>
                  <a:pt x="15323" y="17989"/>
                </a:lnTo>
                <a:lnTo>
                  <a:pt x="19709" y="17989"/>
                </a:lnTo>
                <a:lnTo>
                  <a:pt x="19709" y="10800"/>
                </a:lnTo>
                <a:lnTo>
                  <a:pt x="9091" y="10800"/>
                </a:lnTo>
                <a:lnTo>
                  <a:pt x="9091" y="17989"/>
                </a:lnTo>
                <a:lnTo>
                  <a:pt x="134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Comic Sans MS"/>
              </a:rPr>
              <a:t>Геометрический смысл отношения      п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3"/>
          <p:cNvSpPr/>
          <p:nvPr/>
        </p:nvSpPr>
        <p:spPr>
          <a:xfrm>
            <a:off x="1676520" y="4343400"/>
            <a:ext cx="75960" cy="763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4"/>
          <p:cNvGrpSpPr/>
          <p:nvPr/>
        </p:nvGrpSpPr>
        <p:grpSpPr>
          <a:xfrm>
            <a:off x="380880" y="990720"/>
            <a:ext cx="6019920" cy="4343400"/>
            <a:chOff x="380880" y="990720"/>
            <a:chExt cx="6019920" cy="4343400"/>
          </a:xfrm>
        </p:grpSpPr>
        <p:grpSp>
          <p:nvGrpSpPr>
            <p:cNvPr id="210" name="Group 5"/>
            <p:cNvGrpSpPr/>
            <p:nvPr/>
          </p:nvGrpSpPr>
          <p:grpSpPr>
            <a:xfrm>
              <a:off x="380880" y="4800600"/>
              <a:ext cx="6019920" cy="368280"/>
              <a:chOff x="380880" y="4800600"/>
              <a:chExt cx="6019920" cy="368280"/>
            </a:xfrm>
          </p:grpSpPr>
          <p:sp>
            <p:nvSpPr>
              <p:cNvPr id="211" name="Line 6"/>
              <p:cNvSpPr/>
              <p:nvPr/>
            </p:nvSpPr>
            <p:spPr>
              <a:xfrm>
                <a:off x="380880" y="4876920"/>
                <a:ext cx="5943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Text Box 7"/>
              <p:cNvSpPr/>
              <p:nvPr/>
            </p:nvSpPr>
            <p:spPr>
              <a:xfrm>
                <a:off x="6095880" y="480060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х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3" name="Group 8"/>
            <p:cNvGrpSpPr/>
            <p:nvPr/>
          </p:nvGrpSpPr>
          <p:grpSpPr>
            <a:xfrm>
              <a:off x="1371600" y="990720"/>
              <a:ext cx="380880" cy="4343400"/>
              <a:chOff x="1371600" y="990720"/>
              <a:chExt cx="380880" cy="4343400"/>
            </a:xfrm>
          </p:grpSpPr>
          <p:grpSp>
            <p:nvGrpSpPr>
              <p:cNvPr id="214" name="Group 9"/>
              <p:cNvGrpSpPr/>
              <p:nvPr/>
            </p:nvGrpSpPr>
            <p:grpSpPr>
              <a:xfrm>
                <a:off x="1371600" y="990720"/>
                <a:ext cx="304920" cy="4343400"/>
                <a:chOff x="1371600" y="990720"/>
                <a:chExt cx="304920" cy="4343400"/>
              </a:xfrm>
            </p:grpSpPr>
            <p:sp>
              <p:nvSpPr>
                <p:cNvPr id="215" name="Line 10"/>
                <p:cNvSpPr/>
                <p:nvPr/>
              </p:nvSpPr>
              <p:spPr>
                <a:xfrm flipV="1">
                  <a:off x="1676520" y="1143000"/>
                  <a:ext cx="0" cy="4191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Text Box 11"/>
                <p:cNvSpPr/>
                <p:nvPr/>
              </p:nvSpPr>
              <p:spPr>
                <a:xfrm>
                  <a:off x="1371600" y="990720"/>
                  <a:ext cx="304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y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7" name="Text Box 12"/>
              <p:cNvSpPr/>
              <p:nvPr/>
            </p:nvSpPr>
            <p:spPr>
              <a:xfrm>
                <a:off x="1447920" y="4800600"/>
                <a:ext cx="30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8" name="Arc 15"/>
          <p:cNvSpPr/>
          <p:nvPr/>
        </p:nvSpPr>
        <p:spPr>
          <a:xfrm>
            <a:off x="2209680" y="4648320"/>
            <a:ext cx="406440" cy="228600"/>
          </a:xfrm>
          <a:custGeom>
            <a:avLst/>
            <a:gdLst>
              <a:gd name="textAreaLeft" fmla="*/ 0 w 406440"/>
              <a:gd name="textAreaRight" fmla="*/ 406800 w 40644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fill="none" w="21503" h="21230">
                <a:moveTo>
                  <a:pt x="3980" y="0"/>
                </a:moveTo>
                <a:cubicBezTo>
                  <a:pt x="13443" y="1774"/>
                  <a:pt x="20588" y="9596"/>
                  <a:pt x="21502" y="19180"/>
                </a:cubicBezTo>
              </a:path>
              <a:path stroke="0" w="21503" h="21230">
                <a:moveTo>
                  <a:pt x="3980" y="0"/>
                </a:moveTo>
                <a:cubicBezTo>
                  <a:pt x="13443" y="1774"/>
                  <a:pt x="20588" y="9596"/>
                  <a:pt x="21502" y="19180"/>
                </a:cubicBezTo>
                <a:lnTo>
                  <a:pt x="0" y="21230"/>
                </a:lnTo>
                <a:close/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6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7"/>
          <p:cNvSpPr/>
          <p:nvPr/>
        </p:nvSpPr>
        <p:spPr>
          <a:xfrm flipH="1">
            <a:off x="1676520" y="4419720"/>
            <a:ext cx="13716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8"/>
          <p:cNvSpPr/>
          <p:nvPr/>
        </p:nvSpPr>
        <p:spPr>
          <a:xfrm flipH="1">
            <a:off x="1676160" y="1600200"/>
            <a:ext cx="281916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9"/>
          <p:cNvSpPr/>
          <p:nvPr/>
        </p:nvSpPr>
        <p:spPr>
          <a:xfrm>
            <a:off x="3048120" y="441972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20"/>
          <p:cNvSpPr/>
          <p:nvPr/>
        </p:nvSpPr>
        <p:spPr>
          <a:xfrm>
            <a:off x="4495680" y="1600200"/>
            <a:ext cx="0" cy="32767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21"/>
          <p:cNvSpPr/>
          <p:nvPr/>
        </p:nvSpPr>
        <p:spPr>
          <a:xfrm>
            <a:off x="1676520" y="15238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22"/>
          <p:cNvSpPr/>
          <p:nvPr/>
        </p:nvSpPr>
        <p:spPr>
          <a:xfrm>
            <a:off x="4495680" y="4800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23"/>
          <p:cNvSpPr/>
          <p:nvPr/>
        </p:nvSpPr>
        <p:spPr>
          <a:xfrm>
            <a:off x="3048120" y="48769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Object 24"/>
              <p:cNvSpPr txBox="1"/>
              <p:nvPr/>
            </p:nvSpPr>
            <p:spPr>
              <a:xfrm>
                <a:off x="2743200" y="4724280"/>
                <a:ext cx="31608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25"/>
              <p:cNvSpPr txBox="1"/>
              <p:nvPr/>
            </p:nvSpPr>
            <p:spPr>
              <a:xfrm>
                <a:off x="3657600" y="4952880"/>
                <a:ext cx="47628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</m:t>
                    </m:r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9" name="Rectangle 27"/>
          <p:cNvSpPr/>
          <p:nvPr/>
        </p:nvSpPr>
        <p:spPr>
          <a:xfrm>
            <a:off x="1800" y="247896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28"/>
          <p:cNvSpPr/>
          <p:nvPr/>
        </p:nvSpPr>
        <p:spPr>
          <a:xfrm>
            <a:off x="2593080" y="502848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29"/>
          <p:cNvSpPr/>
          <p:nvPr/>
        </p:nvSpPr>
        <p:spPr>
          <a:xfrm>
            <a:off x="2160" y="4114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30"/>
          <p:cNvSpPr/>
          <p:nvPr/>
        </p:nvSpPr>
        <p:spPr>
          <a:xfrm>
            <a:off x="1800" y="388548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31"/>
          <p:cNvSpPr/>
          <p:nvPr/>
        </p:nvSpPr>
        <p:spPr>
          <a:xfrm>
            <a:off x="533520" y="4084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33"/>
              <p:cNvSpPr txBox="1"/>
              <p:nvPr/>
            </p:nvSpPr>
            <p:spPr>
              <a:xfrm>
                <a:off x="4495680" y="4952880"/>
                <a:ext cx="2970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34"/>
              <p:cNvSpPr txBox="1"/>
              <p:nvPr/>
            </p:nvSpPr>
            <p:spPr>
              <a:xfrm>
                <a:off x="1143000" y="3733920"/>
                <a:ext cx="5014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6" name="Line 35"/>
          <p:cNvSpPr/>
          <p:nvPr/>
        </p:nvSpPr>
        <p:spPr>
          <a:xfrm>
            <a:off x="3048120" y="4876920"/>
            <a:ext cx="6094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36"/>
          <p:cNvSpPr/>
          <p:nvPr/>
        </p:nvSpPr>
        <p:spPr>
          <a:xfrm flipV="1">
            <a:off x="1676520" y="4114440"/>
            <a:ext cx="0" cy="304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37"/>
          <p:cNvSpPr/>
          <p:nvPr/>
        </p:nvSpPr>
        <p:spPr>
          <a:xfrm>
            <a:off x="1676520" y="320040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38"/>
          <p:cNvSpPr/>
          <p:nvPr/>
        </p:nvSpPr>
        <p:spPr>
          <a:xfrm flipV="1">
            <a:off x="4191120" y="320004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40"/>
              <p:cNvSpPr txBox="1"/>
              <p:nvPr/>
            </p:nvSpPr>
            <p:spPr>
              <a:xfrm>
                <a:off x="1066680" y="2590920"/>
                <a:ext cx="45720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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41"/>
              <p:cNvSpPr txBox="1"/>
              <p:nvPr/>
            </p:nvSpPr>
            <p:spPr>
              <a:xfrm>
                <a:off x="3352680" y="4876920"/>
                <a:ext cx="47628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</m:t>
                    </m:r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42"/>
              <p:cNvSpPr txBox="1"/>
              <p:nvPr/>
            </p:nvSpPr>
            <p:spPr>
              <a:xfrm>
                <a:off x="2438280" y="4495680"/>
                <a:ext cx="30492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45"/>
              <p:cNvSpPr txBox="1"/>
              <p:nvPr/>
            </p:nvSpPr>
            <p:spPr>
              <a:xfrm>
                <a:off x="6629400" y="762120"/>
                <a:ext cx="229716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46"/>
              <p:cNvSpPr txBox="1"/>
              <p:nvPr/>
            </p:nvSpPr>
            <p:spPr>
              <a:xfrm>
                <a:off x="6781680" y="4267080"/>
                <a:ext cx="152424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5" name="Text Box 47"/>
          <p:cNvSpPr/>
          <p:nvPr/>
        </p:nvSpPr>
        <p:spPr>
          <a:xfrm>
            <a:off x="6477120" y="3124080"/>
            <a:ext cx="236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k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угловой коэффициент прямой(секуще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48"/>
              <p:cNvSpPr txBox="1"/>
              <p:nvPr/>
            </p:nvSpPr>
            <p:spPr>
              <a:xfrm>
                <a:off x="3429000" y="838080"/>
                <a:ext cx="106668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7" name="Line 49"/>
          <p:cNvSpPr/>
          <p:nvPr/>
        </p:nvSpPr>
        <p:spPr>
          <a:xfrm>
            <a:off x="4267080" y="2666880"/>
            <a:ext cx="0" cy="22100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50"/>
          <p:cNvSpPr/>
          <p:nvPr/>
        </p:nvSpPr>
        <p:spPr>
          <a:xfrm flipH="1">
            <a:off x="1676520" y="2666880"/>
            <a:ext cx="259056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51"/>
          <p:cNvSpPr/>
          <p:nvPr/>
        </p:nvSpPr>
        <p:spPr>
          <a:xfrm>
            <a:off x="4419720" y="1523880"/>
            <a:ext cx="152280" cy="152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52"/>
          <p:cNvSpPr/>
          <p:nvPr/>
        </p:nvSpPr>
        <p:spPr>
          <a:xfrm>
            <a:off x="228600" y="1066680"/>
            <a:ext cx="4343400" cy="3646440"/>
          </a:xfrm>
          <a:custGeom>
            <a:avLst/>
            <a:gdLst>
              <a:gd name="textAreaLeft" fmla="*/ 0 w 4343400"/>
              <a:gd name="textAreaRight" fmla="*/ 4343760 w 4343400"/>
              <a:gd name="textAreaTop" fmla="*/ 0 h 3646440"/>
              <a:gd name="textAreaBottom" fmla="*/ 3646800 h 3646440"/>
            </a:gdLst>
            <a:ahLst/>
            <a:rect l="textAreaLeft" t="textAreaTop" r="textAreaRight" b="textAreaBottom"/>
            <a:pathLst>
              <a:path w="2709" h="2119">
                <a:moveTo>
                  <a:pt x="0" y="2119"/>
                </a:moveTo>
                <a:cubicBezTo>
                  <a:pt x="357" y="2060"/>
                  <a:pt x="1690" y="2118"/>
                  <a:pt x="2142" y="1765"/>
                </a:cubicBezTo>
                <a:cubicBezTo>
                  <a:pt x="2594" y="1412"/>
                  <a:pt x="2591" y="368"/>
                  <a:pt x="2709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54"/>
          <p:cNvSpPr/>
          <p:nvPr/>
        </p:nvSpPr>
        <p:spPr>
          <a:xfrm>
            <a:off x="2971800" y="4343400"/>
            <a:ext cx="152280" cy="1522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55"/>
          <p:cNvSpPr/>
          <p:nvPr/>
        </p:nvSpPr>
        <p:spPr>
          <a:xfrm flipV="1">
            <a:off x="1828800" y="1523880"/>
            <a:ext cx="3276720" cy="4572000"/>
          </a:xfrm>
          <a:prstGeom prst="line">
            <a:avLst/>
          </a:prstGeom>
          <a:ln w="19080">
            <a:solidFill>
              <a:srgbClr val="1a74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56"/>
          <p:cNvSpPr/>
          <p:nvPr/>
        </p:nvSpPr>
        <p:spPr>
          <a:xfrm flipV="1">
            <a:off x="2209680" y="1066320"/>
            <a:ext cx="2590920" cy="4876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57"/>
          <p:cNvSpPr/>
          <p:nvPr/>
        </p:nvSpPr>
        <p:spPr>
          <a:xfrm flipV="1">
            <a:off x="1371600" y="2057400"/>
            <a:ext cx="3886200" cy="4114800"/>
          </a:xfrm>
          <a:prstGeom prst="line">
            <a:avLst/>
          </a:prstGeom>
          <a:ln w="19080">
            <a:solidFill>
              <a:srgbClr val="2c6c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58"/>
          <p:cNvSpPr/>
          <p:nvPr/>
        </p:nvSpPr>
        <p:spPr>
          <a:xfrm flipV="1">
            <a:off x="1371600" y="2057400"/>
            <a:ext cx="4648320" cy="3657600"/>
          </a:xfrm>
          <a:prstGeom prst="line">
            <a:avLst/>
          </a:prstGeom>
          <a:ln w="19080">
            <a:solidFill>
              <a:srgbClr val="3080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59"/>
          <p:cNvSpPr/>
          <p:nvPr/>
        </p:nvSpPr>
        <p:spPr>
          <a:xfrm flipV="1">
            <a:off x="1143000" y="2742840"/>
            <a:ext cx="5334120" cy="2590920"/>
          </a:xfrm>
          <a:prstGeom prst="line">
            <a:avLst/>
          </a:prstGeom>
          <a:ln w="19080">
            <a:solidFill>
              <a:srgbClr val="329a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60"/>
          <p:cNvSpPr/>
          <p:nvPr/>
        </p:nvSpPr>
        <p:spPr>
          <a:xfrm flipH="1">
            <a:off x="4266720" y="4876920"/>
            <a:ext cx="2286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61"/>
          <p:cNvSpPr/>
          <p:nvPr/>
        </p:nvSpPr>
        <p:spPr>
          <a:xfrm flipV="1">
            <a:off x="1676520" y="1599840"/>
            <a:ext cx="0" cy="10666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62"/>
          <p:cNvSpPr/>
          <p:nvPr/>
        </p:nvSpPr>
        <p:spPr>
          <a:xfrm>
            <a:off x="4191120" y="2590920"/>
            <a:ext cx="152280" cy="1522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63"/>
          <p:cNvSpPr/>
          <p:nvPr/>
        </p:nvSpPr>
        <p:spPr>
          <a:xfrm>
            <a:off x="4191120" y="4876920"/>
            <a:ext cx="759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64"/>
          <p:cNvSpPr/>
          <p:nvPr/>
        </p:nvSpPr>
        <p:spPr>
          <a:xfrm flipV="1">
            <a:off x="1676520" y="2666880"/>
            <a:ext cx="0" cy="5335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65"/>
          <p:cNvSpPr/>
          <p:nvPr/>
        </p:nvSpPr>
        <p:spPr>
          <a:xfrm>
            <a:off x="4114800" y="3124080"/>
            <a:ext cx="152280" cy="152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66"/>
          <p:cNvSpPr/>
          <p:nvPr/>
        </p:nvSpPr>
        <p:spPr>
          <a:xfrm>
            <a:off x="3962520" y="365760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67"/>
          <p:cNvSpPr/>
          <p:nvPr/>
        </p:nvSpPr>
        <p:spPr>
          <a:xfrm flipH="1">
            <a:off x="1676520" y="3657600"/>
            <a:ext cx="22860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68"/>
          <p:cNvSpPr/>
          <p:nvPr/>
        </p:nvSpPr>
        <p:spPr>
          <a:xfrm>
            <a:off x="3962520" y="4876920"/>
            <a:ext cx="2286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69"/>
          <p:cNvSpPr/>
          <p:nvPr/>
        </p:nvSpPr>
        <p:spPr>
          <a:xfrm>
            <a:off x="1676520" y="3200400"/>
            <a:ext cx="0" cy="4572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70"/>
          <p:cNvSpPr/>
          <p:nvPr/>
        </p:nvSpPr>
        <p:spPr>
          <a:xfrm>
            <a:off x="3886200" y="3581280"/>
            <a:ext cx="152280" cy="152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71"/>
          <p:cNvSpPr/>
          <p:nvPr/>
        </p:nvSpPr>
        <p:spPr>
          <a:xfrm>
            <a:off x="3657600" y="411480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72"/>
          <p:cNvSpPr/>
          <p:nvPr/>
        </p:nvSpPr>
        <p:spPr>
          <a:xfrm flipH="1">
            <a:off x="1676160" y="4114800"/>
            <a:ext cx="19810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73"/>
          <p:cNvSpPr/>
          <p:nvPr/>
        </p:nvSpPr>
        <p:spPr>
          <a:xfrm>
            <a:off x="3657600" y="4876920"/>
            <a:ext cx="3049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74"/>
          <p:cNvSpPr/>
          <p:nvPr/>
        </p:nvSpPr>
        <p:spPr>
          <a:xfrm>
            <a:off x="1676520" y="3657600"/>
            <a:ext cx="0" cy="4572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75"/>
          <p:cNvSpPr/>
          <p:nvPr/>
        </p:nvSpPr>
        <p:spPr>
          <a:xfrm>
            <a:off x="3581280" y="4038480"/>
            <a:ext cx="152640" cy="152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76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Object 77"/>
              <p:cNvSpPr txBox="1"/>
              <p:nvPr/>
            </p:nvSpPr>
            <p:spPr>
              <a:xfrm>
                <a:off x="3352680" y="4876920"/>
                <a:ext cx="83844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5" name="Line 78"/>
          <p:cNvSpPr/>
          <p:nvPr/>
        </p:nvSpPr>
        <p:spPr>
          <a:xfrm>
            <a:off x="1676520" y="4267080"/>
            <a:ext cx="0" cy="152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79"/>
          <p:cNvSpPr/>
          <p:nvPr/>
        </p:nvSpPr>
        <p:spPr>
          <a:xfrm>
            <a:off x="609480" y="5410080"/>
            <a:ext cx="75438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Секущая стремится занять положение касательной.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о есть, касательная есть предельное положение секущ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83"/>
          <p:cNvSpPr/>
          <p:nvPr/>
        </p:nvSpPr>
        <p:spPr>
          <a:xfrm>
            <a:off x="6423120" y="3421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Group 89"/>
          <p:cNvGrpSpPr/>
          <p:nvPr/>
        </p:nvGrpSpPr>
        <p:grpSpPr>
          <a:xfrm>
            <a:off x="380880" y="3497760"/>
            <a:ext cx="5885280" cy="1683360"/>
            <a:chOff x="380880" y="3497760"/>
            <a:chExt cx="5885280" cy="1683360"/>
          </a:xfrm>
        </p:grpSpPr>
        <p:sp>
          <p:nvSpPr>
            <p:cNvPr id="279" name="Line 53"/>
            <p:cNvSpPr/>
            <p:nvPr/>
          </p:nvSpPr>
          <p:spPr>
            <a:xfrm flipV="1">
              <a:off x="380880" y="3580920"/>
              <a:ext cx="5639040" cy="160020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85"/>
            <p:cNvSpPr/>
            <p:nvPr/>
          </p:nvSpPr>
          <p:spPr>
            <a:xfrm rot="20585400">
              <a:off x="4572360" y="373356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Касательн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Text Box 86"/>
          <p:cNvSpPr/>
          <p:nvPr/>
        </p:nvSpPr>
        <p:spPr>
          <a:xfrm rot="18012000">
            <a:off x="2927160" y="24829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Секущ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88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87"/>
              <p:cNvSpPr txBox="1"/>
              <p:nvPr/>
            </p:nvSpPr>
            <p:spPr>
              <a:xfrm>
                <a:off x="380880" y="5334120"/>
                <a:ext cx="822960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Δх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угловой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коэффициент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секущей</m:t>
                        </m:r>
                        <m:r>
                          <m:t xml:space="preserve"> </m:t>
                        </m:r>
                        <m:r>
                          <m:t xml:space="preserve">→</m:t>
                        </m:r>
                        <m:r>
                          <m:t xml:space="preserve">к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угловому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коэффициенту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касательной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4" name="Line 90"/>
          <p:cNvSpPr/>
          <p:nvPr/>
        </p:nvSpPr>
        <p:spPr>
          <a:xfrm>
            <a:off x="3048120" y="4876920"/>
            <a:ext cx="759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93"/>
          <p:cNvGrpSpPr/>
          <p:nvPr/>
        </p:nvGrpSpPr>
        <p:grpSpPr>
          <a:xfrm>
            <a:off x="5486400" y="0"/>
            <a:ext cx="2438280" cy="762120"/>
            <a:chOff x="5486400" y="0"/>
            <a:chExt cx="2438280" cy="762120"/>
          </a:xfrm>
        </p:grpSpPr>
        <mc:AlternateContent>
          <mc:Choice xmlns:a14="http://schemas.microsoft.com/office/drawing/2010/main" Requires="a14">
            <p:sp>
              <p:nvSpPr>
                <p:cNvPr id="286" name="Object 91"/>
                <p:cNvSpPr txBox="1"/>
                <p:nvPr/>
              </p:nvSpPr>
              <p:spPr>
                <a:xfrm>
                  <a:off x="6781680" y="228600"/>
                  <a:ext cx="1143000" cy="39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х</m:t>
                      </m:r>
                      <m:r>
                        <m:t xml:space="preserve">→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7" name="Object 92"/>
                <p:cNvSpPr txBox="1"/>
                <p:nvPr/>
              </p:nvSpPr>
              <p:spPr>
                <a:xfrm>
                  <a:off x="5486400" y="0"/>
                  <a:ext cx="474840" cy="76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Δy</m:t>
                          </m:r>
                        </m:num>
                        <m:den>
                          <m:r>
                            <m:t xml:space="preserve">Δx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88" name="Text Box 94"/>
          <p:cNvSpPr/>
          <p:nvPr/>
        </p:nvSpPr>
        <p:spPr>
          <a:xfrm>
            <a:off x="228600" y="609480"/>
            <a:ext cx="1752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 Narrow"/>
              </a:rPr>
              <a:t>Автоматический показ. Щелкните 1 раз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95"/>
          <p:cNvSpPr/>
          <p:nvPr/>
        </p:nvSpPr>
        <p:spPr>
          <a:xfrm>
            <a:off x="8839080" y="662940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4400" y="3837"/>
                </a:moveTo>
                <a:lnTo>
                  <a:pt x="16976" y="6448"/>
                </a:lnTo>
                <a:lnTo>
                  <a:pt x="16976" y="4707"/>
                </a:lnTo>
                <a:lnTo>
                  <a:pt x="18752" y="4707"/>
                </a:lnTo>
                <a:lnTo>
                  <a:pt x="18752" y="8224"/>
                </a:lnTo>
                <a:lnTo>
                  <a:pt x="21363" y="10800"/>
                </a:lnTo>
                <a:lnTo>
                  <a:pt x="19709" y="10800"/>
                </a:lnTo>
                <a:lnTo>
                  <a:pt x="19709" y="17989"/>
                </a:lnTo>
                <a:lnTo>
                  <a:pt x="9091" y="17989"/>
                </a:lnTo>
                <a:lnTo>
                  <a:pt x="9091" y="10800"/>
                </a:lnTo>
                <a:lnTo>
                  <a:pt x="7437" y="10800"/>
                </a:lnTo>
                <a:close/>
              </a:path>
              <a:path fill="darkenLess" w="28800" h="21600">
                <a:moveTo>
                  <a:pt x="16976" y="6448"/>
                </a:moveTo>
                <a:lnTo>
                  <a:pt x="16976" y="4707"/>
                </a:lnTo>
                <a:lnTo>
                  <a:pt x="18752" y="4707"/>
                </a:lnTo>
                <a:lnTo>
                  <a:pt x="18752" y="8224"/>
                </a:lnTo>
                <a:close/>
              </a:path>
              <a:path fill="darkenLess" w="28800" h="21600">
                <a:moveTo>
                  <a:pt x="13477" y="14299"/>
                </a:moveTo>
                <a:lnTo>
                  <a:pt x="15323" y="14299"/>
                </a:lnTo>
                <a:lnTo>
                  <a:pt x="15323" y="17989"/>
                </a:lnTo>
                <a:lnTo>
                  <a:pt x="19709" y="17989"/>
                </a:lnTo>
                <a:lnTo>
                  <a:pt x="19709" y="10800"/>
                </a:lnTo>
                <a:lnTo>
                  <a:pt x="9091" y="10800"/>
                </a:lnTo>
                <a:lnTo>
                  <a:pt x="9091" y="17989"/>
                </a:lnTo>
                <a:lnTo>
                  <a:pt x="134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34 -0.00301 L -0.01233 0.06459 L -0.01858 0.11551 L -0.025 0.15556 E">
                                      <p:cBhvr>
                                        <p:cTn id="6" dur="3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3000"/>
                            </p:stCondLst>
                            <p:childTnLst>
                              <p:par>
                                <p:cTn id="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25" dur="3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30" dur="3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7000"/>
                            </p:stCondLst>
                            <p:childTnLst>
                              <p:par>
                                <p:cTn id="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34 -3.4104E-006 L -0.05 -3.4104E-006 E">
                                      <p:cBhvr>
                                        <p:cTn id="36" dur="2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5.83815E-006 L 3.33333E-006 0.12207 E">
                                      <p:cBhvr>
                                        <p:cTn id="38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9000"/>
                            </p:stCondLst>
                            <p:childTnLst>
                              <p:par>
                                <p:cTn id="42" nodeType="after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4.44444E-006 1.11111E-006 L -0.00468 0.03403 L -0.00798 0.05509 L -0.01111 0.06991 E">
                                      <p:cBhvr>
                                        <p:cTn id="43" dur="3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49" dur="3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35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35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4500"/>
                            </p:stCondLst>
                            <p:childTnLst>
                              <p:par>
                                <p:cTn id="66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5E-006 2.96296E-006 L -0.00833 2.96296E-006 E">
                                      <p:cBhvr>
                                        <p:cTn id="67" dur="2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3.33333E-006 4.79769E-006 L 3.33333E-006 0.09271 E">
                                      <p:cBhvr>
                                        <p:cTn id="69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7500"/>
                            </p:stCondLst>
                            <p:childTnLst>
                              <p:par>
                                <p:cTn id="71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6.06936E-006 L -0.00781 0.01895 L -0.01424 0.04207 L -0.02222 0.06335 E">
                                      <p:cBhvr>
                                        <p:cTn id="76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95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5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1000"/>
                            </p:stCondLst>
                            <p:childTnLst>
                              <p:par>
                                <p:cTn id="92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2000"/>
                            </p:stCondLst>
                            <p:childTnLst>
                              <p:par>
                                <p:cTn id="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79769E-006 L 3.33333E-006 0.1926 E">
                                      <p:cBhvr>
                                        <p:cTn id="98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33 -2.08092E-006 L -0.05937 0.00093 E">
                                      <p:cBhvr>
                                        <p:cTn id="100" dur="2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4000"/>
                            </p:stCondLst>
                            <p:childTnLst>
                              <p:par>
                                <p:cTn id="102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5E-006 -4.91329E-006 L -0.00798 0.01041 L -0.01579 0.03168 L -0.03176 0.05688 E">
                                      <p:cBhvr>
                                        <p:cTn id="115" dur="2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600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70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8000"/>
                            </p:stCondLst>
                            <p:childTnLst>
                              <p:par>
                                <p:cTn id="135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1666 2.77457E-006 L -0.05104 0.00092 E">
                                      <p:cBhvr>
                                        <p:cTn id="136" dur="2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7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5.55556E-007 9.65318E-006 L 5.55556E-007 0.0444 E">
                                      <p:cBhvr>
                                        <p:cTn id="138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1000"/>
                            </p:stCondLst>
                            <p:childTnLst>
                              <p:par>
                                <p:cTn id="140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6 -0.00971 L -0.01111 0.00115 L -0.03264 0.01017 L -0.04444 0.01595 L -0.04757 0.03699 L -0.0651 0.04115 E">
                                      <p:cBhvr>
                                        <p:cTn id="145" dur="10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151" dur="10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41000"/>
                            </p:stCondLst>
                            <p:childTnLst>
                              <p:par>
                                <p:cTn id="162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4572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4572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4572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4872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Oval 3"/>
          <p:cNvSpPr/>
          <p:nvPr/>
        </p:nvSpPr>
        <p:spPr>
          <a:xfrm>
            <a:off x="1676520" y="4343400"/>
            <a:ext cx="75960" cy="763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4"/>
          <p:cNvGrpSpPr/>
          <p:nvPr/>
        </p:nvGrpSpPr>
        <p:grpSpPr>
          <a:xfrm>
            <a:off x="380880" y="990720"/>
            <a:ext cx="6019920" cy="4343400"/>
            <a:chOff x="380880" y="990720"/>
            <a:chExt cx="6019920" cy="4343400"/>
          </a:xfrm>
        </p:grpSpPr>
        <p:grpSp>
          <p:nvGrpSpPr>
            <p:cNvPr id="292" name="Group 5"/>
            <p:cNvGrpSpPr/>
            <p:nvPr/>
          </p:nvGrpSpPr>
          <p:grpSpPr>
            <a:xfrm>
              <a:off x="380880" y="4800600"/>
              <a:ext cx="6019920" cy="368280"/>
              <a:chOff x="380880" y="4800600"/>
              <a:chExt cx="6019920" cy="368280"/>
            </a:xfrm>
          </p:grpSpPr>
          <p:sp>
            <p:nvSpPr>
              <p:cNvPr id="293" name="Line 6"/>
              <p:cNvSpPr/>
              <p:nvPr/>
            </p:nvSpPr>
            <p:spPr>
              <a:xfrm>
                <a:off x="380880" y="4876920"/>
                <a:ext cx="5943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Text Box 7"/>
              <p:cNvSpPr/>
              <p:nvPr/>
            </p:nvSpPr>
            <p:spPr>
              <a:xfrm>
                <a:off x="6095880" y="480060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х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Group 8"/>
            <p:cNvGrpSpPr/>
            <p:nvPr/>
          </p:nvGrpSpPr>
          <p:grpSpPr>
            <a:xfrm>
              <a:off x="1371600" y="990720"/>
              <a:ext cx="380880" cy="4343400"/>
              <a:chOff x="1371600" y="990720"/>
              <a:chExt cx="380880" cy="4343400"/>
            </a:xfrm>
          </p:grpSpPr>
          <p:grpSp>
            <p:nvGrpSpPr>
              <p:cNvPr id="296" name="Group 9"/>
              <p:cNvGrpSpPr/>
              <p:nvPr/>
            </p:nvGrpSpPr>
            <p:grpSpPr>
              <a:xfrm>
                <a:off x="1371600" y="990720"/>
                <a:ext cx="304920" cy="4343400"/>
                <a:chOff x="1371600" y="990720"/>
                <a:chExt cx="304920" cy="4343400"/>
              </a:xfrm>
            </p:grpSpPr>
            <p:sp>
              <p:nvSpPr>
                <p:cNvPr id="297" name="Line 10"/>
                <p:cNvSpPr/>
                <p:nvPr/>
              </p:nvSpPr>
              <p:spPr>
                <a:xfrm flipV="1">
                  <a:off x="1676520" y="1143000"/>
                  <a:ext cx="0" cy="4191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Text Box 11"/>
                <p:cNvSpPr/>
                <p:nvPr/>
              </p:nvSpPr>
              <p:spPr>
                <a:xfrm>
                  <a:off x="1371600" y="990720"/>
                  <a:ext cx="304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y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9" name="Text Box 12"/>
              <p:cNvSpPr/>
              <p:nvPr/>
            </p:nvSpPr>
            <p:spPr>
              <a:xfrm>
                <a:off x="1447920" y="4800600"/>
                <a:ext cx="30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0" name="Arc 13"/>
          <p:cNvSpPr/>
          <p:nvPr/>
        </p:nvSpPr>
        <p:spPr>
          <a:xfrm>
            <a:off x="2209680" y="4648320"/>
            <a:ext cx="406440" cy="228600"/>
          </a:xfrm>
          <a:custGeom>
            <a:avLst/>
            <a:gdLst>
              <a:gd name="textAreaLeft" fmla="*/ 0 w 406440"/>
              <a:gd name="textAreaRight" fmla="*/ 406800 w 40644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fill="none" w="21503" h="21230">
                <a:moveTo>
                  <a:pt x="3980" y="0"/>
                </a:moveTo>
                <a:cubicBezTo>
                  <a:pt x="13443" y="1774"/>
                  <a:pt x="20588" y="9596"/>
                  <a:pt x="21502" y="19180"/>
                </a:cubicBezTo>
              </a:path>
              <a:path stroke="0" w="21503" h="21230">
                <a:moveTo>
                  <a:pt x="3980" y="0"/>
                </a:moveTo>
                <a:cubicBezTo>
                  <a:pt x="13443" y="1774"/>
                  <a:pt x="20588" y="9596"/>
                  <a:pt x="21502" y="19180"/>
                </a:cubicBezTo>
                <a:lnTo>
                  <a:pt x="0" y="21230"/>
                </a:lnTo>
                <a:close/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4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15"/>
          <p:cNvSpPr/>
          <p:nvPr/>
        </p:nvSpPr>
        <p:spPr>
          <a:xfrm flipH="1">
            <a:off x="1676520" y="4419720"/>
            <a:ext cx="13716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16"/>
          <p:cNvSpPr/>
          <p:nvPr/>
        </p:nvSpPr>
        <p:spPr>
          <a:xfrm flipH="1">
            <a:off x="1676160" y="1600200"/>
            <a:ext cx="281916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17"/>
          <p:cNvSpPr/>
          <p:nvPr/>
        </p:nvSpPr>
        <p:spPr>
          <a:xfrm>
            <a:off x="3048120" y="441972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18"/>
          <p:cNvSpPr/>
          <p:nvPr/>
        </p:nvSpPr>
        <p:spPr>
          <a:xfrm>
            <a:off x="4495680" y="1600200"/>
            <a:ext cx="0" cy="32767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19"/>
          <p:cNvSpPr/>
          <p:nvPr/>
        </p:nvSpPr>
        <p:spPr>
          <a:xfrm>
            <a:off x="1676520" y="15238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20"/>
          <p:cNvSpPr/>
          <p:nvPr/>
        </p:nvSpPr>
        <p:spPr>
          <a:xfrm>
            <a:off x="4495680" y="4800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21"/>
          <p:cNvSpPr/>
          <p:nvPr/>
        </p:nvSpPr>
        <p:spPr>
          <a:xfrm>
            <a:off x="3048120" y="48769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Object 22"/>
              <p:cNvSpPr txBox="1"/>
              <p:nvPr/>
            </p:nvSpPr>
            <p:spPr>
              <a:xfrm>
                <a:off x="2819520" y="4495680"/>
                <a:ext cx="31572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Object 23"/>
              <p:cNvSpPr txBox="1"/>
              <p:nvPr/>
            </p:nvSpPr>
            <p:spPr>
              <a:xfrm>
                <a:off x="3124080" y="4952880"/>
                <a:ext cx="47628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</m:t>
                    </m:r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1" name="Rectangle 24"/>
          <p:cNvSpPr/>
          <p:nvPr/>
        </p:nvSpPr>
        <p:spPr>
          <a:xfrm>
            <a:off x="1800" y="247896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25"/>
          <p:cNvSpPr/>
          <p:nvPr/>
        </p:nvSpPr>
        <p:spPr>
          <a:xfrm>
            <a:off x="2669040" y="464760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26"/>
          <p:cNvSpPr/>
          <p:nvPr/>
        </p:nvSpPr>
        <p:spPr>
          <a:xfrm>
            <a:off x="2160" y="4114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27"/>
          <p:cNvSpPr/>
          <p:nvPr/>
        </p:nvSpPr>
        <p:spPr>
          <a:xfrm>
            <a:off x="1800" y="388548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28"/>
          <p:cNvSpPr/>
          <p:nvPr/>
        </p:nvSpPr>
        <p:spPr>
          <a:xfrm>
            <a:off x="533520" y="4084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Object 29"/>
              <p:cNvSpPr txBox="1"/>
              <p:nvPr/>
            </p:nvSpPr>
            <p:spPr>
              <a:xfrm>
                <a:off x="4495680" y="4952880"/>
                <a:ext cx="2970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Object 30"/>
              <p:cNvSpPr txBox="1"/>
              <p:nvPr/>
            </p:nvSpPr>
            <p:spPr>
              <a:xfrm>
                <a:off x="1143000" y="3733920"/>
                <a:ext cx="5014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8" name="Line 31"/>
          <p:cNvSpPr/>
          <p:nvPr/>
        </p:nvSpPr>
        <p:spPr>
          <a:xfrm>
            <a:off x="3048120" y="4876920"/>
            <a:ext cx="6094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32"/>
          <p:cNvSpPr/>
          <p:nvPr/>
        </p:nvSpPr>
        <p:spPr>
          <a:xfrm flipV="1">
            <a:off x="1676520" y="4114440"/>
            <a:ext cx="0" cy="304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33"/>
          <p:cNvSpPr/>
          <p:nvPr/>
        </p:nvSpPr>
        <p:spPr>
          <a:xfrm>
            <a:off x="1676520" y="320040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34"/>
          <p:cNvSpPr/>
          <p:nvPr/>
        </p:nvSpPr>
        <p:spPr>
          <a:xfrm flipV="1">
            <a:off x="4191120" y="320004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Object 35"/>
              <p:cNvSpPr txBox="1"/>
              <p:nvPr/>
            </p:nvSpPr>
            <p:spPr>
              <a:xfrm>
                <a:off x="1066680" y="2590920"/>
                <a:ext cx="45720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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37"/>
              <p:cNvSpPr txBox="1"/>
              <p:nvPr/>
            </p:nvSpPr>
            <p:spPr>
              <a:xfrm>
                <a:off x="2438280" y="4495680"/>
                <a:ext cx="30492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Object 38"/>
              <p:cNvSpPr txBox="1"/>
              <p:nvPr/>
            </p:nvSpPr>
            <p:spPr>
              <a:xfrm>
                <a:off x="6400800" y="838080"/>
                <a:ext cx="2297160" cy="104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Object 39"/>
              <p:cNvSpPr txBox="1"/>
              <p:nvPr/>
            </p:nvSpPr>
            <p:spPr>
              <a:xfrm>
                <a:off x="6934320" y="3352680"/>
                <a:ext cx="152388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6" name="Text Box 40"/>
          <p:cNvSpPr/>
          <p:nvPr/>
        </p:nvSpPr>
        <p:spPr>
          <a:xfrm>
            <a:off x="6553080" y="228600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k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угловой коэффициент прямой(секуще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Object 41"/>
              <p:cNvSpPr txBox="1"/>
              <p:nvPr/>
            </p:nvSpPr>
            <p:spPr>
              <a:xfrm>
                <a:off x="3429000" y="762120"/>
                <a:ext cx="1066680" cy="36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8" name="Line 42"/>
          <p:cNvSpPr/>
          <p:nvPr/>
        </p:nvSpPr>
        <p:spPr>
          <a:xfrm>
            <a:off x="4267080" y="2666880"/>
            <a:ext cx="0" cy="22100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43"/>
          <p:cNvSpPr/>
          <p:nvPr/>
        </p:nvSpPr>
        <p:spPr>
          <a:xfrm flipH="1">
            <a:off x="1676520" y="2666880"/>
            <a:ext cx="259056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44"/>
          <p:cNvSpPr/>
          <p:nvPr/>
        </p:nvSpPr>
        <p:spPr>
          <a:xfrm>
            <a:off x="4419720" y="1523880"/>
            <a:ext cx="152280" cy="152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reeform 45"/>
          <p:cNvSpPr/>
          <p:nvPr/>
        </p:nvSpPr>
        <p:spPr>
          <a:xfrm>
            <a:off x="228600" y="1066680"/>
            <a:ext cx="4343400" cy="3646440"/>
          </a:xfrm>
          <a:custGeom>
            <a:avLst/>
            <a:gdLst>
              <a:gd name="textAreaLeft" fmla="*/ 0 w 4343400"/>
              <a:gd name="textAreaRight" fmla="*/ 4343760 w 4343400"/>
              <a:gd name="textAreaTop" fmla="*/ 0 h 3646440"/>
              <a:gd name="textAreaBottom" fmla="*/ 3646800 h 3646440"/>
            </a:gdLst>
            <a:ahLst/>
            <a:rect l="textAreaLeft" t="textAreaTop" r="textAreaRight" b="textAreaBottom"/>
            <a:pathLst>
              <a:path w="2709" h="2119">
                <a:moveTo>
                  <a:pt x="0" y="2119"/>
                </a:moveTo>
                <a:cubicBezTo>
                  <a:pt x="357" y="2060"/>
                  <a:pt x="1690" y="2118"/>
                  <a:pt x="2142" y="1765"/>
                </a:cubicBezTo>
                <a:cubicBezTo>
                  <a:pt x="2594" y="1412"/>
                  <a:pt x="2591" y="368"/>
                  <a:pt x="2709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46"/>
          <p:cNvSpPr/>
          <p:nvPr/>
        </p:nvSpPr>
        <p:spPr>
          <a:xfrm flipV="1">
            <a:off x="380880" y="3580920"/>
            <a:ext cx="5639040" cy="16002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47"/>
          <p:cNvSpPr/>
          <p:nvPr/>
        </p:nvSpPr>
        <p:spPr>
          <a:xfrm>
            <a:off x="2971800" y="4343400"/>
            <a:ext cx="152280" cy="1522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48"/>
          <p:cNvSpPr/>
          <p:nvPr/>
        </p:nvSpPr>
        <p:spPr>
          <a:xfrm flipV="1">
            <a:off x="1828800" y="1523880"/>
            <a:ext cx="3276720" cy="4572000"/>
          </a:xfrm>
          <a:prstGeom prst="line">
            <a:avLst/>
          </a:prstGeom>
          <a:ln w="19080">
            <a:solidFill>
              <a:srgbClr val="1a74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49"/>
          <p:cNvSpPr/>
          <p:nvPr/>
        </p:nvSpPr>
        <p:spPr>
          <a:xfrm flipV="1">
            <a:off x="2209680" y="1066320"/>
            <a:ext cx="2590920" cy="4876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50"/>
          <p:cNvSpPr/>
          <p:nvPr/>
        </p:nvSpPr>
        <p:spPr>
          <a:xfrm flipV="1">
            <a:off x="1371600" y="2057400"/>
            <a:ext cx="3886200" cy="4114800"/>
          </a:xfrm>
          <a:prstGeom prst="line">
            <a:avLst/>
          </a:prstGeom>
          <a:ln w="19080">
            <a:solidFill>
              <a:srgbClr val="2c6c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51"/>
          <p:cNvSpPr/>
          <p:nvPr/>
        </p:nvSpPr>
        <p:spPr>
          <a:xfrm flipV="1">
            <a:off x="1371600" y="2057400"/>
            <a:ext cx="4648320" cy="3657600"/>
          </a:xfrm>
          <a:prstGeom prst="line">
            <a:avLst/>
          </a:prstGeom>
          <a:ln w="19080">
            <a:solidFill>
              <a:srgbClr val="3080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52"/>
          <p:cNvSpPr/>
          <p:nvPr/>
        </p:nvSpPr>
        <p:spPr>
          <a:xfrm flipV="1">
            <a:off x="1143000" y="2742840"/>
            <a:ext cx="5334120" cy="2590920"/>
          </a:xfrm>
          <a:prstGeom prst="line">
            <a:avLst/>
          </a:prstGeom>
          <a:ln w="19080">
            <a:solidFill>
              <a:srgbClr val="329a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53"/>
          <p:cNvSpPr/>
          <p:nvPr/>
        </p:nvSpPr>
        <p:spPr>
          <a:xfrm flipH="1">
            <a:off x="4266720" y="4876920"/>
            <a:ext cx="2286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54"/>
          <p:cNvSpPr/>
          <p:nvPr/>
        </p:nvSpPr>
        <p:spPr>
          <a:xfrm flipV="1">
            <a:off x="1676520" y="1599840"/>
            <a:ext cx="0" cy="10666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55"/>
          <p:cNvSpPr/>
          <p:nvPr/>
        </p:nvSpPr>
        <p:spPr>
          <a:xfrm>
            <a:off x="4191120" y="2590920"/>
            <a:ext cx="152280" cy="1522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56"/>
          <p:cNvSpPr/>
          <p:nvPr/>
        </p:nvSpPr>
        <p:spPr>
          <a:xfrm>
            <a:off x="4191120" y="4876920"/>
            <a:ext cx="759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57"/>
          <p:cNvSpPr/>
          <p:nvPr/>
        </p:nvSpPr>
        <p:spPr>
          <a:xfrm flipV="1">
            <a:off x="1676520" y="2666880"/>
            <a:ext cx="0" cy="5335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58"/>
          <p:cNvSpPr/>
          <p:nvPr/>
        </p:nvSpPr>
        <p:spPr>
          <a:xfrm>
            <a:off x="4114800" y="3124080"/>
            <a:ext cx="152280" cy="152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59"/>
          <p:cNvSpPr/>
          <p:nvPr/>
        </p:nvSpPr>
        <p:spPr>
          <a:xfrm>
            <a:off x="3962520" y="365760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60"/>
          <p:cNvSpPr/>
          <p:nvPr/>
        </p:nvSpPr>
        <p:spPr>
          <a:xfrm flipH="1">
            <a:off x="1676520" y="3657600"/>
            <a:ext cx="22860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61"/>
          <p:cNvSpPr/>
          <p:nvPr/>
        </p:nvSpPr>
        <p:spPr>
          <a:xfrm>
            <a:off x="3962520" y="4876920"/>
            <a:ext cx="2286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62"/>
          <p:cNvSpPr/>
          <p:nvPr/>
        </p:nvSpPr>
        <p:spPr>
          <a:xfrm>
            <a:off x="1676520" y="3200400"/>
            <a:ext cx="0" cy="4572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Oval 63"/>
          <p:cNvSpPr/>
          <p:nvPr/>
        </p:nvSpPr>
        <p:spPr>
          <a:xfrm>
            <a:off x="3886200" y="3581280"/>
            <a:ext cx="152280" cy="152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64"/>
          <p:cNvSpPr/>
          <p:nvPr/>
        </p:nvSpPr>
        <p:spPr>
          <a:xfrm>
            <a:off x="3657600" y="411480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65"/>
          <p:cNvSpPr/>
          <p:nvPr/>
        </p:nvSpPr>
        <p:spPr>
          <a:xfrm flipH="1">
            <a:off x="1676160" y="4114800"/>
            <a:ext cx="19810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66"/>
          <p:cNvSpPr/>
          <p:nvPr/>
        </p:nvSpPr>
        <p:spPr>
          <a:xfrm>
            <a:off x="3657600" y="4876920"/>
            <a:ext cx="3049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67"/>
          <p:cNvSpPr/>
          <p:nvPr/>
        </p:nvSpPr>
        <p:spPr>
          <a:xfrm>
            <a:off x="1676520" y="3657600"/>
            <a:ext cx="0" cy="4572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68"/>
          <p:cNvSpPr/>
          <p:nvPr/>
        </p:nvSpPr>
        <p:spPr>
          <a:xfrm>
            <a:off x="3581280" y="4038480"/>
            <a:ext cx="152640" cy="152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69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Object 70"/>
              <p:cNvSpPr txBox="1"/>
              <p:nvPr/>
            </p:nvSpPr>
            <p:spPr>
              <a:xfrm>
                <a:off x="3581280" y="4952880"/>
                <a:ext cx="83844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7" name="Line 71"/>
          <p:cNvSpPr/>
          <p:nvPr/>
        </p:nvSpPr>
        <p:spPr>
          <a:xfrm>
            <a:off x="1676520" y="4267080"/>
            <a:ext cx="0" cy="152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72"/>
          <p:cNvSpPr/>
          <p:nvPr/>
        </p:nvSpPr>
        <p:spPr>
          <a:xfrm>
            <a:off x="609480" y="5410080"/>
            <a:ext cx="75438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Секущая стремится занять положение касательной.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о есть, касательная есть предельное положение секущ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73"/>
          <p:cNvSpPr/>
          <p:nvPr/>
        </p:nvSpPr>
        <p:spPr>
          <a:xfrm>
            <a:off x="6423120" y="3421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74"/>
          <p:cNvSpPr/>
          <p:nvPr/>
        </p:nvSpPr>
        <p:spPr>
          <a:xfrm rot="20585400">
            <a:off x="4572360" y="373356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сате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75"/>
          <p:cNvSpPr/>
          <p:nvPr/>
        </p:nvSpPr>
        <p:spPr>
          <a:xfrm rot="18012000">
            <a:off x="2927160" y="24829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Секущ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d2d87"/>
                </a:solidFill>
                <a:latin typeface="Comic Sans MS"/>
              </a:rPr>
              <a:t>Геометрический смысл отношения      п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Group 80"/>
          <p:cNvGrpSpPr/>
          <p:nvPr/>
        </p:nvGrpSpPr>
        <p:grpSpPr>
          <a:xfrm>
            <a:off x="5486400" y="0"/>
            <a:ext cx="2438280" cy="762120"/>
            <a:chOff x="5486400" y="0"/>
            <a:chExt cx="2438280" cy="762120"/>
          </a:xfrm>
        </p:grpSpPr>
        <mc:AlternateContent>
          <mc:Choice xmlns:a14="http://schemas.microsoft.com/office/drawing/2010/main" Requires="a14">
            <p:sp>
              <p:nvSpPr>
                <p:cNvPr id="364" name="Object 81"/>
                <p:cNvSpPr txBox="1"/>
                <p:nvPr/>
              </p:nvSpPr>
              <p:spPr>
                <a:xfrm>
                  <a:off x="6781680" y="228600"/>
                  <a:ext cx="1143000" cy="39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х</m:t>
                      </m:r>
                      <m:r>
                        <m:t xml:space="preserve">→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65" name="Object 82"/>
                <p:cNvSpPr txBox="1"/>
                <p:nvPr/>
              </p:nvSpPr>
              <p:spPr>
                <a:xfrm>
                  <a:off x="5486400" y="0"/>
                  <a:ext cx="474840" cy="76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Δy</m:t>
                          </m:r>
                        </m:num>
                        <m:den>
                          <m:r>
                            <m:t xml:space="preserve">Δx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66" name="Text Box 83"/>
          <p:cNvSpPr/>
          <p:nvPr/>
        </p:nvSpPr>
        <p:spPr>
          <a:xfrm>
            <a:off x="0" y="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нспек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Object 84"/>
              <p:cNvSpPr txBox="1"/>
              <p:nvPr/>
            </p:nvSpPr>
            <p:spPr>
              <a:xfrm>
                <a:off x="609480" y="6024600"/>
                <a:ext cx="739152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Δх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угловой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коэффициент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секущей</m:t>
                        </m:r>
                        <m:r>
                          <m:t xml:space="preserve"> </m:t>
                        </m:r>
                        <m:r>
                          <m:t xml:space="preserve">→</m:t>
                        </m:r>
                        <m:r>
                          <m:t xml:space="preserve">к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угловому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коэффициенту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касательной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68" name="AutoShape 85"/>
          <p:cNvSpPr/>
          <p:nvPr/>
        </p:nvSpPr>
        <p:spPr>
          <a:xfrm>
            <a:off x="8839080" y="662940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4400" y="3837"/>
                </a:moveTo>
                <a:lnTo>
                  <a:pt x="16976" y="6448"/>
                </a:lnTo>
                <a:lnTo>
                  <a:pt x="16976" y="4707"/>
                </a:lnTo>
                <a:lnTo>
                  <a:pt x="18752" y="4707"/>
                </a:lnTo>
                <a:lnTo>
                  <a:pt x="18752" y="8224"/>
                </a:lnTo>
                <a:lnTo>
                  <a:pt x="21363" y="10800"/>
                </a:lnTo>
                <a:lnTo>
                  <a:pt x="19709" y="10800"/>
                </a:lnTo>
                <a:lnTo>
                  <a:pt x="19709" y="17989"/>
                </a:lnTo>
                <a:lnTo>
                  <a:pt x="9091" y="17989"/>
                </a:lnTo>
                <a:lnTo>
                  <a:pt x="9091" y="10800"/>
                </a:lnTo>
                <a:lnTo>
                  <a:pt x="7437" y="10800"/>
                </a:lnTo>
                <a:close/>
              </a:path>
              <a:path fill="darkenLess" w="28800" h="21600">
                <a:moveTo>
                  <a:pt x="16976" y="6448"/>
                </a:moveTo>
                <a:lnTo>
                  <a:pt x="16976" y="4707"/>
                </a:lnTo>
                <a:lnTo>
                  <a:pt x="18752" y="4707"/>
                </a:lnTo>
                <a:lnTo>
                  <a:pt x="18752" y="8224"/>
                </a:lnTo>
                <a:close/>
              </a:path>
              <a:path fill="darkenLess" w="28800" h="21600">
                <a:moveTo>
                  <a:pt x="13477" y="14299"/>
                </a:moveTo>
                <a:lnTo>
                  <a:pt x="15323" y="14299"/>
                </a:lnTo>
                <a:lnTo>
                  <a:pt x="15323" y="17989"/>
                </a:lnTo>
                <a:lnTo>
                  <a:pt x="19709" y="17989"/>
                </a:lnTo>
                <a:lnTo>
                  <a:pt x="19709" y="10800"/>
                </a:lnTo>
                <a:lnTo>
                  <a:pt x="9091" y="10800"/>
                </a:lnTo>
                <a:lnTo>
                  <a:pt x="9091" y="17989"/>
                </a:lnTo>
                <a:lnTo>
                  <a:pt x="134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Comic Sans MS"/>
              </a:rPr>
              <a:t>Определение производной от функции в данной точк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3"/>
          <p:cNvSpPr/>
          <p:nvPr/>
        </p:nvSpPr>
        <p:spPr>
          <a:xfrm>
            <a:off x="1676520" y="4343400"/>
            <a:ext cx="75960" cy="763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Group 4"/>
          <p:cNvGrpSpPr/>
          <p:nvPr/>
        </p:nvGrpSpPr>
        <p:grpSpPr>
          <a:xfrm>
            <a:off x="380880" y="990720"/>
            <a:ext cx="6019920" cy="4343400"/>
            <a:chOff x="380880" y="990720"/>
            <a:chExt cx="6019920" cy="4343400"/>
          </a:xfrm>
        </p:grpSpPr>
        <p:grpSp>
          <p:nvGrpSpPr>
            <p:cNvPr id="372" name="Group 5"/>
            <p:cNvGrpSpPr/>
            <p:nvPr/>
          </p:nvGrpSpPr>
          <p:grpSpPr>
            <a:xfrm>
              <a:off x="380880" y="4800600"/>
              <a:ext cx="6019920" cy="368280"/>
              <a:chOff x="380880" y="4800600"/>
              <a:chExt cx="6019920" cy="368280"/>
            </a:xfrm>
          </p:grpSpPr>
          <p:sp>
            <p:nvSpPr>
              <p:cNvPr id="373" name="Line 6"/>
              <p:cNvSpPr/>
              <p:nvPr/>
            </p:nvSpPr>
            <p:spPr>
              <a:xfrm>
                <a:off x="380880" y="4876920"/>
                <a:ext cx="5943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Text Box 7"/>
              <p:cNvSpPr/>
              <p:nvPr/>
            </p:nvSpPr>
            <p:spPr>
              <a:xfrm>
                <a:off x="6095880" y="480060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х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5" name="Group 8"/>
            <p:cNvGrpSpPr/>
            <p:nvPr/>
          </p:nvGrpSpPr>
          <p:grpSpPr>
            <a:xfrm>
              <a:off x="1371600" y="990720"/>
              <a:ext cx="380880" cy="4343400"/>
              <a:chOff x="1371600" y="990720"/>
              <a:chExt cx="380880" cy="4343400"/>
            </a:xfrm>
          </p:grpSpPr>
          <p:grpSp>
            <p:nvGrpSpPr>
              <p:cNvPr id="376" name="Group 9"/>
              <p:cNvGrpSpPr/>
              <p:nvPr/>
            </p:nvGrpSpPr>
            <p:grpSpPr>
              <a:xfrm>
                <a:off x="1371600" y="990720"/>
                <a:ext cx="304920" cy="4343400"/>
                <a:chOff x="1371600" y="990720"/>
                <a:chExt cx="304920" cy="4343400"/>
              </a:xfrm>
            </p:grpSpPr>
            <p:sp>
              <p:nvSpPr>
                <p:cNvPr id="377" name="Line 10"/>
                <p:cNvSpPr/>
                <p:nvPr/>
              </p:nvSpPr>
              <p:spPr>
                <a:xfrm flipV="1">
                  <a:off x="1676520" y="1143000"/>
                  <a:ext cx="0" cy="4191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Text Box 11"/>
                <p:cNvSpPr/>
                <p:nvPr/>
              </p:nvSpPr>
              <p:spPr>
                <a:xfrm>
                  <a:off x="1371600" y="990720"/>
                  <a:ext cx="304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y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9" name="Text Box 12"/>
              <p:cNvSpPr/>
              <p:nvPr/>
            </p:nvSpPr>
            <p:spPr>
              <a:xfrm>
                <a:off x="1447920" y="4800600"/>
                <a:ext cx="30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0" name="Arc 13"/>
          <p:cNvSpPr/>
          <p:nvPr/>
        </p:nvSpPr>
        <p:spPr>
          <a:xfrm>
            <a:off x="2209680" y="4648320"/>
            <a:ext cx="406440" cy="228600"/>
          </a:xfrm>
          <a:custGeom>
            <a:avLst/>
            <a:gdLst>
              <a:gd name="textAreaLeft" fmla="*/ 0 w 406440"/>
              <a:gd name="textAreaRight" fmla="*/ 406800 w 40644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fill="none" w="21503" h="21230">
                <a:moveTo>
                  <a:pt x="3980" y="0"/>
                </a:moveTo>
                <a:cubicBezTo>
                  <a:pt x="13443" y="1774"/>
                  <a:pt x="20588" y="9596"/>
                  <a:pt x="21502" y="19180"/>
                </a:cubicBezTo>
              </a:path>
              <a:path stroke="0" w="21503" h="21230">
                <a:moveTo>
                  <a:pt x="3980" y="0"/>
                </a:moveTo>
                <a:cubicBezTo>
                  <a:pt x="13443" y="1774"/>
                  <a:pt x="20588" y="9596"/>
                  <a:pt x="21502" y="19180"/>
                </a:cubicBezTo>
                <a:lnTo>
                  <a:pt x="0" y="21230"/>
                </a:lnTo>
                <a:close/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14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5"/>
          <p:cNvSpPr/>
          <p:nvPr/>
        </p:nvSpPr>
        <p:spPr>
          <a:xfrm flipH="1">
            <a:off x="1676520" y="4419720"/>
            <a:ext cx="13716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16"/>
          <p:cNvSpPr/>
          <p:nvPr/>
        </p:nvSpPr>
        <p:spPr>
          <a:xfrm flipH="1">
            <a:off x="1676160" y="1600200"/>
            <a:ext cx="281916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17"/>
          <p:cNvSpPr/>
          <p:nvPr/>
        </p:nvSpPr>
        <p:spPr>
          <a:xfrm>
            <a:off x="3048120" y="441972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18"/>
          <p:cNvSpPr/>
          <p:nvPr/>
        </p:nvSpPr>
        <p:spPr>
          <a:xfrm>
            <a:off x="4495680" y="1600200"/>
            <a:ext cx="0" cy="32767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19"/>
          <p:cNvSpPr/>
          <p:nvPr/>
        </p:nvSpPr>
        <p:spPr>
          <a:xfrm>
            <a:off x="1676520" y="15238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20"/>
          <p:cNvSpPr/>
          <p:nvPr/>
        </p:nvSpPr>
        <p:spPr>
          <a:xfrm>
            <a:off x="4495680" y="4800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21"/>
          <p:cNvSpPr/>
          <p:nvPr/>
        </p:nvSpPr>
        <p:spPr>
          <a:xfrm>
            <a:off x="3048120" y="48769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9" name="Object 22"/>
              <p:cNvSpPr txBox="1"/>
              <p:nvPr/>
            </p:nvSpPr>
            <p:spPr>
              <a:xfrm>
                <a:off x="2819520" y="4495680"/>
                <a:ext cx="31572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Object 23"/>
              <p:cNvSpPr txBox="1"/>
              <p:nvPr/>
            </p:nvSpPr>
            <p:spPr>
              <a:xfrm>
                <a:off x="3124080" y="4952880"/>
                <a:ext cx="47628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</m:t>
                    </m:r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1" name="Rectangle 24"/>
          <p:cNvSpPr/>
          <p:nvPr/>
        </p:nvSpPr>
        <p:spPr>
          <a:xfrm>
            <a:off x="1800" y="247896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25"/>
          <p:cNvSpPr/>
          <p:nvPr/>
        </p:nvSpPr>
        <p:spPr>
          <a:xfrm>
            <a:off x="2669040" y="464760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26"/>
          <p:cNvSpPr/>
          <p:nvPr/>
        </p:nvSpPr>
        <p:spPr>
          <a:xfrm>
            <a:off x="2160" y="4114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27"/>
          <p:cNvSpPr/>
          <p:nvPr/>
        </p:nvSpPr>
        <p:spPr>
          <a:xfrm>
            <a:off x="1800" y="388548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28"/>
          <p:cNvSpPr/>
          <p:nvPr/>
        </p:nvSpPr>
        <p:spPr>
          <a:xfrm>
            <a:off x="533520" y="4084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Object 29"/>
              <p:cNvSpPr txBox="1"/>
              <p:nvPr/>
            </p:nvSpPr>
            <p:spPr>
              <a:xfrm>
                <a:off x="4495680" y="4952880"/>
                <a:ext cx="2970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Object 30"/>
              <p:cNvSpPr txBox="1"/>
              <p:nvPr/>
            </p:nvSpPr>
            <p:spPr>
              <a:xfrm>
                <a:off x="1143000" y="3733920"/>
                <a:ext cx="5014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8" name="Line 31"/>
          <p:cNvSpPr/>
          <p:nvPr/>
        </p:nvSpPr>
        <p:spPr>
          <a:xfrm>
            <a:off x="3048120" y="4876920"/>
            <a:ext cx="6094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32"/>
          <p:cNvSpPr/>
          <p:nvPr/>
        </p:nvSpPr>
        <p:spPr>
          <a:xfrm flipV="1">
            <a:off x="1676520" y="4114440"/>
            <a:ext cx="0" cy="304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33"/>
          <p:cNvSpPr/>
          <p:nvPr/>
        </p:nvSpPr>
        <p:spPr>
          <a:xfrm>
            <a:off x="1676520" y="320040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34"/>
          <p:cNvSpPr/>
          <p:nvPr/>
        </p:nvSpPr>
        <p:spPr>
          <a:xfrm flipV="1">
            <a:off x="4191120" y="320004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Object 35"/>
              <p:cNvSpPr txBox="1"/>
              <p:nvPr/>
            </p:nvSpPr>
            <p:spPr>
              <a:xfrm>
                <a:off x="1066680" y="2590920"/>
                <a:ext cx="45720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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Object 36"/>
              <p:cNvSpPr txBox="1"/>
              <p:nvPr/>
            </p:nvSpPr>
            <p:spPr>
              <a:xfrm>
                <a:off x="2438280" y="4495680"/>
                <a:ext cx="30492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Object 37"/>
              <p:cNvSpPr txBox="1"/>
              <p:nvPr/>
            </p:nvSpPr>
            <p:spPr>
              <a:xfrm>
                <a:off x="6629400" y="457200"/>
                <a:ext cx="229716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Object 38"/>
              <p:cNvSpPr txBox="1"/>
              <p:nvPr/>
            </p:nvSpPr>
            <p:spPr>
              <a:xfrm>
                <a:off x="7238880" y="2514600"/>
                <a:ext cx="152424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6" name="Text Box 39"/>
          <p:cNvSpPr/>
          <p:nvPr/>
        </p:nvSpPr>
        <p:spPr>
          <a:xfrm>
            <a:off x="6781680" y="160020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k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угловой коэффициент прямой(секуще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Object 40"/>
              <p:cNvSpPr txBox="1"/>
              <p:nvPr/>
            </p:nvSpPr>
            <p:spPr>
              <a:xfrm>
                <a:off x="4572000" y="762120"/>
                <a:ext cx="1066680" cy="36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8" name="Line 41"/>
          <p:cNvSpPr/>
          <p:nvPr/>
        </p:nvSpPr>
        <p:spPr>
          <a:xfrm>
            <a:off x="4267080" y="2666880"/>
            <a:ext cx="0" cy="22100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42"/>
          <p:cNvSpPr/>
          <p:nvPr/>
        </p:nvSpPr>
        <p:spPr>
          <a:xfrm flipH="1">
            <a:off x="1676520" y="2666880"/>
            <a:ext cx="259056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43"/>
          <p:cNvSpPr/>
          <p:nvPr/>
        </p:nvSpPr>
        <p:spPr>
          <a:xfrm>
            <a:off x="4419720" y="1523880"/>
            <a:ext cx="152280" cy="152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reeform 44"/>
          <p:cNvSpPr/>
          <p:nvPr/>
        </p:nvSpPr>
        <p:spPr>
          <a:xfrm>
            <a:off x="228600" y="1066680"/>
            <a:ext cx="4343400" cy="3646440"/>
          </a:xfrm>
          <a:custGeom>
            <a:avLst/>
            <a:gdLst>
              <a:gd name="textAreaLeft" fmla="*/ 0 w 4343400"/>
              <a:gd name="textAreaRight" fmla="*/ 4343760 w 4343400"/>
              <a:gd name="textAreaTop" fmla="*/ 0 h 3646440"/>
              <a:gd name="textAreaBottom" fmla="*/ 3646800 h 3646440"/>
            </a:gdLst>
            <a:ahLst/>
            <a:rect l="textAreaLeft" t="textAreaTop" r="textAreaRight" b="textAreaBottom"/>
            <a:pathLst>
              <a:path w="2709" h="2119">
                <a:moveTo>
                  <a:pt x="0" y="2119"/>
                </a:moveTo>
                <a:cubicBezTo>
                  <a:pt x="357" y="2060"/>
                  <a:pt x="1690" y="2118"/>
                  <a:pt x="2142" y="1765"/>
                </a:cubicBezTo>
                <a:cubicBezTo>
                  <a:pt x="2594" y="1412"/>
                  <a:pt x="2591" y="368"/>
                  <a:pt x="2709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45"/>
          <p:cNvSpPr/>
          <p:nvPr/>
        </p:nvSpPr>
        <p:spPr>
          <a:xfrm flipV="1">
            <a:off x="380880" y="3580920"/>
            <a:ext cx="5639040" cy="16002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val 46"/>
          <p:cNvSpPr/>
          <p:nvPr/>
        </p:nvSpPr>
        <p:spPr>
          <a:xfrm>
            <a:off x="2971800" y="4343400"/>
            <a:ext cx="152280" cy="1522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47"/>
          <p:cNvSpPr/>
          <p:nvPr/>
        </p:nvSpPr>
        <p:spPr>
          <a:xfrm flipV="1">
            <a:off x="1828800" y="1523880"/>
            <a:ext cx="3276720" cy="4572000"/>
          </a:xfrm>
          <a:prstGeom prst="line">
            <a:avLst/>
          </a:prstGeom>
          <a:ln w="19080">
            <a:solidFill>
              <a:srgbClr val="1a74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48"/>
          <p:cNvSpPr/>
          <p:nvPr/>
        </p:nvSpPr>
        <p:spPr>
          <a:xfrm flipV="1">
            <a:off x="2209680" y="1066320"/>
            <a:ext cx="2590920" cy="4876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49"/>
          <p:cNvSpPr/>
          <p:nvPr/>
        </p:nvSpPr>
        <p:spPr>
          <a:xfrm flipV="1">
            <a:off x="1371600" y="2057400"/>
            <a:ext cx="3886200" cy="4114800"/>
          </a:xfrm>
          <a:prstGeom prst="line">
            <a:avLst/>
          </a:prstGeom>
          <a:ln w="19080">
            <a:solidFill>
              <a:srgbClr val="2c6c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50"/>
          <p:cNvSpPr/>
          <p:nvPr/>
        </p:nvSpPr>
        <p:spPr>
          <a:xfrm flipV="1">
            <a:off x="1371600" y="2057400"/>
            <a:ext cx="4648320" cy="3657600"/>
          </a:xfrm>
          <a:prstGeom prst="line">
            <a:avLst/>
          </a:prstGeom>
          <a:ln w="19080">
            <a:solidFill>
              <a:srgbClr val="3080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51"/>
          <p:cNvSpPr/>
          <p:nvPr/>
        </p:nvSpPr>
        <p:spPr>
          <a:xfrm flipV="1">
            <a:off x="1143000" y="2742840"/>
            <a:ext cx="5334120" cy="2590920"/>
          </a:xfrm>
          <a:prstGeom prst="line">
            <a:avLst/>
          </a:prstGeom>
          <a:ln w="19080">
            <a:solidFill>
              <a:srgbClr val="329a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52"/>
          <p:cNvSpPr/>
          <p:nvPr/>
        </p:nvSpPr>
        <p:spPr>
          <a:xfrm flipH="1">
            <a:off x="4266720" y="4876920"/>
            <a:ext cx="2286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53"/>
          <p:cNvSpPr/>
          <p:nvPr/>
        </p:nvSpPr>
        <p:spPr>
          <a:xfrm flipV="1">
            <a:off x="1676520" y="1599840"/>
            <a:ext cx="0" cy="10666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54"/>
          <p:cNvSpPr/>
          <p:nvPr/>
        </p:nvSpPr>
        <p:spPr>
          <a:xfrm>
            <a:off x="4191120" y="2590920"/>
            <a:ext cx="152280" cy="1522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55"/>
          <p:cNvSpPr/>
          <p:nvPr/>
        </p:nvSpPr>
        <p:spPr>
          <a:xfrm>
            <a:off x="4191120" y="4876920"/>
            <a:ext cx="759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56"/>
          <p:cNvSpPr/>
          <p:nvPr/>
        </p:nvSpPr>
        <p:spPr>
          <a:xfrm flipV="1">
            <a:off x="1676520" y="2666880"/>
            <a:ext cx="0" cy="5335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Oval 57"/>
          <p:cNvSpPr/>
          <p:nvPr/>
        </p:nvSpPr>
        <p:spPr>
          <a:xfrm>
            <a:off x="4114800" y="3124080"/>
            <a:ext cx="152280" cy="152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58"/>
          <p:cNvSpPr/>
          <p:nvPr/>
        </p:nvSpPr>
        <p:spPr>
          <a:xfrm>
            <a:off x="3962520" y="365760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59"/>
          <p:cNvSpPr/>
          <p:nvPr/>
        </p:nvSpPr>
        <p:spPr>
          <a:xfrm flipH="1">
            <a:off x="1676520" y="3657600"/>
            <a:ext cx="22860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60"/>
          <p:cNvSpPr/>
          <p:nvPr/>
        </p:nvSpPr>
        <p:spPr>
          <a:xfrm>
            <a:off x="3962520" y="4876920"/>
            <a:ext cx="2286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61"/>
          <p:cNvSpPr/>
          <p:nvPr/>
        </p:nvSpPr>
        <p:spPr>
          <a:xfrm>
            <a:off x="1676520" y="3200400"/>
            <a:ext cx="0" cy="4572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val 62"/>
          <p:cNvSpPr/>
          <p:nvPr/>
        </p:nvSpPr>
        <p:spPr>
          <a:xfrm>
            <a:off x="3886200" y="3581280"/>
            <a:ext cx="152280" cy="152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63"/>
          <p:cNvSpPr/>
          <p:nvPr/>
        </p:nvSpPr>
        <p:spPr>
          <a:xfrm>
            <a:off x="3657600" y="411480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64"/>
          <p:cNvSpPr/>
          <p:nvPr/>
        </p:nvSpPr>
        <p:spPr>
          <a:xfrm flipH="1">
            <a:off x="1676160" y="4114800"/>
            <a:ext cx="19810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65"/>
          <p:cNvSpPr/>
          <p:nvPr/>
        </p:nvSpPr>
        <p:spPr>
          <a:xfrm>
            <a:off x="3657600" y="4876920"/>
            <a:ext cx="3049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66"/>
          <p:cNvSpPr/>
          <p:nvPr/>
        </p:nvSpPr>
        <p:spPr>
          <a:xfrm>
            <a:off x="1676520" y="3657600"/>
            <a:ext cx="0" cy="4572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Oval 67"/>
          <p:cNvSpPr/>
          <p:nvPr/>
        </p:nvSpPr>
        <p:spPr>
          <a:xfrm>
            <a:off x="3581280" y="4038480"/>
            <a:ext cx="152640" cy="152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68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6" name="Object 69"/>
              <p:cNvSpPr txBox="1"/>
              <p:nvPr/>
            </p:nvSpPr>
            <p:spPr>
              <a:xfrm>
                <a:off x="3581280" y="4952880"/>
                <a:ext cx="83844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7" name="Line 70"/>
          <p:cNvSpPr/>
          <p:nvPr/>
        </p:nvSpPr>
        <p:spPr>
          <a:xfrm>
            <a:off x="1676520" y="4267080"/>
            <a:ext cx="0" cy="152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72"/>
          <p:cNvSpPr/>
          <p:nvPr/>
        </p:nvSpPr>
        <p:spPr>
          <a:xfrm>
            <a:off x="6423120" y="3421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73"/>
          <p:cNvSpPr/>
          <p:nvPr/>
        </p:nvSpPr>
        <p:spPr>
          <a:xfrm rot="20585400">
            <a:off x="4572360" y="373356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сате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74"/>
          <p:cNvSpPr/>
          <p:nvPr/>
        </p:nvSpPr>
        <p:spPr>
          <a:xfrm rot="18012000">
            <a:off x="2927160" y="24829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Секущ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76"/>
              <p:cNvSpPr txBox="1"/>
              <p:nvPr/>
            </p:nvSpPr>
            <p:spPr>
              <a:xfrm>
                <a:off x="0" y="5495760"/>
                <a:ext cx="8778960" cy="13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Производной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функции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в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точке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х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называется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число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к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которому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стремится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отношение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Δ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Δх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42" name="Group 79"/>
          <p:cNvGrpSpPr/>
          <p:nvPr/>
        </p:nvGrpSpPr>
        <p:grpSpPr>
          <a:xfrm>
            <a:off x="6858000" y="3352680"/>
            <a:ext cx="1905120" cy="1033560"/>
            <a:chOff x="6858000" y="3352680"/>
            <a:chExt cx="1905120" cy="1033560"/>
          </a:xfrm>
        </p:grpSpPr>
        <p:sp>
          <p:nvSpPr>
            <p:cNvPr id="443" name="Text Box 77"/>
            <p:cNvSpPr/>
            <p:nvPr/>
          </p:nvSpPr>
          <p:spPr>
            <a:xfrm>
              <a:off x="6858000" y="335268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c3300"/>
                  </a:solidFill>
                  <a:latin typeface="Arial"/>
                </a:rPr>
                <a:t>Обозначение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4" name="Object 78"/>
                <p:cNvSpPr txBox="1"/>
                <p:nvPr/>
              </p:nvSpPr>
              <p:spPr>
                <a:xfrm>
                  <a:off x="7238880" y="3905280"/>
                  <a:ext cx="889200" cy="48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f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45" name="Text Box 80"/>
          <p:cNvSpPr/>
          <p:nvPr/>
        </p:nvSpPr>
        <p:spPr>
          <a:xfrm>
            <a:off x="0" y="83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спе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81"/>
          <p:cNvSpPr/>
          <p:nvPr/>
        </p:nvSpPr>
        <p:spPr>
          <a:xfrm>
            <a:off x="8839080" y="662940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4400" y="3837"/>
                </a:moveTo>
                <a:lnTo>
                  <a:pt x="16976" y="6448"/>
                </a:lnTo>
                <a:lnTo>
                  <a:pt x="16976" y="4707"/>
                </a:lnTo>
                <a:lnTo>
                  <a:pt x="18752" y="4707"/>
                </a:lnTo>
                <a:lnTo>
                  <a:pt x="18752" y="8224"/>
                </a:lnTo>
                <a:lnTo>
                  <a:pt x="21363" y="10800"/>
                </a:lnTo>
                <a:lnTo>
                  <a:pt x="19709" y="10800"/>
                </a:lnTo>
                <a:lnTo>
                  <a:pt x="19709" y="17989"/>
                </a:lnTo>
                <a:lnTo>
                  <a:pt x="9091" y="17989"/>
                </a:lnTo>
                <a:lnTo>
                  <a:pt x="9091" y="10800"/>
                </a:lnTo>
                <a:lnTo>
                  <a:pt x="7437" y="10800"/>
                </a:lnTo>
                <a:close/>
              </a:path>
              <a:path fill="darkenLess" w="28800" h="21600">
                <a:moveTo>
                  <a:pt x="16976" y="6448"/>
                </a:moveTo>
                <a:lnTo>
                  <a:pt x="16976" y="4707"/>
                </a:lnTo>
                <a:lnTo>
                  <a:pt x="18752" y="4707"/>
                </a:lnTo>
                <a:lnTo>
                  <a:pt x="18752" y="8224"/>
                </a:lnTo>
                <a:close/>
              </a:path>
              <a:path fill="darkenLess" w="28800" h="21600">
                <a:moveTo>
                  <a:pt x="13477" y="14299"/>
                </a:moveTo>
                <a:lnTo>
                  <a:pt x="15323" y="14299"/>
                </a:lnTo>
                <a:lnTo>
                  <a:pt x="15323" y="17989"/>
                </a:lnTo>
                <a:lnTo>
                  <a:pt x="19709" y="17989"/>
                </a:lnTo>
                <a:lnTo>
                  <a:pt x="19709" y="10800"/>
                </a:lnTo>
                <a:lnTo>
                  <a:pt x="9091" y="10800"/>
                </a:lnTo>
                <a:lnTo>
                  <a:pt x="9091" y="17989"/>
                </a:lnTo>
                <a:lnTo>
                  <a:pt x="134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Oval 3"/>
          <p:cNvSpPr/>
          <p:nvPr/>
        </p:nvSpPr>
        <p:spPr>
          <a:xfrm>
            <a:off x="1676520" y="3657600"/>
            <a:ext cx="75960" cy="763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4"/>
          <p:cNvGrpSpPr/>
          <p:nvPr/>
        </p:nvGrpSpPr>
        <p:grpSpPr>
          <a:xfrm>
            <a:off x="380880" y="304920"/>
            <a:ext cx="6019920" cy="4343400"/>
            <a:chOff x="380880" y="304920"/>
            <a:chExt cx="6019920" cy="4343400"/>
          </a:xfrm>
        </p:grpSpPr>
        <p:grpSp>
          <p:nvGrpSpPr>
            <p:cNvPr id="449" name="Group 5"/>
            <p:cNvGrpSpPr/>
            <p:nvPr/>
          </p:nvGrpSpPr>
          <p:grpSpPr>
            <a:xfrm>
              <a:off x="380880" y="4114800"/>
              <a:ext cx="6019920" cy="368280"/>
              <a:chOff x="380880" y="4114800"/>
              <a:chExt cx="6019920" cy="368280"/>
            </a:xfrm>
          </p:grpSpPr>
          <p:sp>
            <p:nvSpPr>
              <p:cNvPr id="450" name="Line 6"/>
              <p:cNvSpPr/>
              <p:nvPr/>
            </p:nvSpPr>
            <p:spPr>
              <a:xfrm>
                <a:off x="380880" y="4191120"/>
                <a:ext cx="5943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Text Box 7"/>
              <p:cNvSpPr/>
              <p:nvPr/>
            </p:nvSpPr>
            <p:spPr>
              <a:xfrm>
                <a:off x="6095880" y="411480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х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Group 8"/>
            <p:cNvGrpSpPr/>
            <p:nvPr/>
          </p:nvGrpSpPr>
          <p:grpSpPr>
            <a:xfrm>
              <a:off x="1371600" y="304920"/>
              <a:ext cx="380880" cy="4343400"/>
              <a:chOff x="1371600" y="304920"/>
              <a:chExt cx="380880" cy="4343400"/>
            </a:xfrm>
          </p:grpSpPr>
          <p:grpSp>
            <p:nvGrpSpPr>
              <p:cNvPr id="453" name="Group 9"/>
              <p:cNvGrpSpPr/>
              <p:nvPr/>
            </p:nvGrpSpPr>
            <p:grpSpPr>
              <a:xfrm>
                <a:off x="1371600" y="304920"/>
                <a:ext cx="304920" cy="4343400"/>
                <a:chOff x="1371600" y="304920"/>
                <a:chExt cx="304920" cy="4343400"/>
              </a:xfrm>
            </p:grpSpPr>
            <p:sp>
              <p:nvSpPr>
                <p:cNvPr id="454" name="Line 10"/>
                <p:cNvSpPr/>
                <p:nvPr/>
              </p:nvSpPr>
              <p:spPr>
                <a:xfrm flipV="1">
                  <a:off x="1676520" y="457200"/>
                  <a:ext cx="0" cy="4191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Text Box 11"/>
                <p:cNvSpPr/>
                <p:nvPr/>
              </p:nvSpPr>
              <p:spPr>
                <a:xfrm>
                  <a:off x="1371600" y="304920"/>
                  <a:ext cx="304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y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6" name="Text Box 12"/>
              <p:cNvSpPr/>
              <p:nvPr/>
            </p:nvSpPr>
            <p:spPr>
              <a:xfrm>
                <a:off x="1447920" y="4114800"/>
                <a:ext cx="30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7" name="Arc 13"/>
          <p:cNvSpPr/>
          <p:nvPr/>
        </p:nvSpPr>
        <p:spPr>
          <a:xfrm>
            <a:off x="2209680" y="3962520"/>
            <a:ext cx="406440" cy="228600"/>
          </a:xfrm>
          <a:custGeom>
            <a:avLst/>
            <a:gdLst>
              <a:gd name="textAreaLeft" fmla="*/ 0 w 406440"/>
              <a:gd name="textAreaRight" fmla="*/ 406800 w 40644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fill="none" w="21503" h="21230">
                <a:moveTo>
                  <a:pt x="3980" y="0"/>
                </a:moveTo>
                <a:cubicBezTo>
                  <a:pt x="13443" y="1774"/>
                  <a:pt x="20588" y="9596"/>
                  <a:pt x="21502" y="19180"/>
                </a:cubicBezTo>
              </a:path>
              <a:path stroke="0" w="21503" h="21230">
                <a:moveTo>
                  <a:pt x="3980" y="0"/>
                </a:moveTo>
                <a:cubicBezTo>
                  <a:pt x="13443" y="1774"/>
                  <a:pt x="20588" y="9596"/>
                  <a:pt x="21502" y="19180"/>
                </a:cubicBezTo>
                <a:lnTo>
                  <a:pt x="0" y="21230"/>
                </a:lnTo>
                <a:close/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14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15"/>
          <p:cNvSpPr/>
          <p:nvPr/>
        </p:nvSpPr>
        <p:spPr>
          <a:xfrm flipH="1">
            <a:off x="1676520" y="3733920"/>
            <a:ext cx="13716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17"/>
          <p:cNvSpPr/>
          <p:nvPr/>
        </p:nvSpPr>
        <p:spPr>
          <a:xfrm>
            <a:off x="3048120" y="373392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Oval 19"/>
          <p:cNvSpPr/>
          <p:nvPr/>
        </p:nvSpPr>
        <p:spPr>
          <a:xfrm>
            <a:off x="1676520" y="8380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0"/>
          <p:cNvSpPr/>
          <p:nvPr/>
        </p:nvSpPr>
        <p:spPr>
          <a:xfrm>
            <a:off x="4495680" y="4114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1"/>
          <p:cNvSpPr/>
          <p:nvPr/>
        </p:nvSpPr>
        <p:spPr>
          <a:xfrm>
            <a:off x="3048120" y="41911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4" name="Object 22"/>
              <p:cNvSpPr txBox="1"/>
              <p:nvPr/>
            </p:nvSpPr>
            <p:spPr>
              <a:xfrm>
                <a:off x="2743200" y="4114800"/>
                <a:ext cx="31608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Object 23"/>
              <p:cNvSpPr txBox="1"/>
              <p:nvPr/>
            </p:nvSpPr>
            <p:spPr>
              <a:xfrm>
                <a:off x="3200400" y="4267080"/>
                <a:ext cx="47628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</m:t>
                    </m:r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6" name="Rectangle 24"/>
          <p:cNvSpPr/>
          <p:nvPr/>
        </p:nvSpPr>
        <p:spPr>
          <a:xfrm>
            <a:off x="1800" y="247896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25"/>
          <p:cNvSpPr/>
          <p:nvPr/>
        </p:nvSpPr>
        <p:spPr>
          <a:xfrm>
            <a:off x="2516760" y="449496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26"/>
          <p:cNvSpPr/>
          <p:nvPr/>
        </p:nvSpPr>
        <p:spPr>
          <a:xfrm>
            <a:off x="2160" y="4114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27"/>
          <p:cNvSpPr/>
          <p:nvPr/>
        </p:nvSpPr>
        <p:spPr>
          <a:xfrm>
            <a:off x="1800" y="388548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28"/>
          <p:cNvSpPr/>
          <p:nvPr/>
        </p:nvSpPr>
        <p:spPr>
          <a:xfrm>
            <a:off x="533520" y="3398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1" name="Object 29"/>
              <p:cNvSpPr txBox="1"/>
              <p:nvPr/>
            </p:nvSpPr>
            <p:spPr>
              <a:xfrm>
                <a:off x="4419720" y="4191120"/>
                <a:ext cx="29664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Object 30"/>
              <p:cNvSpPr txBox="1"/>
              <p:nvPr/>
            </p:nvSpPr>
            <p:spPr>
              <a:xfrm>
                <a:off x="1143000" y="3276720"/>
                <a:ext cx="5014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Object 36"/>
              <p:cNvSpPr txBox="1"/>
              <p:nvPr/>
            </p:nvSpPr>
            <p:spPr>
              <a:xfrm>
                <a:off x="2438280" y="3809880"/>
                <a:ext cx="30492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Object 37"/>
              <p:cNvSpPr txBox="1"/>
              <p:nvPr/>
            </p:nvSpPr>
            <p:spPr>
              <a:xfrm>
                <a:off x="5181480" y="304920"/>
                <a:ext cx="323712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Object 38"/>
              <p:cNvSpPr txBox="1"/>
              <p:nvPr/>
            </p:nvSpPr>
            <p:spPr>
              <a:xfrm>
                <a:off x="5867280" y="1752480"/>
                <a:ext cx="19051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6" name="Text Box 39"/>
          <p:cNvSpPr/>
          <p:nvPr/>
        </p:nvSpPr>
        <p:spPr>
          <a:xfrm>
            <a:off x="5410080" y="10666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k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угловой коэффициент прямой(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касательно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7" name="Object 40"/>
              <p:cNvSpPr txBox="1"/>
              <p:nvPr/>
            </p:nvSpPr>
            <p:spPr>
              <a:xfrm>
                <a:off x="3200400" y="380880"/>
                <a:ext cx="106668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8" name="Freeform 44"/>
          <p:cNvSpPr/>
          <p:nvPr/>
        </p:nvSpPr>
        <p:spPr>
          <a:xfrm>
            <a:off x="228600" y="380880"/>
            <a:ext cx="4343400" cy="3646440"/>
          </a:xfrm>
          <a:custGeom>
            <a:avLst/>
            <a:gdLst>
              <a:gd name="textAreaLeft" fmla="*/ 0 w 4343400"/>
              <a:gd name="textAreaRight" fmla="*/ 4343760 w 4343400"/>
              <a:gd name="textAreaTop" fmla="*/ 0 h 3646440"/>
              <a:gd name="textAreaBottom" fmla="*/ 3646800 h 3646440"/>
            </a:gdLst>
            <a:ahLst/>
            <a:rect l="textAreaLeft" t="textAreaTop" r="textAreaRight" b="textAreaBottom"/>
            <a:pathLst>
              <a:path w="2709" h="2119">
                <a:moveTo>
                  <a:pt x="0" y="2119"/>
                </a:moveTo>
                <a:cubicBezTo>
                  <a:pt x="357" y="2060"/>
                  <a:pt x="1690" y="2118"/>
                  <a:pt x="2142" y="1765"/>
                </a:cubicBezTo>
                <a:cubicBezTo>
                  <a:pt x="2594" y="1412"/>
                  <a:pt x="2591" y="368"/>
                  <a:pt x="2709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45"/>
          <p:cNvSpPr/>
          <p:nvPr/>
        </p:nvSpPr>
        <p:spPr>
          <a:xfrm flipV="1">
            <a:off x="380880" y="2895120"/>
            <a:ext cx="5639040" cy="16002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Oval 46"/>
          <p:cNvSpPr/>
          <p:nvPr/>
        </p:nvSpPr>
        <p:spPr>
          <a:xfrm>
            <a:off x="2971800" y="3657600"/>
            <a:ext cx="152280" cy="1522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55"/>
          <p:cNvSpPr/>
          <p:nvPr/>
        </p:nvSpPr>
        <p:spPr>
          <a:xfrm>
            <a:off x="3048120" y="4191120"/>
            <a:ext cx="759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2" name="Object 69"/>
              <p:cNvSpPr txBox="1"/>
              <p:nvPr/>
            </p:nvSpPr>
            <p:spPr>
              <a:xfrm>
                <a:off x="3657600" y="4267080"/>
                <a:ext cx="83808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3" name="Line 70"/>
          <p:cNvSpPr/>
          <p:nvPr/>
        </p:nvSpPr>
        <p:spPr>
          <a:xfrm>
            <a:off x="1676520" y="3581280"/>
            <a:ext cx="0" cy="152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71"/>
          <p:cNvSpPr/>
          <p:nvPr/>
        </p:nvSpPr>
        <p:spPr>
          <a:xfrm>
            <a:off x="6423120" y="3421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72"/>
          <p:cNvSpPr/>
          <p:nvPr/>
        </p:nvSpPr>
        <p:spPr>
          <a:xfrm rot="20585400">
            <a:off x="4572360" y="304776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сате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77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78"/>
          <p:cNvSpPr/>
          <p:nvPr/>
        </p:nvSpPr>
        <p:spPr>
          <a:xfrm>
            <a:off x="457200" y="4695840"/>
            <a:ext cx="7162920" cy="21740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Геометрический смысл производ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изводная от функции в данной точке равна угловому коэффициенту касательной, проведенной к графику функции в этой точ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79"/>
          <p:cNvSpPr/>
          <p:nvPr/>
        </p:nvSpPr>
        <p:spPr>
          <a:xfrm>
            <a:off x="0" y="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спе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AutoShape 80"/>
          <p:cNvSpPr/>
          <p:nvPr/>
        </p:nvSpPr>
        <p:spPr>
          <a:xfrm>
            <a:off x="8839080" y="662940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4400" y="3837"/>
                </a:moveTo>
                <a:lnTo>
                  <a:pt x="16976" y="6448"/>
                </a:lnTo>
                <a:lnTo>
                  <a:pt x="16976" y="4707"/>
                </a:lnTo>
                <a:lnTo>
                  <a:pt x="18752" y="4707"/>
                </a:lnTo>
                <a:lnTo>
                  <a:pt x="18752" y="8224"/>
                </a:lnTo>
                <a:lnTo>
                  <a:pt x="21363" y="10800"/>
                </a:lnTo>
                <a:lnTo>
                  <a:pt x="19709" y="10800"/>
                </a:lnTo>
                <a:lnTo>
                  <a:pt x="19709" y="17989"/>
                </a:lnTo>
                <a:lnTo>
                  <a:pt x="9091" y="17989"/>
                </a:lnTo>
                <a:lnTo>
                  <a:pt x="9091" y="10800"/>
                </a:lnTo>
                <a:lnTo>
                  <a:pt x="7437" y="10800"/>
                </a:lnTo>
                <a:close/>
              </a:path>
              <a:path fill="darkenLess" w="28800" h="21600">
                <a:moveTo>
                  <a:pt x="16976" y="6448"/>
                </a:moveTo>
                <a:lnTo>
                  <a:pt x="16976" y="4707"/>
                </a:lnTo>
                <a:lnTo>
                  <a:pt x="18752" y="4707"/>
                </a:lnTo>
                <a:lnTo>
                  <a:pt x="18752" y="8224"/>
                </a:lnTo>
                <a:close/>
              </a:path>
              <a:path fill="darkenLess" w="28800" h="21600">
                <a:moveTo>
                  <a:pt x="13477" y="14299"/>
                </a:moveTo>
                <a:lnTo>
                  <a:pt x="15323" y="14299"/>
                </a:lnTo>
                <a:lnTo>
                  <a:pt x="15323" y="17989"/>
                </a:lnTo>
                <a:lnTo>
                  <a:pt x="19709" y="17989"/>
                </a:lnTo>
                <a:lnTo>
                  <a:pt x="19709" y="10800"/>
                </a:lnTo>
                <a:lnTo>
                  <a:pt x="9091" y="10800"/>
                </a:lnTo>
                <a:lnTo>
                  <a:pt x="9091" y="17989"/>
                </a:lnTo>
                <a:lnTo>
                  <a:pt x="134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8" presetSubtype="6">
                                  <p:stCondLst>
                                    <p:cond delay="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3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Comic Sans MS"/>
              </a:rPr>
              <a:t>Определение производной от функции в данной точке. Ее геометрический смыс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Oval 3"/>
          <p:cNvSpPr/>
          <p:nvPr/>
        </p:nvSpPr>
        <p:spPr>
          <a:xfrm>
            <a:off x="1676520" y="4343400"/>
            <a:ext cx="75960" cy="763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Group 4"/>
          <p:cNvGrpSpPr/>
          <p:nvPr/>
        </p:nvGrpSpPr>
        <p:grpSpPr>
          <a:xfrm>
            <a:off x="380880" y="990720"/>
            <a:ext cx="6019920" cy="4343400"/>
            <a:chOff x="380880" y="990720"/>
            <a:chExt cx="6019920" cy="4343400"/>
          </a:xfrm>
        </p:grpSpPr>
        <p:grpSp>
          <p:nvGrpSpPr>
            <p:cNvPr id="493" name="Group 5"/>
            <p:cNvGrpSpPr/>
            <p:nvPr/>
          </p:nvGrpSpPr>
          <p:grpSpPr>
            <a:xfrm>
              <a:off x="380880" y="4800600"/>
              <a:ext cx="6019920" cy="368280"/>
              <a:chOff x="380880" y="4800600"/>
              <a:chExt cx="6019920" cy="368280"/>
            </a:xfrm>
          </p:grpSpPr>
          <p:sp>
            <p:nvSpPr>
              <p:cNvPr id="494" name="Line 6"/>
              <p:cNvSpPr/>
              <p:nvPr/>
            </p:nvSpPr>
            <p:spPr>
              <a:xfrm>
                <a:off x="380880" y="4876920"/>
                <a:ext cx="5943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Text Box 7"/>
              <p:cNvSpPr/>
              <p:nvPr/>
            </p:nvSpPr>
            <p:spPr>
              <a:xfrm>
                <a:off x="6095880" y="480060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х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6" name="Group 8"/>
            <p:cNvGrpSpPr/>
            <p:nvPr/>
          </p:nvGrpSpPr>
          <p:grpSpPr>
            <a:xfrm>
              <a:off x="1371600" y="990720"/>
              <a:ext cx="380880" cy="4343400"/>
              <a:chOff x="1371600" y="990720"/>
              <a:chExt cx="380880" cy="4343400"/>
            </a:xfrm>
          </p:grpSpPr>
          <p:grpSp>
            <p:nvGrpSpPr>
              <p:cNvPr id="497" name="Group 9"/>
              <p:cNvGrpSpPr/>
              <p:nvPr/>
            </p:nvGrpSpPr>
            <p:grpSpPr>
              <a:xfrm>
                <a:off x="1371600" y="990720"/>
                <a:ext cx="304920" cy="4343400"/>
                <a:chOff x="1371600" y="990720"/>
                <a:chExt cx="304920" cy="4343400"/>
              </a:xfrm>
            </p:grpSpPr>
            <p:sp>
              <p:nvSpPr>
                <p:cNvPr id="498" name="Line 10"/>
                <p:cNvSpPr/>
                <p:nvPr/>
              </p:nvSpPr>
              <p:spPr>
                <a:xfrm flipV="1">
                  <a:off x="1676520" y="1143000"/>
                  <a:ext cx="0" cy="4191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Text Box 11"/>
                <p:cNvSpPr/>
                <p:nvPr/>
              </p:nvSpPr>
              <p:spPr>
                <a:xfrm>
                  <a:off x="1371600" y="990720"/>
                  <a:ext cx="304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y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0" name="Text Box 12"/>
              <p:cNvSpPr/>
              <p:nvPr/>
            </p:nvSpPr>
            <p:spPr>
              <a:xfrm>
                <a:off x="1447920" y="4800600"/>
                <a:ext cx="30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1" name="Rectangle 14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15"/>
          <p:cNvSpPr/>
          <p:nvPr/>
        </p:nvSpPr>
        <p:spPr>
          <a:xfrm flipH="1">
            <a:off x="1676520" y="4419720"/>
            <a:ext cx="13716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16"/>
          <p:cNvSpPr/>
          <p:nvPr/>
        </p:nvSpPr>
        <p:spPr>
          <a:xfrm flipH="1">
            <a:off x="1676160" y="1600200"/>
            <a:ext cx="281916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17"/>
          <p:cNvSpPr/>
          <p:nvPr/>
        </p:nvSpPr>
        <p:spPr>
          <a:xfrm>
            <a:off x="3048120" y="441972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18"/>
          <p:cNvSpPr/>
          <p:nvPr/>
        </p:nvSpPr>
        <p:spPr>
          <a:xfrm>
            <a:off x="4495680" y="1600200"/>
            <a:ext cx="0" cy="32767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Oval 19"/>
          <p:cNvSpPr/>
          <p:nvPr/>
        </p:nvSpPr>
        <p:spPr>
          <a:xfrm>
            <a:off x="1676520" y="15238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val 20"/>
          <p:cNvSpPr/>
          <p:nvPr/>
        </p:nvSpPr>
        <p:spPr>
          <a:xfrm>
            <a:off x="4495680" y="4800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Oval 21"/>
          <p:cNvSpPr/>
          <p:nvPr/>
        </p:nvSpPr>
        <p:spPr>
          <a:xfrm>
            <a:off x="3048120" y="48769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9" name="Object 22"/>
              <p:cNvSpPr txBox="1"/>
              <p:nvPr/>
            </p:nvSpPr>
            <p:spPr>
              <a:xfrm>
                <a:off x="2819520" y="4800600"/>
                <a:ext cx="31572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10" name="Rectangle 24"/>
          <p:cNvSpPr/>
          <p:nvPr/>
        </p:nvSpPr>
        <p:spPr>
          <a:xfrm>
            <a:off x="1800" y="247896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6"/>
          <p:cNvSpPr/>
          <p:nvPr/>
        </p:nvSpPr>
        <p:spPr>
          <a:xfrm>
            <a:off x="2160" y="4114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7"/>
          <p:cNvSpPr/>
          <p:nvPr/>
        </p:nvSpPr>
        <p:spPr>
          <a:xfrm>
            <a:off x="1800" y="388548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8"/>
          <p:cNvSpPr/>
          <p:nvPr/>
        </p:nvSpPr>
        <p:spPr>
          <a:xfrm>
            <a:off x="533520" y="4084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4" name="Object 29"/>
              <p:cNvSpPr txBox="1"/>
              <p:nvPr/>
            </p:nvSpPr>
            <p:spPr>
              <a:xfrm>
                <a:off x="4495680" y="4952880"/>
                <a:ext cx="2970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5" name="Line 31"/>
          <p:cNvSpPr/>
          <p:nvPr/>
        </p:nvSpPr>
        <p:spPr>
          <a:xfrm>
            <a:off x="4038480" y="4876920"/>
            <a:ext cx="4572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32"/>
          <p:cNvSpPr/>
          <p:nvPr/>
        </p:nvSpPr>
        <p:spPr>
          <a:xfrm flipV="1">
            <a:off x="1676520" y="4114440"/>
            <a:ext cx="0" cy="304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7" name="Object 35"/>
              <p:cNvSpPr txBox="1"/>
              <p:nvPr/>
            </p:nvSpPr>
            <p:spPr>
              <a:xfrm>
                <a:off x="990720" y="2590920"/>
                <a:ext cx="45720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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Object 38"/>
              <p:cNvSpPr txBox="1"/>
              <p:nvPr/>
            </p:nvSpPr>
            <p:spPr>
              <a:xfrm>
                <a:off x="6629400" y="457200"/>
                <a:ext cx="229716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Object 39"/>
              <p:cNvSpPr txBox="1"/>
              <p:nvPr/>
            </p:nvSpPr>
            <p:spPr>
              <a:xfrm>
                <a:off x="6858000" y="2514600"/>
                <a:ext cx="152388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0" name="Text Box 40"/>
          <p:cNvSpPr/>
          <p:nvPr/>
        </p:nvSpPr>
        <p:spPr>
          <a:xfrm>
            <a:off x="6781680" y="160020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k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угловой коэффициент прямой(секуще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1" name="Object 41"/>
              <p:cNvSpPr txBox="1"/>
              <p:nvPr/>
            </p:nvSpPr>
            <p:spPr>
              <a:xfrm>
                <a:off x="3505320" y="838080"/>
                <a:ext cx="106668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2" name="Freeform 45"/>
          <p:cNvSpPr/>
          <p:nvPr/>
        </p:nvSpPr>
        <p:spPr>
          <a:xfrm>
            <a:off x="228600" y="1066680"/>
            <a:ext cx="4343400" cy="3646440"/>
          </a:xfrm>
          <a:custGeom>
            <a:avLst/>
            <a:gdLst>
              <a:gd name="textAreaLeft" fmla="*/ 0 w 4343400"/>
              <a:gd name="textAreaRight" fmla="*/ 4343760 w 4343400"/>
              <a:gd name="textAreaTop" fmla="*/ 0 h 3646440"/>
              <a:gd name="textAreaBottom" fmla="*/ 3646800 h 3646440"/>
            </a:gdLst>
            <a:ahLst/>
            <a:rect l="textAreaLeft" t="textAreaTop" r="textAreaRight" b="textAreaBottom"/>
            <a:pathLst>
              <a:path w="2709" h="2119">
                <a:moveTo>
                  <a:pt x="0" y="2119"/>
                </a:moveTo>
                <a:cubicBezTo>
                  <a:pt x="357" y="2060"/>
                  <a:pt x="1690" y="2118"/>
                  <a:pt x="2142" y="1765"/>
                </a:cubicBezTo>
                <a:cubicBezTo>
                  <a:pt x="2594" y="1412"/>
                  <a:pt x="2591" y="368"/>
                  <a:pt x="2709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Oval 47"/>
          <p:cNvSpPr/>
          <p:nvPr/>
        </p:nvSpPr>
        <p:spPr>
          <a:xfrm>
            <a:off x="2971800" y="4343400"/>
            <a:ext cx="152280" cy="1522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49"/>
          <p:cNvSpPr/>
          <p:nvPr/>
        </p:nvSpPr>
        <p:spPr>
          <a:xfrm flipV="1">
            <a:off x="2209680" y="685440"/>
            <a:ext cx="2743200" cy="53341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53"/>
          <p:cNvSpPr/>
          <p:nvPr/>
        </p:nvSpPr>
        <p:spPr>
          <a:xfrm flipH="1">
            <a:off x="3504960" y="4876920"/>
            <a:ext cx="2286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54"/>
          <p:cNvSpPr/>
          <p:nvPr/>
        </p:nvSpPr>
        <p:spPr>
          <a:xfrm flipV="1">
            <a:off x="1676520" y="1599840"/>
            <a:ext cx="0" cy="10666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56"/>
          <p:cNvSpPr/>
          <p:nvPr/>
        </p:nvSpPr>
        <p:spPr>
          <a:xfrm>
            <a:off x="3124080" y="4876920"/>
            <a:ext cx="152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57"/>
          <p:cNvSpPr/>
          <p:nvPr/>
        </p:nvSpPr>
        <p:spPr>
          <a:xfrm flipV="1">
            <a:off x="1676520" y="2666880"/>
            <a:ext cx="0" cy="5335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61"/>
          <p:cNvSpPr/>
          <p:nvPr/>
        </p:nvSpPr>
        <p:spPr>
          <a:xfrm>
            <a:off x="3276720" y="4876920"/>
            <a:ext cx="2286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62"/>
          <p:cNvSpPr/>
          <p:nvPr/>
        </p:nvSpPr>
        <p:spPr>
          <a:xfrm>
            <a:off x="1676520" y="3200400"/>
            <a:ext cx="0" cy="4572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66"/>
          <p:cNvSpPr/>
          <p:nvPr/>
        </p:nvSpPr>
        <p:spPr>
          <a:xfrm>
            <a:off x="3733920" y="4876920"/>
            <a:ext cx="3045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67"/>
          <p:cNvSpPr/>
          <p:nvPr/>
        </p:nvSpPr>
        <p:spPr>
          <a:xfrm>
            <a:off x="1676520" y="3657600"/>
            <a:ext cx="0" cy="4572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69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Group 83"/>
          <p:cNvGrpSpPr/>
          <p:nvPr/>
        </p:nvGrpSpPr>
        <p:grpSpPr>
          <a:xfrm>
            <a:off x="8496360" y="4952880"/>
            <a:ext cx="1295280" cy="520920"/>
            <a:chOff x="8496360" y="4952880"/>
            <a:chExt cx="1295280" cy="520920"/>
          </a:xfrm>
        </p:grpSpPr>
        <mc:AlternateContent>
          <mc:Choice xmlns:a14="http://schemas.microsoft.com/office/drawing/2010/main" Requires="a14">
            <p:sp>
              <p:nvSpPr>
                <p:cNvPr id="535" name="Object 36"/>
                <p:cNvSpPr txBox="1"/>
                <p:nvPr/>
              </p:nvSpPr>
              <p:spPr>
                <a:xfrm>
                  <a:off x="8496360" y="5029200"/>
                  <a:ext cx="476280" cy="44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</m:t>
                      </m:r>
                      <m:r>
                        <m:t xml:space="preserve">х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36" name="Object 70"/>
                <p:cNvSpPr txBox="1"/>
                <p:nvPr/>
              </p:nvSpPr>
              <p:spPr>
                <a:xfrm>
                  <a:off x="8953560" y="4952880"/>
                  <a:ext cx="838080" cy="48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→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37" name="Line 71"/>
          <p:cNvSpPr/>
          <p:nvPr/>
        </p:nvSpPr>
        <p:spPr>
          <a:xfrm>
            <a:off x="1676520" y="4267080"/>
            <a:ext cx="0" cy="152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73"/>
          <p:cNvSpPr/>
          <p:nvPr/>
        </p:nvSpPr>
        <p:spPr>
          <a:xfrm>
            <a:off x="6423120" y="3421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Group 84"/>
          <p:cNvGrpSpPr/>
          <p:nvPr/>
        </p:nvGrpSpPr>
        <p:grpSpPr>
          <a:xfrm>
            <a:off x="380880" y="3497760"/>
            <a:ext cx="5885280" cy="1683360"/>
            <a:chOff x="380880" y="3497760"/>
            <a:chExt cx="5885280" cy="1683360"/>
          </a:xfrm>
        </p:grpSpPr>
        <p:sp>
          <p:nvSpPr>
            <p:cNvPr id="540" name="Line 46"/>
            <p:cNvSpPr/>
            <p:nvPr/>
          </p:nvSpPr>
          <p:spPr>
            <a:xfrm flipV="1">
              <a:off x="380880" y="3580920"/>
              <a:ext cx="5639040" cy="160020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74"/>
            <p:cNvSpPr/>
            <p:nvPr/>
          </p:nvSpPr>
          <p:spPr>
            <a:xfrm rot="20585400">
              <a:off x="4572360" y="373356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Касательн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Line 79"/>
          <p:cNvSpPr/>
          <p:nvPr/>
        </p:nvSpPr>
        <p:spPr>
          <a:xfrm>
            <a:off x="3048120" y="4876920"/>
            <a:ext cx="759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80"/>
          <p:cNvSpPr/>
          <p:nvPr/>
        </p:nvSpPr>
        <p:spPr>
          <a:xfrm>
            <a:off x="259092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81"/>
          <p:cNvSpPr/>
          <p:nvPr/>
        </p:nvSpPr>
        <p:spPr>
          <a:xfrm>
            <a:off x="4876920" y="14479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44"/>
          <p:cNvSpPr/>
          <p:nvPr/>
        </p:nvSpPr>
        <p:spPr>
          <a:xfrm>
            <a:off x="4419720" y="1523880"/>
            <a:ext cx="15228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85"/>
          <p:cNvGrpSpPr/>
          <p:nvPr/>
        </p:nvGrpSpPr>
        <p:grpSpPr>
          <a:xfrm>
            <a:off x="2209680" y="4417920"/>
            <a:ext cx="559080" cy="459000"/>
            <a:chOff x="2209680" y="4417920"/>
            <a:chExt cx="559080" cy="459000"/>
          </a:xfrm>
        </p:grpSpPr>
        <p:sp>
          <p:nvSpPr>
            <p:cNvPr id="547" name="Arc 13"/>
            <p:cNvSpPr/>
            <p:nvPr/>
          </p:nvSpPr>
          <p:spPr>
            <a:xfrm>
              <a:off x="2209680" y="4648320"/>
              <a:ext cx="406440" cy="2286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fill="none" w="21503" h="21230">
                  <a:moveTo>
                    <a:pt x="3980" y="0"/>
                  </a:moveTo>
                  <a:cubicBezTo>
                    <a:pt x="13443" y="1774"/>
                    <a:pt x="20588" y="9596"/>
                    <a:pt x="21502" y="19180"/>
                  </a:cubicBezTo>
                </a:path>
                <a:path stroke="0" w="21503" h="21230">
                  <a:moveTo>
                    <a:pt x="3980" y="0"/>
                  </a:moveTo>
                  <a:cubicBezTo>
                    <a:pt x="13443" y="1774"/>
                    <a:pt x="20588" y="9596"/>
                    <a:pt x="21502" y="19180"/>
                  </a:cubicBezTo>
                  <a:lnTo>
                    <a:pt x="0" y="21230"/>
                  </a:lnTo>
                  <a:close/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8" name="Object 37"/>
                <p:cNvSpPr txBox="1"/>
                <p:nvPr/>
              </p:nvSpPr>
              <p:spPr>
                <a:xfrm>
                  <a:off x="2413080" y="4417920"/>
                  <a:ext cx="355680" cy="441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49" name="Object 88"/>
              <p:cNvSpPr txBox="1"/>
              <p:nvPr/>
            </p:nvSpPr>
            <p:spPr>
              <a:xfrm>
                <a:off x="609480" y="5486400"/>
                <a:ext cx="822960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Δх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угловой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коэффициент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секущей</m:t>
                        </m:r>
                        <m:r>
                          <m:t xml:space="preserve"> </m:t>
                        </m:r>
                        <m:r>
                          <m:t xml:space="preserve">→</m:t>
                        </m:r>
                        <m:r>
                          <m:t xml:space="preserve">к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угловому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коэффициенту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касательной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50" name="Text Box 89"/>
          <p:cNvSpPr/>
          <p:nvPr/>
        </p:nvSpPr>
        <p:spPr>
          <a:xfrm>
            <a:off x="0" y="83808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т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1" name="Object 87"/>
              <p:cNvSpPr txBox="1"/>
              <p:nvPr/>
            </p:nvSpPr>
            <p:spPr>
              <a:xfrm>
                <a:off x="365040" y="5495760"/>
                <a:ext cx="8778960" cy="13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Производной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функции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в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точке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х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называется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число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к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которому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стремится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отношение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Δ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Δх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2" name="Object 76"/>
              <p:cNvSpPr txBox="1"/>
              <p:nvPr/>
            </p:nvSpPr>
            <p:spPr>
              <a:xfrm>
                <a:off x="380880" y="5432400"/>
                <a:ext cx="8210520" cy="14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Δy</m:t>
                            </m:r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r>
                          <m:t xml:space="preserve">→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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производной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от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в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точке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х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Δх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53" name="Text Box 86"/>
          <p:cNvSpPr/>
          <p:nvPr/>
        </p:nvSpPr>
        <p:spPr>
          <a:xfrm>
            <a:off x="914400" y="5394240"/>
            <a:ext cx="7162920" cy="1472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Геометрический смысл производ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изводная от функции в данной точке равна угловому коэффициенту касательной, проведенной к графику функции в этой точ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92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Group 93"/>
          <p:cNvGrpSpPr/>
          <p:nvPr/>
        </p:nvGrpSpPr>
        <p:grpSpPr>
          <a:xfrm>
            <a:off x="2971800" y="4419720"/>
            <a:ext cx="609480" cy="457200"/>
            <a:chOff x="2971800" y="4419720"/>
            <a:chExt cx="609480" cy="457200"/>
          </a:xfrm>
        </p:grpSpPr>
        <p:sp>
          <p:nvSpPr>
            <p:cNvPr id="556" name="Arc 90"/>
            <p:cNvSpPr/>
            <p:nvPr/>
          </p:nvSpPr>
          <p:spPr>
            <a:xfrm>
              <a:off x="2971800" y="4572000"/>
              <a:ext cx="228600" cy="30492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2d2d8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7" name="Object 91"/>
                <p:cNvSpPr txBox="1"/>
                <p:nvPr/>
              </p:nvSpPr>
              <p:spPr>
                <a:xfrm>
                  <a:off x="3124080" y="4419720"/>
                  <a:ext cx="457200" cy="42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58" name="Object 94"/>
              <p:cNvSpPr txBox="1"/>
              <p:nvPr/>
            </p:nvSpPr>
            <p:spPr>
              <a:xfrm>
                <a:off x="6705720" y="3429000"/>
                <a:ext cx="19368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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59" name="Text Box 95"/>
          <p:cNvSpPr/>
          <p:nvPr/>
        </p:nvSpPr>
        <p:spPr>
          <a:xfrm>
            <a:off x="228600" y="685800"/>
            <a:ext cx="1752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 Narrow"/>
              </a:rPr>
              <a:t>Автоматический показ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AutoShape 96"/>
          <p:cNvSpPr/>
          <p:nvPr/>
        </p:nvSpPr>
        <p:spPr>
          <a:xfrm>
            <a:off x="8839080" y="662940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4400" y="3837"/>
                </a:moveTo>
                <a:lnTo>
                  <a:pt x="16976" y="6448"/>
                </a:lnTo>
                <a:lnTo>
                  <a:pt x="16976" y="4707"/>
                </a:lnTo>
                <a:lnTo>
                  <a:pt x="18752" y="4707"/>
                </a:lnTo>
                <a:lnTo>
                  <a:pt x="18752" y="8224"/>
                </a:lnTo>
                <a:lnTo>
                  <a:pt x="21363" y="10800"/>
                </a:lnTo>
                <a:lnTo>
                  <a:pt x="19709" y="10800"/>
                </a:lnTo>
                <a:lnTo>
                  <a:pt x="19709" y="17989"/>
                </a:lnTo>
                <a:lnTo>
                  <a:pt x="9091" y="17989"/>
                </a:lnTo>
                <a:lnTo>
                  <a:pt x="9091" y="10800"/>
                </a:lnTo>
                <a:lnTo>
                  <a:pt x="7437" y="10800"/>
                </a:lnTo>
                <a:close/>
              </a:path>
              <a:path fill="darkenLess" w="28800" h="21600">
                <a:moveTo>
                  <a:pt x="16976" y="6448"/>
                </a:moveTo>
                <a:lnTo>
                  <a:pt x="16976" y="4707"/>
                </a:lnTo>
                <a:lnTo>
                  <a:pt x="18752" y="4707"/>
                </a:lnTo>
                <a:lnTo>
                  <a:pt x="18752" y="8224"/>
                </a:lnTo>
                <a:close/>
              </a:path>
              <a:path fill="darkenLess" w="28800" h="21600">
                <a:moveTo>
                  <a:pt x="13477" y="14299"/>
                </a:moveTo>
                <a:lnTo>
                  <a:pt x="15323" y="14299"/>
                </a:lnTo>
                <a:lnTo>
                  <a:pt x="15323" y="17989"/>
                </a:lnTo>
                <a:lnTo>
                  <a:pt x="19709" y="17989"/>
                </a:lnTo>
                <a:lnTo>
                  <a:pt x="19709" y="10800"/>
                </a:lnTo>
                <a:lnTo>
                  <a:pt x="9091" y="10800"/>
                </a:lnTo>
                <a:lnTo>
                  <a:pt x="9091" y="17989"/>
                </a:lnTo>
                <a:lnTo>
                  <a:pt x="134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animMotion origin="layout" path="M 1.66667E-006 -1.11111E-006 C -0.00209 0.01621 -0.00417 0.03264 -0.00625 0.04862 C -0.00834 0.06459 -0.01025 0.07848 -0.0125 0.09584 C -0.01476 0.1132 -0.01702 0.1338 -0.0198 0.15278 C -0.02257 0.17176 -0.02553 0.19098 -0.02917 0.20973 C -0.03282 0.22848 -0.03664 0.24769 -0.04167 0.26528 C -0.04671 0.28287 -0.05296 0.3007 -0.05938 0.31528 C -0.0658 0.32987 -0.07275 0.34213 -0.08021 0.35278 C -0.08768 0.36343 -0.09671 0.37246 -0.10417 0.37917 C -0.11164 0.38588 -0.11928 0.38936 -0.125 0.39306 C -0.13073 0.39676 -0.13455 0.39885 -0.13855 0.40139 C -0.14254 0.40394 -0.14566 0.40695 -0.14896 0.40834 C -0.15226 0.40973 -0.15539 0.40973 -0.15834 0.40973 E">
                                      <p:cBhvr>
                                        <p:cTn id="224" dur="15000" fill="hold"/>
                                        <p:tgtEl>
                                          <p:spTgt spid="5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1">
                                  <p:stCondLst>
                                    <p:cond delay="6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xit" presetID="1">
                                  <p:stCondLst>
                                    <p:cond delay="9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1">
                                  <p:stCondLst>
                                    <p:cond delay="9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1">
                                  <p:stCondLst>
                                    <p:cond delay="14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xit" presetID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path" presetID="0">
                                  <p:stCondLst>
                                    <p:cond delay="3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uction.wav"/>
                                        </p:tgtEl>
                                      </p:cMediaNode>
                                    </p:audio>
                                    <p:animMotion origin="layout" path="M 0 4.81481E-006 L -0.6 -0.00463 E">
                                      <p:cBhvr>
                                        <p:cTn id="242" dur="5000" fill="hold"/>
                                        <p:tgtEl>
                                          <p:spTgt spid="5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45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700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7000"/>
                            </p:stCondLst>
                            <p:childTnLst>
                              <p:par>
                                <p:cTn id="259" nodeType="afterEffect" fill="hold" presetClass="entr" presetID="18" presetSubtype="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1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0500"/>
                            </p:stCondLst>
                            <p:childTnLst>
                              <p:par>
                                <p:cTn id="263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5500"/>
                            </p:stCondLst>
                            <p:childTnLst>
                              <p:par>
                                <p:cTn id="266" nodeType="after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8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6500"/>
                            </p:stCondLst>
                            <p:childTnLst>
                              <p:par>
                                <p:cTn id="270" nodeType="afterEffect" fill="hold" presetClass="exit" presetID="1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8" presetSubtype="6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4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32500"/>
                            </p:stCondLst>
                            <p:childTnLst>
                              <p:par>
                                <p:cTn id="276" nodeType="afterEffect" fill="hold" presetClass="exit" presetID="1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8" presetSubtype="6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0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41000"/>
                            </p:stCondLst>
                            <p:childTnLst>
                              <p:par>
                                <p:cTn id="2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2"/>
          <p:cNvSpPr/>
          <p:nvPr/>
        </p:nvSpPr>
        <p:spPr>
          <a:xfrm>
            <a:off x="228600" y="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Физический смысл производной функции в данной точ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3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6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7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5" name="Object 8"/>
              <p:cNvSpPr txBox="1"/>
              <p:nvPr/>
            </p:nvSpPr>
            <p:spPr>
              <a:xfrm>
                <a:off x="2505240" y="1285920"/>
                <a:ext cx="6419520" cy="13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Или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если</m:t>
                        </m:r>
                        <m:r>
                          <m:t xml:space="preserve"> </m:t>
                        </m:r>
                        <m:r>
                          <m:t xml:space="preserve">Δх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перемещение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тела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а</m:t>
                        </m:r>
                        <m:r>
                          <m:t xml:space="preserve"> </m:t>
                        </m:r>
                        <m:r>
                          <m:t xml:space="preserve">Δt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промежуток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времени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в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течении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которого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выполнялось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движение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то</m:t>
                        </m:r>
                      </m:e>
                      <m:e>
                        <m:f>
                          <m:num>
                            <m:r>
                              <m:t xml:space="preserve">Δх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средняя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скорость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движения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на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ромежутке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времени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Object 9"/>
              <p:cNvSpPr txBox="1"/>
              <p:nvPr/>
            </p:nvSpPr>
            <p:spPr>
              <a:xfrm>
                <a:off x="533520" y="1371600"/>
                <a:ext cx="152388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р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х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7" name="Rectangle 10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12"/>
          <p:cNvSpPr/>
          <p:nvPr/>
        </p:nvSpPr>
        <p:spPr>
          <a:xfrm>
            <a:off x="8001000" y="5715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15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0" name="Object 14"/>
              <p:cNvSpPr txBox="1"/>
              <p:nvPr/>
            </p:nvSpPr>
            <p:spPr>
              <a:xfrm>
                <a:off x="863640" y="2819520"/>
                <a:ext cx="642456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к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мгновенной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скорости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следовательно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71" name="Rectangle 17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2" name="Object 16"/>
              <p:cNvSpPr txBox="1"/>
              <p:nvPr/>
            </p:nvSpPr>
            <p:spPr>
              <a:xfrm>
                <a:off x="685800" y="3962520"/>
                <a:ext cx="259092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3" name="Rectangle 19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4" name="Object 18"/>
              <p:cNvSpPr txBox="1"/>
              <p:nvPr/>
            </p:nvSpPr>
            <p:spPr>
              <a:xfrm>
                <a:off x="304920" y="5105520"/>
                <a:ext cx="8534160" cy="11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Производная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от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функции</m:t>
                        </m:r>
                        <m:r>
                          <m:t xml:space="preserve"> </m:t>
                        </m:r>
                        <m:r>
                          <m:t xml:space="preserve">в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данной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точке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это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скорость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изменения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функции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5" name="Object 21"/>
              <p:cNvSpPr txBox="1"/>
              <p:nvPr/>
            </p:nvSpPr>
            <p:spPr>
              <a:xfrm>
                <a:off x="3733920" y="4038480"/>
                <a:ext cx="396216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или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6" name="Object 22"/>
              <p:cNvSpPr txBox="1"/>
              <p:nvPr/>
            </p:nvSpPr>
            <p:spPr>
              <a:xfrm>
                <a:off x="5867280" y="5715000"/>
                <a:ext cx="261792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х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7" name="AutoShape 23"/>
          <p:cNvSpPr/>
          <p:nvPr/>
        </p:nvSpPr>
        <p:spPr>
          <a:xfrm>
            <a:off x="8839080" y="662940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4400" y="3837"/>
                </a:moveTo>
                <a:lnTo>
                  <a:pt x="16976" y="6448"/>
                </a:lnTo>
                <a:lnTo>
                  <a:pt x="16976" y="4707"/>
                </a:lnTo>
                <a:lnTo>
                  <a:pt x="18752" y="4707"/>
                </a:lnTo>
                <a:lnTo>
                  <a:pt x="18752" y="8224"/>
                </a:lnTo>
                <a:lnTo>
                  <a:pt x="21363" y="10800"/>
                </a:lnTo>
                <a:lnTo>
                  <a:pt x="19709" y="10800"/>
                </a:lnTo>
                <a:lnTo>
                  <a:pt x="19709" y="17989"/>
                </a:lnTo>
                <a:lnTo>
                  <a:pt x="9091" y="17989"/>
                </a:lnTo>
                <a:lnTo>
                  <a:pt x="9091" y="10800"/>
                </a:lnTo>
                <a:lnTo>
                  <a:pt x="7437" y="10800"/>
                </a:lnTo>
                <a:close/>
              </a:path>
              <a:path fill="darkenLess" w="28800" h="21600">
                <a:moveTo>
                  <a:pt x="16976" y="6448"/>
                </a:moveTo>
                <a:lnTo>
                  <a:pt x="16976" y="4707"/>
                </a:lnTo>
                <a:lnTo>
                  <a:pt x="18752" y="4707"/>
                </a:lnTo>
                <a:lnTo>
                  <a:pt x="18752" y="8224"/>
                </a:lnTo>
                <a:close/>
              </a:path>
              <a:path fill="darkenLess" w="28800" h="21600">
                <a:moveTo>
                  <a:pt x="13477" y="14299"/>
                </a:moveTo>
                <a:lnTo>
                  <a:pt x="15323" y="14299"/>
                </a:lnTo>
                <a:lnTo>
                  <a:pt x="15323" y="17989"/>
                </a:lnTo>
                <a:lnTo>
                  <a:pt x="19709" y="17989"/>
                </a:lnTo>
                <a:lnTo>
                  <a:pt x="19709" y="10800"/>
                </a:lnTo>
                <a:lnTo>
                  <a:pt x="9091" y="10800"/>
                </a:lnTo>
                <a:lnTo>
                  <a:pt x="9091" y="17989"/>
                </a:lnTo>
                <a:lnTo>
                  <a:pt x="134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3-08-19T12:39:55Z</dcterms:modified>
  <cp:revision>10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