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4F91-3A43-4D08-B1AA-D8A1D3413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36B5-AFA1-4D85-B4A8-D4EC4688C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2B36-633A-436C-A951-E8F9AAF22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2DE0-ABC0-4AF1-99D7-0E975AAD1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74EF8-0DDC-4ECD-A9E5-385D08A2C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D6FA9-402A-4E68-AE8A-12EEB698A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13A82-37F6-4A4E-9D31-91C44D0C5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AEEC9-A456-45DB-9A29-C2DADE380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B276B-CD0E-4A0D-BE82-11D3D1834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191AE-020E-4B9E-8C1E-2ADDD3F68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1416B-9444-402E-AB91-05136898E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F5DD-6AC8-457E-BA63-8F3044567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5D223-7C67-4CEA-9D0C-CF56843A7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D6C31-5439-4777-BBB2-03124DD67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C534B-8650-4D9C-8E1D-245B30F5F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472BC-DBDF-4A8C-8B42-6737F92C9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63EDB-359F-40D7-936D-F23C57918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E72D-6329-4581-9F29-5900C0A62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FBD8-A17F-48B6-BE75-EFED3C7C2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6B0B-2B49-415E-ABC3-5C76D7F01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80DB-38BD-4583-9246-7363A2E0D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5324-85AF-4AC6-A1DB-BB5620759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0E8A-E575-4A73-B4E0-A7D7FD470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F59B-5711-4EE0-A051-6F7E0DF58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2081C-1E94-40E8-885B-25BADBABB25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870EF-D154-4380-8A5B-E977D81187D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8002440" cy="2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0033"/>
                </a:solidFill>
                <a:latin typeface="Times New Roman"/>
              </a:rPr>
              <a:t>МБОУ «Яйская  основная общеобразовательная школа№3»</a:t>
            </a:r>
            <a:endParaRPr b="0" lang="en-US" sz="2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1557360"/>
            <a:ext cx="6858000" cy="400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ШЕНИЕ   УРАВН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ыполнила:Ляшкова Виктория, ученица 3класс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уководитель: Шипачева Е.М., учитель н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Есть ли  сходство и различие в уравнениях для 1, 2 ,3 класса?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914400" y="1600200"/>
          <a:ext cx="7772400" cy="287028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ходств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лич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 уравнения  на  сложение или вычитани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класс уравнения до 20, во 2классе до 100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3 классе  многозначные числ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Метод решения уравнений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«Целое и его части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ловное обозначе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елое -  круж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асть – дуга сниз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Новое сходство</a:t>
            </a: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  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в уравнениях на сложение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914400" y="1600200"/>
          <a:ext cx="7772400" cy="290844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49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клас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клас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клас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1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5 =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+ …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+ □  = 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□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= 15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 + 15 =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 +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=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 57 =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+ х =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 + 105 =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3 +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=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 89 =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3 +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=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04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Arc 20"/>
          <p:cNvSpPr/>
          <p:nvPr/>
        </p:nvSpPr>
        <p:spPr>
          <a:xfrm rot="9535200">
            <a:off x="899640" y="1773000"/>
            <a:ext cx="438120" cy="863640"/>
          </a:xfrm>
          <a:custGeom>
            <a:avLst/>
            <a:gdLst/>
            <a:ahLst/>
            <a:rect l="l" t="t" r="r" b="b"/>
            <a:pathLst>
              <a:path fill="none" w="13155" h="21598">
                <a:moveTo>
                  <a:pt x="299" y="0"/>
                </a:moveTo>
                <a:cubicBezTo>
                  <a:pt x="4954" y="64"/>
                  <a:pt x="9463" y="1631"/>
                  <a:pt x="13155" y="4465"/>
                </a:cubicBezTo>
              </a:path>
              <a:path stroke="0" w="13155" h="21598">
                <a:moveTo>
                  <a:pt x="299" y="0"/>
                </a:moveTo>
                <a:cubicBezTo>
                  <a:pt x="4954" y="64"/>
                  <a:pt x="9463" y="1631"/>
                  <a:pt x="13155" y="4465"/>
                </a:cubicBezTo>
                <a:lnTo>
                  <a:pt x="0" y="21598"/>
                </a:lnTo>
                <a:lnTo>
                  <a:pt x="299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rc 21"/>
          <p:cNvSpPr/>
          <p:nvPr/>
        </p:nvSpPr>
        <p:spPr>
          <a:xfrm rot="9535200">
            <a:off x="1547280" y="1773000"/>
            <a:ext cx="438480" cy="863640"/>
          </a:xfrm>
          <a:custGeom>
            <a:avLst/>
            <a:gdLst/>
            <a:ahLst/>
            <a:rect l="l" t="t" r="r" b="b"/>
            <a:pathLst>
              <a:path fill="none" w="13155" h="21598">
                <a:moveTo>
                  <a:pt x="299" y="0"/>
                </a:moveTo>
                <a:cubicBezTo>
                  <a:pt x="4954" y="64"/>
                  <a:pt x="9463" y="1631"/>
                  <a:pt x="13155" y="4465"/>
                </a:cubicBezTo>
              </a:path>
              <a:path stroke="0" w="13155" h="21598">
                <a:moveTo>
                  <a:pt x="299" y="0"/>
                </a:moveTo>
                <a:cubicBezTo>
                  <a:pt x="4954" y="64"/>
                  <a:pt x="9463" y="1631"/>
                  <a:pt x="13155" y="4465"/>
                </a:cubicBezTo>
                <a:lnTo>
                  <a:pt x="0" y="21598"/>
                </a:lnTo>
                <a:lnTo>
                  <a:pt x="299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23"/>
          <p:cNvSpPr/>
          <p:nvPr/>
        </p:nvSpPr>
        <p:spPr>
          <a:xfrm>
            <a:off x="2268360" y="2133720"/>
            <a:ext cx="43200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rc 26"/>
          <p:cNvSpPr/>
          <p:nvPr/>
        </p:nvSpPr>
        <p:spPr>
          <a:xfrm rot="9535200">
            <a:off x="899640" y="2204640"/>
            <a:ext cx="438120" cy="863640"/>
          </a:xfrm>
          <a:custGeom>
            <a:avLst/>
            <a:gdLst/>
            <a:ahLst/>
            <a:rect l="l" t="t" r="r" b="b"/>
            <a:pathLst>
              <a:path fill="none" w="13155" h="21598">
                <a:moveTo>
                  <a:pt x="299" y="0"/>
                </a:moveTo>
                <a:cubicBezTo>
                  <a:pt x="4954" y="64"/>
                  <a:pt x="9463" y="1631"/>
                  <a:pt x="13155" y="4465"/>
                </a:cubicBezTo>
              </a:path>
              <a:path stroke="0" w="13155" h="21598">
                <a:moveTo>
                  <a:pt x="299" y="0"/>
                </a:moveTo>
                <a:cubicBezTo>
                  <a:pt x="4954" y="64"/>
                  <a:pt x="9463" y="1631"/>
                  <a:pt x="13155" y="4465"/>
                </a:cubicBezTo>
                <a:lnTo>
                  <a:pt x="0" y="21598"/>
                </a:lnTo>
                <a:lnTo>
                  <a:pt x="299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rc 27"/>
          <p:cNvSpPr/>
          <p:nvPr/>
        </p:nvSpPr>
        <p:spPr>
          <a:xfrm rot="9535200">
            <a:off x="1476000" y="2204640"/>
            <a:ext cx="438120" cy="863640"/>
          </a:xfrm>
          <a:custGeom>
            <a:avLst/>
            <a:gdLst/>
            <a:ahLst/>
            <a:rect l="l" t="t" r="r" b="b"/>
            <a:pathLst>
              <a:path fill="none" w="13155" h="21598">
                <a:moveTo>
                  <a:pt x="299" y="0"/>
                </a:moveTo>
                <a:cubicBezTo>
                  <a:pt x="4954" y="64"/>
                  <a:pt x="9463" y="1631"/>
                  <a:pt x="13155" y="4465"/>
                </a:cubicBezTo>
              </a:path>
              <a:path stroke="0" w="13155" h="21598">
                <a:moveTo>
                  <a:pt x="299" y="0"/>
                </a:moveTo>
                <a:cubicBezTo>
                  <a:pt x="4954" y="64"/>
                  <a:pt x="9463" y="1631"/>
                  <a:pt x="13155" y="4465"/>
                </a:cubicBezTo>
                <a:lnTo>
                  <a:pt x="0" y="21598"/>
                </a:lnTo>
                <a:lnTo>
                  <a:pt x="299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rc 28"/>
          <p:cNvSpPr/>
          <p:nvPr/>
        </p:nvSpPr>
        <p:spPr>
          <a:xfrm rot="9535200">
            <a:off x="899640" y="2637000"/>
            <a:ext cx="438120" cy="863280"/>
          </a:xfrm>
          <a:custGeom>
            <a:avLst/>
            <a:gdLst/>
            <a:ahLst/>
            <a:rect l="l" t="t" r="r" b="b"/>
            <a:pathLst>
              <a:path fill="none" w="13155" h="21598">
                <a:moveTo>
                  <a:pt x="299" y="0"/>
                </a:moveTo>
                <a:cubicBezTo>
                  <a:pt x="4954" y="64"/>
                  <a:pt x="9463" y="1631"/>
                  <a:pt x="13155" y="4465"/>
                </a:cubicBezTo>
              </a:path>
              <a:path stroke="0" w="13155" h="21598">
                <a:moveTo>
                  <a:pt x="299" y="0"/>
                </a:moveTo>
                <a:cubicBezTo>
                  <a:pt x="4954" y="64"/>
                  <a:pt x="9463" y="1631"/>
                  <a:pt x="13155" y="4465"/>
                </a:cubicBezTo>
                <a:lnTo>
                  <a:pt x="0" y="21598"/>
                </a:lnTo>
                <a:lnTo>
                  <a:pt x="299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rc 29"/>
          <p:cNvSpPr/>
          <p:nvPr/>
        </p:nvSpPr>
        <p:spPr>
          <a:xfrm rot="9535200">
            <a:off x="1476000" y="2637000"/>
            <a:ext cx="438120" cy="863280"/>
          </a:xfrm>
          <a:custGeom>
            <a:avLst/>
            <a:gdLst/>
            <a:ahLst/>
            <a:rect l="l" t="t" r="r" b="b"/>
            <a:pathLst>
              <a:path fill="none" w="13155" h="21598">
                <a:moveTo>
                  <a:pt x="299" y="0"/>
                </a:moveTo>
                <a:cubicBezTo>
                  <a:pt x="4954" y="64"/>
                  <a:pt x="9463" y="1631"/>
                  <a:pt x="13155" y="4465"/>
                </a:cubicBezTo>
              </a:path>
              <a:path stroke="0" w="13155" h="21598">
                <a:moveTo>
                  <a:pt x="299" y="0"/>
                </a:moveTo>
                <a:cubicBezTo>
                  <a:pt x="4954" y="64"/>
                  <a:pt x="9463" y="1631"/>
                  <a:pt x="13155" y="4465"/>
                </a:cubicBezTo>
                <a:lnTo>
                  <a:pt x="0" y="21598"/>
                </a:lnTo>
                <a:lnTo>
                  <a:pt x="299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rc 30"/>
          <p:cNvSpPr/>
          <p:nvPr/>
        </p:nvSpPr>
        <p:spPr>
          <a:xfrm rot="9535200">
            <a:off x="899640" y="3068280"/>
            <a:ext cx="438120" cy="863640"/>
          </a:xfrm>
          <a:custGeom>
            <a:avLst/>
            <a:gdLst/>
            <a:ahLst/>
            <a:rect l="l" t="t" r="r" b="b"/>
            <a:pathLst>
              <a:path fill="none" w="13155" h="21598">
                <a:moveTo>
                  <a:pt x="299" y="0"/>
                </a:moveTo>
                <a:cubicBezTo>
                  <a:pt x="4954" y="64"/>
                  <a:pt x="9463" y="1631"/>
                  <a:pt x="13155" y="4465"/>
                </a:cubicBezTo>
              </a:path>
              <a:path stroke="0" w="13155" h="21598">
                <a:moveTo>
                  <a:pt x="299" y="0"/>
                </a:moveTo>
                <a:cubicBezTo>
                  <a:pt x="4954" y="64"/>
                  <a:pt x="9463" y="1631"/>
                  <a:pt x="13155" y="4465"/>
                </a:cubicBezTo>
                <a:lnTo>
                  <a:pt x="0" y="21598"/>
                </a:lnTo>
                <a:lnTo>
                  <a:pt x="299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rc 31"/>
          <p:cNvSpPr/>
          <p:nvPr/>
        </p:nvSpPr>
        <p:spPr>
          <a:xfrm rot="9535200">
            <a:off x="1476000" y="3068280"/>
            <a:ext cx="438120" cy="863640"/>
          </a:xfrm>
          <a:custGeom>
            <a:avLst/>
            <a:gdLst/>
            <a:ahLst/>
            <a:rect l="l" t="t" r="r" b="b"/>
            <a:pathLst>
              <a:path fill="none" w="13155" h="21598">
                <a:moveTo>
                  <a:pt x="299" y="0"/>
                </a:moveTo>
                <a:cubicBezTo>
                  <a:pt x="4954" y="64"/>
                  <a:pt x="9463" y="1631"/>
                  <a:pt x="13155" y="4465"/>
                </a:cubicBezTo>
              </a:path>
              <a:path stroke="0" w="13155" h="21598">
                <a:moveTo>
                  <a:pt x="299" y="0"/>
                </a:moveTo>
                <a:cubicBezTo>
                  <a:pt x="4954" y="64"/>
                  <a:pt x="9463" y="1631"/>
                  <a:pt x="13155" y="4465"/>
                </a:cubicBezTo>
                <a:lnTo>
                  <a:pt x="0" y="21598"/>
                </a:lnTo>
                <a:lnTo>
                  <a:pt x="299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rc 34"/>
          <p:cNvSpPr/>
          <p:nvPr/>
        </p:nvSpPr>
        <p:spPr>
          <a:xfrm rot="9535200">
            <a:off x="3419280" y="1773000"/>
            <a:ext cx="438120" cy="863640"/>
          </a:xfrm>
          <a:custGeom>
            <a:avLst/>
            <a:gdLst/>
            <a:ahLst/>
            <a:rect l="l" t="t" r="r" b="b"/>
            <a:pathLst>
              <a:path fill="none" w="13155" h="21598">
                <a:moveTo>
                  <a:pt x="299" y="0"/>
                </a:moveTo>
                <a:cubicBezTo>
                  <a:pt x="4954" y="64"/>
                  <a:pt x="9463" y="1631"/>
                  <a:pt x="13155" y="4465"/>
                </a:cubicBezTo>
              </a:path>
              <a:path stroke="0" w="13155" h="21598">
                <a:moveTo>
                  <a:pt x="299" y="0"/>
                </a:moveTo>
                <a:cubicBezTo>
                  <a:pt x="4954" y="64"/>
                  <a:pt x="9463" y="1631"/>
                  <a:pt x="13155" y="4465"/>
                </a:cubicBezTo>
                <a:lnTo>
                  <a:pt x="0" y="21598"/>
                </a:lnTo>
                <a:lnTo>
                  <a:pt x="299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rc 35"/>
          <p:cNvSpPr/>
          <p:nvPr/>
        </p:nvSpPr>
        <p:spPr>
          <a:xfrm rot="9535200">
            <a:off x="3563640" y="2204640"/>
            <a:ext cx="438120" cy="863640"/>
          </a:xfrm>
          <a:custGeom>
            <a:avLst/>
            <a:gdLst/>
            <a:ahLst/>
            <a:rect l="l" t="t" r="r" b="b"/>
            <a:pathLst>
              <a:path fill="none" w="13155" h="21598">
                <a:moveTo>
                  <a:pt x="299" y="0"/>
                </a:moveTo>
                <a:cubicBezTo>
                  <a:pt x="4954" y="64"/>
                  <a:pt x="9463" y="1631"/>
                  <a:pt x="13155" y="4465"/>
                </a:cubicBezTo>
              </a:path>
              <a:path stroke="0" w="13155" h="21598">
                <a:moveTo>
                  <a:pt x="299" y="0"/>
                </a:moveTo>
                <a:cubicBezTo>
                  <a:pt x="4954" y="64"/>
                  <a:pt x="9463" y="1631"/>
                  <a:pt x="13155" y="4465"/>
                </a:cubicBezTo>
                <a:lnTo>
                  <a:pt x="0" y="21598"/>
                </a:lnTo>
                <a:lnTo>
                  <a:pt x="299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rc 36"/>
          <p:cNvSpPr/>
          <p:nvPr/>
        </p:nvSpPr>
        <p:spPr>
          <a:xfrm rot="9535200">
            <a:off x="3419280" y="2637000"/>
            <a:ext cx="438120" cy="863280"/>
          </a:xfrm>
          <a:custGeom>
            <a:avLst/>
            <a:gdLst/>
            <a:ahLst/>
            <a:rect l="l" t="t" r="r" b="b"/>
            <a:pathLst>
              <a:path fill="none" w="13155" h="21598">
                <a:moveTo>
                  <a:pt x="299" y="0"/>
                </a:moveTo>
                <a:cubicBezTo>
                  <a:pt x="4954" y="64"/>
                  <a:pt x="9463" y="1631"/>
                  <a:pt x="13155" y="4465"/>
                </a:cubicBezTo>
              </a:path>
              <a:path stroke="0" w="13155" h="21598">
                <a:moveTo>
                  <a:pt x="299" y="0"/>
                </a:moveTo>
                <a:cubicBezTo>
                  <a:pt x="4954" y="64"/>
                  <a:pt x="9463" y="1631"/>
                  <a:pt x="13155" y="4465"/>
                </a:cubicBezTo>
                <a:lnTo>
                  <a:pt x="0" y="21598"/>
                </a:lnTo>
                <a:lnTo>
                  <a:pt x="299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rc 37"/>
          <p:cNvSpPr/>
          <p:nvPr/>
        </p:nvSpPr>
        <p:spPr>
          <a:xfrm rot="9535200">
            <a:off x="3492000" y="3068280"/>
            <a:ext cx="438120" cy="863640"/>
          </a:xfrm>
          <a:custGeom>
            <a:avLst/>
            <a:gdLst/>
            <a:ahLst/>
            <a:rect l="l" t="t" r="r" b="b"/>
            <a:pathLst>
              <a:path fill="none" w="13155" h="21598">
                <a:moveTo>
                  <a:pt x="299" y="0"/>
                </a:moveTo>
                <a:cubicBezTo>
                  <a:pt x="4954" y="64"/>
                  <a:pt x="9463" y="1631"/>
                  <a:pt x="13155" y="4465"/>
                </a:cubicBezTo>
              </a:path>
              <a:path stroke="0" w="13155" h="21598">
                <a:moveTo>
                  <a:pt x="299" y="0"/>
                </a:moveTo>
                <a:cubicBezTo>
                  <a:pt x="4954" y="64"/>
                  <a:pt x="9463" y="1631"/>
                  <a:pt x="13155" y="4465"/>
                </a:cubicBezTo>
                <a:lnTo>
                  <a:pt x="0" y="21598"/>
                </a:lnTo>
                <a:lnTo>
                  <a:pt x="299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rc 38"/>
          <p:cNvSpPr/>
          <p:nvPr/>
        </p:nvSpPr>
        <p:spPr>
          <a:xfrm rot="9535200">
            <a:off x="3995280" y="1773000"/>
            <a:ext cx="438120" cy="863640"/>
          </a:xfrm>
          <a:custGeom>
            <a:avLst/>
            <a:gdLst/>
            <a:ahLst/>
            <a:rect l="l" t="t" r="r" b="b"/>
            <a:pathLst>
              <a:path fill="none" w="13155" h="21598">
                <a:moveTo>
                  <a:pt x="299" y="0"/>
                </a:moveTo>
                <a:cubicBezTo>
                  <a:pt x="4954" y="64"/>
                  <a:pt x="9463" y="1631"/>
                  <a:pt x="13155" y="4465"/>
                </a:cubicBezTo>
              </a:path>
              <a:path stroke="0" w="13155" h="21598">
                <a:moveTo>
                  <a:pt x="299" y="0"/>
                </a:moveTo>
                <a:cubicBezTo>
                  <a:pt x="4954" y="64"/>
                  <a:pt x="9463" y="1631"/>
                  <a:pt x="13155" y="4465"/>
                </a:cubicBezTo>
                <a:lnTo>
                  <a:pt x="0" y="21598"/>
                </a:lnTo>
                <a:lnTo>
                  <a:pt x="299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rc 39"/>
          <p:cNvSpPr/>
          <p:nvPr/>
        </p:nvSpPr>
        <p:spPr>
          <a:xfrm rot="9535200">
            <a:off x="4140000" y="2204640"/>
            <a:ext cx="438120" cy="863640"/>
          </a:xfrm>
          <a:custGeom>
            <a:avLst/>
            <a:gdLst/>
            <a:ahLst/>
            <a:rect l="l" t="t" r="r" b="b"/>
            <a:pathLst>
              <a:path fill="none" w="13155" h="21598">
                <a:moveTo>
                  <a:pt x="299" y="0"/>
                </a:moveTo>
                <a:cubicBezTo>
                  <a:pt x="4954" y="64"/>
                  <a:pt x="9463" y="1631"/>
                  <a:pt x="13155" y="4465"/>
                </a:cubicBezTo>
              </a:path>
              <a:path stroke="0" w="13155" h="21598">
                <a:moveTo>
                  <a:pt x="299" y="0"/>
                </a:moveTo>
                <a:cubicBezTo>
                  <a:pt x="4954" y="64"/>
                  <a:pt x="9463" y="1631"/>
                  <a:pt x="13155" y="4465"/>
                </a:cubicBezTo>
                <a:lnTo>
                  <a:pt x="0" y="21598"/>
                </a:lnTo>
                <a:lnTo>
                  <a:pt x="299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rc 40"/>
          <p:cNvSpPr/>
          <p:nvPr/>
        </p:nvSpPr>
        <p:spPr>
          <a:xfrm rot="9535200">
            <a:off x="3995280" y="2637000"/>
            <a:ext cx="438120" cy="863280"/>
          </a:xfrm>
          <a:custGeom>
            <a:avLst/>
            <a:gdLst/>
            <a:ahLst/>
            <a:rect l="l" t="t" r="r" b="b"/>
            <a:pathLst>
              <a:path fill="none" w="13155" h="21598">
                <a:moveTo>
                  <a:pt x="299" y="0"/>
                </a:moveTo>
                <a:cubicBezTo>
                  <a:pt x="4954" y="64"/>
                  <a:pt x="9463" y="1631"/>
                  <a:pt x="13155" y="4465"/>
                </a:cubicBezTo>
              </a:path>
              <a:path stroke="0" w="13155" h="21598">
                <a:moveTo>
                  <a:pt x="299" y="0"/>
                </a:moveTo>
                <a:cubicBezTo>
                  <a:pt x="4954" y="64"/>
                  <a:pt x="9463" y="1631"/>
                  <a:pt x="13155" y="4465"/>
                </a:cubicBezTo>
                <a:lnTo>
                  <a:pt x="0" y="21598"/>
                </a:lnTo>
                <a:lnTo>
                  <a:pt x="299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rc 41"/>
          <p:cNvSpPr/>
          <p:nvPr/>
        </p:nvSpPr>
        <p:spPr>
          <a:xfrm rot="9535200">
            <a:off x="4140000" y="3068280"/>
            <a:ext cx="438120" cy="863640"/>
          </a:xfrm>
          <a:custGeom>
            <a:avLst/>
            <a:gdLst/>
            <a:ahLst/>
            <a:rect l="l" t="t" r="r" b="b"/>
            <a:pathLst>
              <a:path fill="none" w="13155" h="21598">
                <a:moveTo>
                  <a:pt x="299" y="0"/>
                </a:moveTo>
                <a:cubicBezTo>
                  <a:pt x="4954" y="64"/>
                  <a:pt x="9463" y="1631"/>
                  <a:pt x="13155" y="4465"/>
                </a:cubicBezTo>
              </a:path>
              <a:path stroke="0" w="13155" h="21598">
                <a:moveTo>
                  <a:pt x="299" y="0"/>
                </a:moveTo>
                <a:cubicBezTo>
                  <a:pt x="4954" y="64"/>
                  <a:pt x="9463" y="1631"/>
                  <a:pt x="13155" y="4465"/>
                </a:cubicBezTo>
                <a:lnTo>
                  <a:pt x="0" y="21598"/>
                </a:lnTo>
                <a:lnTo>
                  <a:pt x="299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rc 42"/>
          <p:cNvSpPr/>
          <p:nvPr/>
        </p:nvSpPr>
        <p:spPr>
          <a:xfrm rot="9535200">
            <a:off x="6084360" y="1773000"/>
            <a:ext cx="438480" cy="863640"/>
          </a:xfrm>
          <a:custGeom>
            <a:avLst/>
            <a:gdLst/>
            <a:ahLst/>
            <a:rect l="l" t="t" r="r" b="b"/>
            <a:pathLst>
              <a:path fill="none" w="13155" h="21598">
                <a:moveTo>
                  <a:pt x="299" y="0"/>
                </a:moveTo>
                <a:cubicBezTo>
                  <a:pt x="4954" y="64"/>
                  <a:pt x="9463" y="1631"/>
                  <a:pt x="13155" y="4465"/>
                </a:cubicBezTo>
              </a:path>
              <a:path stroke="0" w="13155" h="21598">
                <a:moveTo>
                  <a:pt x="299" y="0"/>
                </a:moveTo>
                <a:cubicBezTo>
                  <a:pt x="4954" y="64"/>
                  <a:pt x="9463" y="1631"/>
                  <a:pt x="13155" y="4465"/>
                </a:cubicBezTo>
                <a:lnTo>
                  <a:pt x="0" y="21598"/>
                </a:lnTo>
                <a:lnTo>
                  <a:pt x="299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rc 43"/>
          <p:cNvSpPr/>
          <p:nvPr/>
        </p:nvSpPr>
        <p:spPr>
          <a:xfrm rot="9535200">
            <a:off x="6084360" y="2204640"/>
            <a:ext cx="438480" cy="863640"/>
          </a:xfrm>
          <a:custGeom>
            <a:avLst/>
            <a:gdLst/>
            <a:ahLst/>
            <a:rect l="l" t="t" r="r" b="b"/>
            <a:pathLst>
              <a:path fill="none" w="13155" h="21598">
                <a:moveTo>
                  <a:pt x="299" y="0"/>
                </a:moveTo>
                <a:cubicBezTo>
                  <a:pt x="4954" y="64"/>
                  <a:pt x="9463" y="1631"/>
                  <a:pt x="13155" y="4465"/>
                </a:cubicBezTo>
              </a:path>
              <a:path stroke="0" w="13155" h="21598">
                <a:moveTo>
                  <a:pt x="299" y="0"/>
                </a:moveTo>
                <a:cubicBezTo>
                  <a:pt x="4954" y="64"/>
                  <a:pt x="9463" y="1631"/>
                  <a:pt x="13155" y="4465"/>
                </a:cubicBezTo>
                <a:lnTo>
                  <a:pt x="0" y="21598"/>
                </a:lnTo>
                <a:lnTo>
                  <a:pt x="299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rc 44"/>
          <p:cNvSpPr/>
          <p:nvPr/>
        </p:nvSpPr>
        <p:spPr>
          <a:xfrm rot="9535200">
            <a:off x="6011640" y="2637000"/>
            <a:ext cx="438120" cy="863280"/>
          </a:xfrm>
          <a:custGeom>
            <a:avLst/>
            <a:gdLst/>
            <a:ahLst/>
            <a:rect l="l" t="t" r="r" b="b"/>
            <a:pathLst>
              <a:path fill="none" w="13155" h="21598">
                <a:moveTo>
                  <a:pt x="299" y="0"/>
                </a:moveTo>
                <a:cubicBezTo>
                  <a:pt x="4954" y="64"/>
                  <a:pt x="9463" y="1631"/>
                  <a:pt x="13155" y="4465"/>
                </a:cubicBezTo>
              </a:path>
              <a:path stroke="0" w="13155" h="21598">
                <a:moveTo>
                  <a:pt x="299" y="0"/>
                </a:moveTo>
                <a:cubicBezTo>
                  <a:pt x="4954" y="64"/>
                  <a:pt x="9463" y="1631"/>
                  <a:pt x="13155" y="4465"/>
                </a:cubicBezTo>
                <a:lnTo>
                  <a:pt x="0" y="21598"/>
                </a:lnTo>
                <a:lnTo>
                  <a:pt x="299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rc 45"/>
          <p:cNvSpPr/>
          <p:nvPr/>
        </p:nvSpPr>
        <p:spPr>
          <a:xfrm rot="9535200">
            <a:off x="6084360" y="3068280"/>
            <a:ext cx="438480" cy="863640"/>
          </a:xfrm>
          <a:custGeom>
            <a:avLst/>
            <a:gdLst/>
            <a:ahLst/>
            <a:rect l="l" t="t" r="r" b="b"/>
            <a:pathLst>
              <a:path fill="none" w="13155" h="21598">
                <a:moveTo>
                  <a:pt x="299" y="0"/>
                </a:moveTo>
                <a:cubicBezTo>
                  <a:pt x="4954" y="64"/>
                  <a:pt x="9463" y="1631"/>
                  <a:pt x="13155" y="4465"/>
                </a:cubicBezTo>
              </a:path>
              <a:path stroke="0" w="13155" h="21598">
                <a:moveTo>
                  <a:pt x="299" y="0"/>
                </a:moveTo>
                <a:cubicBezTo>
                  <a:pt x="4954" y="64"/>
                  <a:pt x="9463" y="1631"/>
                  <a:pt x="13155" y="4465"/>
                </a:cubicBezTo>
                <a:lnTo>
                  <a:pt x="0" y="21598"/>
                </a:lnTo>
                <a:lnTo>
                  <a:pt x="299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rc 46"/>
          <p:cNvSpPr/>
          <p:nvPr/>
        </p:nvSpPr>
        <p:spPr>
          <a:xfrm rot="9535200">
            <a:off x="6732360" y="1773000"/>
            <a:ext cx="438120" cy="863640"/>
          </a:xfrm>
          <a:custGeom>
            <a:avLst/>
            <a:gdLst/>
            <a:ahLst/>
            <a:rect l="l" t="t" r="r" b="b"/>
            <a:pathLst>
              <a:path fill="none" w="13155" h="21598">
                <a:moveTo>
                  <a:pt x="299" y="0"/>
                </a:moveTo>
                <a:cubicBezTo>
                  <a:pt x="4954" y="64"/>
                  <a:pt x="9463" y="1631"/>
                  <a:pt x="13155" y="4465"/>
                </a:cubicBezTo>
              </a:path>
              <a:path stroke="0" w="13155" h="21598">
                <a:moveTo>
                  <a:pt x="299" y="0"/>
                </a:moveTo>
                <a:cubicBezTo>
                  <a:pt x="4954" y="64"/>
                  <a:pt x="9463" y="1631"/>
                  <a:pt x="13155" y="4465"/>
                </a:cubicBezTo>
                <a:lnTo>
                  <a:pt x="0" y="21598"/>
                </a:lnTo>
                <a:lnTo>
                  <a:pt x="299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rc 47"/>
          <p:cNvSpPr/>
          <p:nvPr/>
        </p:nvSpPr>
        <p:spPr>
          <a:xfrm rot="9535200">
            <a:off x="6803640" y="2204640"/>
            <a:ext cx="438120" cy="863640"/>
          </a:xfrm>
          <a:custGeom>
            <a:avLst/>
            <a:gdLst/>
            <a:ahLst/>
            <a:rect l="l" t="t" r="r" b="b"/>
            <a:pathLst>
              <a:path fill="none" w="13155" h="21598">
                <a:moveTo>
                  <a:pt x="299" y="0"/>
                </a:moveTo>
                <a:cubicBezTo>
                  <a:pt x="4954" y="64"/>
                  <a:pt x="9463" y="1631"/>
                  <a:pt x="13155" y="4465"/>
                </a:cubicBezTo>
              </a:path>
              <a:path stroke="0" w="13155" h="21598">
                <a:moveTo>
                  <a:pt x="299" y="0"/>
                </a:moveTo>
                <a:cubicBezTo>
                  <a:pt x="4954" y="64"/>
                  <a:pt x="9463" y="1631"/>
                  <a:pt x="13155" y="4465"/>
                </a:cubicBezTo>
                <a:lnTo>
                  <a:pt x="0" y="21598"/>
                </a:lnTo>
                <a:lnTo>
                  <a:pt x="299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rc 48"/>
          <p:cNvSpPr/>
          <p:nvPr/>
        </p:nvSpPr>
        <p:spPr>
          <a:xfrm rot="9535200">
            <a:off x="6587640" y="2637000"/>
            <a:ext cx="438120" cy="863280"/>
          </a:xfrm>
          <a:custGeom>
            <a:avLst/>
            <a:gdLst/>
            <a:ahLst/>
            <a:rect l="l" t="t" r="r" b="b"/>
            <a:pathLst>
              <a:path fill="none" w="13155" h="21598">
                <a:moveTo>
                  <a:pt x="299" y="0"/>
                </a:moveTo>
                <a:cubicBezTo>
                  <a:pt x="4954" y="64"/>
                  <a:pt x="9463" y="1631"/>
                  <a:pt x="13155" y="4465"/>
                </a:cubicBezTo>
              </a:path>
              <a:path stroke="0" w="13155" h="21598">
                <a:moveTo>
                  <a:pt x="299" y="0"/>
                </a:moveTo>
                <a:cubicBezTo>
                  <a:pt x="4954" y="64"/>
                  <a:pt x="9463" y="1631"/>
                  <a:pt x="13155" y="4465"/>
                </a:cubicBezTo>
                <a:lnTo>
                  <a:pt x="0" y="21598"/>
                </a:lnTo>
                <a:lnTo>
                  <a:pt x="299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rc 49"/>
          <p:cNvSpPr/>
          <p:nvPr/>
        </p:nvSpPr>
        <p:spPr>
          <a:xfrm rot="9535200">
            <a:off x="6803640" y="3068280"/>
            <a:ext cx="438120" cy="863640"/>
          </a:xfrm>
          <a:custGeom>
            <a:avLst/>
            <a:gdLst/>
            <a:ahLst/>
            <a:rect l="l" t="t" r="r" b="b"/>
            <a:pathLst>
              <a:path fill="none" w="13155" h="21598">
                <a:moveTo>
                  <a:pt x="299" y="0"/>
                </a:moveTo>
                <a:cubicBezTo>
                  <a:pt x="4954" y="64"/>
                  <a:pt x="9463" y="1631"/>
                  <a:pt x="13155" y="4465"/>
                </a:cubicBezTo>
              </a:path>
              <a:path stroke="0" w="13155" h="21598">
                <a:moveTo>
                  <a:pt x="299" y="0"/>
                </a:moveTo>
                <a:cubicBezTo>
                  <a:pt x="4954" y="64"/>
                  <a:pt x="9463" y="1631"/>
                  <a:pt x="13155" y="4465"/>
                </a:cubicBezTo>
                <a:lnTo>
                  <a:pt x="0" y="21598"/>
                </a:lnTo>
                <a:lnTo>
                  <a:pt x="299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50"/>
          <p:cNvSpPr/>
          <p:nvPr/>
        </p:nvSpPr>
        <p:spPr>
          <a:xfrm>
            <a:off x="2268360" y="2565360"/>
            <a:ext cx="432000" cy="432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51"/>
          <p:cNvSpPr/>
          <p:nvPr/>
        </p:nvSpPr>
        <p:spPr>
          <a:xfrm>
            <a:off x="2268360" y="2997360"/>
            <a:ext cx="43200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val 52"/>
          <p:cNvSpPr/>
          <p:nvPr/>
        </p:nvSpPr>
        <p:spPr>
          <a:xfrm>
            <a:off x="2268360" y="3429000"/>
            <a:ext cx="43200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54"/>
          <p:cNvSpPr/>
          <p:nvPr/>
        </p:nvSpPr>
        <p:spPr>
          <a:xfrm>
            <a:off x="4932360" y="213372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55"/>
          <p:cNvSpPr/>
          <p:nvPr/>
        </p:nvSpPr>
        <p:spPr>
          <a:xfrm>
            <a:off x="4932360" y="2565360"/>
            <a:ext cx="431640" cy="432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56"/>
          <p:cNvSpPr/>
          <p:nvPr/>
        </p:nvSpPr>
        <p:spPr>
          <a:xfrm>
            <a:off x="7524720" y="2565360"/>
            <a:ext cx="863640" cy="432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57"/>
          <p:cNvSpPr/>
          <p:nvPr/>
        </p:nvSpPr>
        <p:spPr>
          <a:xfrm>
            <a:off x="4932360" y="299736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58"/>
          <p:cNvSpPr/>
          <p:nvPr/>
        </p:nvSpPr>
        <p:spPr>
          <a:xfrm>
            <a:off x="4932360" y="342900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59"/>
          <p:cNvSpPr/>
          <p:nvPr/>
        </p:nvSpPr>
        <p:spPr>
          <a:xfrm>
            <a:off x="7596360" y="2133720"/>
            <a:ext cx="86328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60"/>
          <p:cNvSpPr/>
          <p:nvPr/>
        </p:nvSpPr>
        <p:spPr>
          <a:xfrm>
            <a:off x="7451640" y="2997360"/>
            <a:ext cx="863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61"/>
          <p:cNvSpPr/>
          <p:nvPr/>
        </p:nvSpPr>
        <p:spPr>
          <a:xfrm>
            <a:off x="7524720" y="3429000"/>
            <a:ext cx="863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Новое сходство</a:t>
            </a: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  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в уравнениях на вычитание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914400" y="1600200"/>
          <a:ext cx="7772400" cy="290844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49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клас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клас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клас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1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  - … =  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…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 1 =  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  – □ =  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□  –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 =  2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  -  х =   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  -  1 =    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  - у =   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  - 8  =  2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0 – х =  2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– 170 =  3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0 –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=  4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– 380 =  100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8" name="Oval 19"/>
          <p:cNvSpPr/>
          <p:nvPr/>
        </p:nvSpPr>
        <p:spPr>
          <a:xfrm>
            <a:off x="6084720" y="3429000"/>
            <a:ext cx="43200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20"/>
          <p:cNvSpPr/>
          <p:nvPr/>
        </p:nvSpPr>
        <p:spPr>
          <a:xfrm>
            <a:off x="1042920" y="2997360"/>
            <a:ext cx="43200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21"/>
          <p:cNvSpPr/>
          <p:nvPr/>
        </p:nvSpPr>
        <p:spPr>
          <a:xfrm>
            <a:off x="971640" y="2565360"/>
            <a:ext cx="431640" cy="432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22"/>
          <p:cNvSpPr/>
          <p:nvPr/>
        </p:nvSpPr>
        <p:spPr>
          <a:xfrm>
            <a:off x="971640" y="213372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23"/>
          <p:cNvSpPr/>
          <p:nvPr/>
        </p:nvSpPr>
        <p:spPr>
          <a:xfrm>
            <a:off x="3635280" y="3429000"/>
            <a:ext cx="43200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24"/>
          <p:cNvSpPr/>
          <p:nvPr/>
        </p:nvSpPr>
        <p:spPr>
          <a:xfrm>
            <a:off x="3635280" y="2997360"/>
            <a:ext cx="43200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25"/>
          <p:cNvSpPr/>
          <p:nvPr/>
        </p:nvSpPr>
        <p:spPr>
          <a:xfrm>
            <a:off x="3635280" y="2565360"/>
            <a:ext cx="432000" cy="432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26"/>
          <p:cNvSpPr/>
          <p:nvPr/>
        </p:nvSpPr>
        <p:spPr>
          <a:xfrm>
            <a:off x="3635280" y="2133720"/>
            <a:ext cx="43200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27"/>
          <p:cNvSpPr/>
          <p:nvPr/>
        </p:nvSpPr>
        <p:spPr>
          <a:xfrm>
            <a:off x="971640" y="3500280"/>
            <a:ext cx="431640" cy="432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28"/>
          <p:cNvSpPr/>
          <p:nvPr/>
        </p:nvSpPr>
        <p:spPr>
          <a:xfrm>
            <a:off x="6084720" y="2565360"/>
            <a:ext cx="432000" cy="432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29"/>
          <p:cNvSpPr/>
          <p:nvPr/>
        </p:nvSpPr>
        <p:spPr>
          <a:xfrm>
            <a:off x="6156360" y="2997360"/>
            <a:ext cx="64908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val 30"/>
          <p:cNvSpPr/>
          <p:nvPr/>
        </p:nvSpPr>
        <p:spPr>
          <a:xfrm>
            <a:off x="6156360" y="2133720"/>
            <a:ext cx="64908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rc 31"/>
          <p:cNvSpPr/>
          <p:nvPr/>
        </p:nvSpPr>
        <p:spPr>
          <a:xfrm rot="9535200">
            <a:off x="1476000" y="3068280"/>
            <a:ext cx="438120" cy="863640"/>
          </a:xfrm>
          <a:custGeom>
            <a:avLst/>
            <a:gdLst/>
            <a:ahLst/>
            <a:rect l="l" t="t" r="r" b="b"/>
            <a:pathLst>
              <a:path fill="none" w="13155" h="21598">
                <a:moveTo>
                  <a:pt x="299" y="0"/>
                </a:moveTo>
                <a:cubicBezTo>
                  <a:pt x="4954" y="64"/>
                  <a:pt x="9463" y="1631"/>
                  <a:pt x="13155" y="4465"/>
                </a:cubicBezTo>
              </a:path>
              <a:path stroke="0" w="13155" h="21598">
                <a:moveTo>
                  <a:pt x="299" y="0"/>
                </a:moveTo>
                <a:cubicBezTo>
                  <a:pt x="4954" y="64"/>
                  <a:pt x="9463" y="1631"/>
                  <a:pt x="13155" y="4465"/>
                </a:cubicBezTo>
                <a:lnTo>
                  <a:pt x="0" y="21598"/>
                </a:lnTo>
                <a:lnTo>
                  <a:pt x="299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rc 32"/>
          <p:cNvSpPr/>
          <p:nvPr/>
        </p:nvSpPr>
        <p:spPr>
          <a:xfrm rot="9535200">
            <a:off x="2123640" y="3068280"/>
            <a:ext cx="438120" cy="863640"/>
          </a:xfrm>
          <a:custGeom>
            <a:avLst/>
            <a:gdLst/>
            <a:ahLst/>
            <a:rect l="l" t="t" r="r" b="b"/>
            <a:pathLst>
              <a:path fill="none" w="13155" h="21598">
                <a:moveTo>
                  <a:pt x="299" y="0"/>
                </a:moveTo>
                <a:cubicBezTo>
                  <a:pt x="4954" y="64"/>
                  <a:pt x="9463" y="1631"/>
                  <a:pt x="13155" y="4465"/>
                </a:cubicBezTo>
              </a:path>
              <a:path stroke="0" w="13155" h="21598">
                <a:moveTo>
                  <a:pt x="299" y="0"/>
                </a:moveTo>
                <a:cubicBezTo>
                  <a:pt x="4954" y="64"/>
                  <a:pt x="9463" y="1631"/>
                  <a:pt x="13155" y="4465"/>
                </a:cubicBezTo>
                <a:lnTo>
                  <a:pt x="0" y="21598"/>
                </a:lnTo>
                <a:lnTo>
                  <a:pt x="299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rc 33"/>
          <p:cNvSpPr/>
          <p:nvPr/>
        </p:nvSpPr>
        <p:spPr>
          <a:xfrm rot="9535200">
            <a:off x="1618920" y="2637000"/>
            <a:ext cx="438120" cy="863280"/>
          </a:xfrm>
          <a:custGeom>
            <a:avLst/>
            <a:gdLst/>
            <a:ahLst/>
            <a:rect l="l" t="t" r="r" b="b"/>
            <a:pathLst>
              <a:path fill="none" w="13155" h="21598">
                <a:moveTo>
                  <a:pt x="299" y="0"/>
                </a:moveTo>
                <a:cubicBezTo>
                  <a:pt x="4954" y="64"/>
                  <a:pt x="9463" y="1631"/>
                  <a:pt x="13155" y="4465"/>
                </a:cubicBezTo>
              </a:path>
              <a:path stroke="0" w="13155" h="21598">
                <a:moveTo>
                  <a:pt x="299" y="0"/>
                </a:moveTo>
                <a:cubicBezTo>
                  <a:pt x="4954" y="64"/>
                  <a:pt x="9463" y="1631"/>
                  <a:pt x="13155" y="4465"/>
                </a:cubicBezTo>
                <a:lnTo>
                  <a:pt x="0" y="21598"/>
                </a:lnTo>
                <a:lnTo>
                  <a:pt x="299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rc 34"/>
          <p:cNvSpPr/>
          <p:nvPr/>
        </p:nvSpPr>
        <p:spPr>
          <a:xfrm rot="9535200">
            <a:off x="2339640" y="2637000"/>
            <a:ext cx="438120" cy="863280"/>
          </a:xfrm>
          <a:custGeom>
            <a:avLst/>
            <a:gdLst/>
            <a:ahLst/>
            <a:rect l="l" t="t" r="r" b="b"/>
            <a:pathLst>
              <a:path fill="none" w="13155" h="21598">
                <a:moveTo>
                  <a:pt x="299" y="0"/>
                </a:moveTo>
                <a:cubicBezTo>
                  <a:pt x="4954" y="64"/>
                  <a:pt x="9463" y="1631"/>
                  <a:pt x="13155" y="4465"/>
                </a:cubicBezTo>
              </a:path>
              <a:path stroke="0" w="13155" h="21598">
                <a:moveTo>
                  <a:pt x="299" y="0"/>
                </a:moveTo>
                <a:cubicBezTo>
                  <a:pt x="4954" y="64"/>
                  <a:pt x="9463" y="1631"/>
                  <a:pt x="13155" y="4465"/>
                </a:cubicBezTo>
                <a:lnTo>
                  <a:pt x="0" y="21598"/>
                </a:lnTo>
                <a:lnTo>
                  <a:pt x="299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rc 35"/>
          <p:cNvSpPr/>
          <p:nvPr/>
        </p:nvSpPr>
        <p:spPr>
          <a:xfrm rot="9535200">
            <a:off x="1547280" y="2204640"/>
            <a:ext cx="438480" cy="863640"/>
          </a:xfrm>
          <a:custGeom>
            <a:avLst/>
            <a:gdLst/>
            <a:ahLst/>
            <a:rect l="l" t="t" r="r" b="b"/>
            <a:pathLst>
              <a:path fill="none" w="13155" h="21598">
                <a:moveTo>
                  <a:pt x="299" y="0"/>
                </a:moveTo>
                <a:cubicBezTo>
                  <a:pt x="4954" y="64"/>
                  <a:pt x="9463" y="1631"/>
                  <a:pt x="13155" y="4465"/>
                </a:cubicBezTo>
              </a:path>
              <a:path stroke="0" w="13155" h="21598">
                <a:moveTo>
                  <a:pt x="299" y="0"/>
                </a:moveTo>
                <a:cubicBezTo>
                  <a:pt x="4954" y="64"/>
                  <a:pt x="9463" y="1631"/>
                  <a:pt x="13155" y="4465"/>
                </a:cubicBezTo>
                <a:lnTo>
                  <a:pt x="0" y="21598"/>
                </a:lnTo>
                <a:lnTo>
                  <a:pt x="299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rc 36"/>
          <p:cNvSpPr/>
          <p:nvPr/>
        </p:nvSpPr>
        <p:spPr>
          <a:xfrm rot="9535200">
            <a:off x="2195280" y="2133360"/>
            <a:ext cx="438120" cy="863640"/>
          </a:xfrm>
          <a:custGeom>
            <a:avLst/>
            <a:gdLst/>
            <a:ahLst/>
            <a:rect l="l" t="t" r="r" b="b"/>
            <a:pathLst>
              <a:path fill="none" w="13155" h="21598">
                <a:moveTo>
                  <a:pt x="299" y="0"/>
                </a:moveTo>
                <a:cubicBezTo>
                  <a:pt x="4954" y="64"/>
                  <a:pt x="9463" y="1631"/>
                  <a:pt x="13155" y="4465"/>
                </a:cubicBezTo>
              </a:path>
              <a:path stroke="0" w="13155" h="21598">
                <a:moveTo>
                  <a:pt x="299" y="0"/>
                </a:moveTo>
                <a:cubicBezTo>
                  <a:pt x="4954" y="64"/>
                  <a:pt x="9463" y="1631"/>
                  <a:pt x="13155" y="4465"/>
                </a:cubicBezTo>
                <a:lnTo>
                  <a:pt x="0" y="21598"/>
                </a:lnTo>
                <a:lnTo>
                  <a:pt x="299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rc 37"/>
          <p:cNvSpPr/>
          <p:nvPr/>
        </p:nvSpPr>
        <p:spPr>
          <a:xfrm rot="9535200">
            <a:off x="1547280" y="1699920"/>
            <a:ext cx="438480" cy="863640"/>
          </a:xfrm>
          <a:custGeom>
            <a:avLst/>
            <a:gdLst/>
            <a:ahLst/>
            <a:rect l="l" t="t" r="r" b="b"/>
            <a:pathLst>
              <a:path fill="none" w="13155" h="21598">
                <a:moveTo>
                  <a:pt x="299" y="0"/>
                </a:moveTo>
                <a:cubicBezTo>
                  <a:pt x="4954" y="64"/>
                  <a:pt x="9463" y="1631"/>
                  <a:pt x="13155" y="4465"/>
                </a:cubicBezTo>
              </a:path>
              <a:path stroke="0" w="13155" h="21598">
                <a:moveTo>
                  <a:pt x="299" y="0"/>
                </a:moveTo>
                <a:cubicBezTo>
                  <a:pt x="4954" y="64"/>
                  <a:pt x="9463" y="1631"/>
                  <a:pt x="13155" y="4465"/>
                </a:cubicBezTo>
                <a:lnTo>
                  <a:pt x="0" y="21598"/>
                </a:lnTo>
                <a:lnTo>
                  <a:pt x="299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rc 38"/>
          <p:cNvSpPr/>
          <p:nvPr/>
        </p:nvSpPr>
        <p:spPr>
          <a:xfrm rot="9535200">
            <a:off x="2195280" y="1699920"/>
            <a:ext cx="438120" cy="863640"/>
          </a:xfrm>
          <a:custGeom>
            <a:avLst/>
            <a:gdLst/>
            <a:ahLst/>
            <a:rect l="l" t="t" r="r" b="b"/>
            <a:pathLst>
              <a:path fill="none" w="13155" h="21598">
                <a:moveTo>
                  <a:pt x="299" y="0"/>
                </a:moveTo>
                <a:cubicBezTo>
                  <a:pt x="4954" y="64"/>
                  <a:pt x="9463" y="1631"/>
                  <a:pt x="13155" y="4465"/>
                </a:cubicBezTo>
              </a:path>
              <a:path stroke="0" w="13155" h="21598">
                <a:moveTo>
                  <a:pt x="299" y="0"/>
                </a:moveTo>
                <a:cubicBezTo>
                  <a:pt x="4954" y="64"/>
                  <a:pt x="9463" y="1631"/>
                  <a:pt x="13155" y="4465"/>
                </a:cubicBezTo>
                <a:lnTo>
                  <a:pt x="0" y="21598"/>
                </a:lnTo>
                <a:lnTo>
                  <a:pt x="299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rc 39"/>
          <p:cNvSpPr/>
          <p:nvPr/>
        </p:nvSpPr>
        <p:spPr>
          <a:xfrm rot="9535200">
            <a:off x="4211280" y="1699920"/>
            <a:ext cx="438120" cy="863640"/>
          </a:xfrm>
          <a:custGeom>
            <a:avLst/>
            <a:gdLst/>
            <a:ahLst/>
            <a:rect l="l" t="t" r="r" b="b"/>
            <a:pathLst>
              <a:path fill="none" w="13155" h="21598">
                <a:moveTo>
                  <a:pt x="299" y="0"/>
                </a:moveTo>
                <a:cubicBezTo>
                  <a:pt x="4954" y="64"/>
                  <a:pt x="9463" y="1631"/>
                  <a:pt x="13155" y="4465"/>
                </a:cubicBezTo>
              </a:path>
              <a:path stroke="0" w="13155" h="21598">
                <a:moveTo>
                  <a:pt x="299" y="0"/>
                </a:moveTo>
                <a:cubicBezTo>
                  <a:pt x="4954" y="64"/>
                  <a:pt x="9463" y="1631"/>
                  <a:pt x="13155" y="4465"/>
                </a:cubicBezTo>
                <a:lnTo>
                  <a:pt x="0" y="21598"/>
                </a:lnTo>
                <a:lnTo>
                  <a:pt x="299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rc 40"/>
          <p:cNvSpPr/>
          <p:nvPr/>
        </p:nvSpPr>
        <p:spPr>
          <a:xfrm rot="9535200">
            <a:off x="4932000" y="1699920"/>
            <a:ext cx="438120" cy="863640"/>
          </a:xfrm>
          <a:custGeom>
            <a:avLst/>
            <a:gdLst/>
            <a:ahLst/>
            <a:rect l="l" t="t" r="r" b="b"/>
            <a:pathLst>
              <a:path fill="none" w="13155" h="21598">
                <a:moveTo>
                  <a:pt x="299" y="0"/>
                </a:moveTo>
                <a:cubicBezTo>
                  <a:pt x="4954" y="64"/>
                  <a:pt x="9463" y="1631"/>
                  <a:pt x="13155" y="4465"/>
                </a:cubicBezTo>
              </a:path>
              <a:path stroke="0" w="13155" h="21598">
                <a:moveTo>
                  <a:pt x="299" y="0"/>
                </a:moveTo>
                <a:cubicBezTo>
                  <a:pt x="4954" y="64"/>
                  <a:pt x="9463" y="1631"/>
                  <a:pt x="13155" y="4465"/>
                </a:cubicBezTo>
                <a:lnTo>
                  <a:pt x="0" y="21598"/>
                </a:lnTo>
                <a:lnTo>
                  <a:pt x="299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rc 41"/>
          <p:cNvSpPr/>
          <p:nvPr/>
        </p:nvSpPr>
        <p:spPr>
          <a:xfrm rot="9535200">
            <a:off x="4211280" y="2133360"/>
            <a:ext cx="438120" cy="863640"/>
          </a:xfrm>
          <a:custGeom>
            <a:avLst/>
            <a:gdLst/>
            <a:ahLst/>
            <a:rect l="l" t="t" r="r" b="b"/>
            <a:pathLst>
              <a:path fill="none" w="13155" h="21598">
                <a:moveTo>
                  <a:pt x="299" y="0"/>
                </a:moveTo>
                <a:cubicBezTo>
                  <a:pt x="4954" y="64"/>
                  <a:pt x="9463" y="1631"/>
                  <a:pt x="13155" y="4465"/>
                </a:cubicBezTo>
              </a:path>
              <a:path stroke="0" w="13155" h="21598">
                <a:moveTo>
                  <a:pt x="299" y="0"/>
                </a:moveTo>
                <a:cubicBezTo>
                  <a:pt x="4954" y="64"/>
                  <a:pt x="9463" y="1631"/>
                  <a:pt x="13155" y="4465"/>
                </a:cubicBezTo>
                <a:lnTo>
                  <a:pt x="0" y="21598"/>
                </a:lnTo>
                <a:lnTo>
                  <a:pt x="299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rc 42"/>
          <p:cNvSpPr/>
          <p:nvPr/>
        </p:nvSpPr>
        <p:spPr>
          <a:xfrm rot="9535200">
            <a:off x="4858920" y="2133360"/>
            <a:ext cx="438120" cy="863640"/>
          </a:xfrm>
          <a:custGeom>
            <a:avLst/>
            <a:gdLst/>
            <a:ahLst/>
            <a:rect l="l" t="t" r="r" b="b"/>
            <a:pathLst>
              <a:path fill="none" w="13155" h="21598">
                <a:moveTo>
                  <a:pt x="299" y="0"/>
                </a:moveTo>
                <a:cubicBezTo>
                  <a:pt x="4954" y="64"/>
                  <a:pt x="9463" y="1631"/>
                  <a:pt x="13155" y="4465"/>
                </a:cubicBezTo>
              </a:path>
              <a:path stroke="0" w="13155" h="21598">
                <a:moveTo>
                  <a:pt x="299" y="0"/>
                </a:moveTo>
                <a:cubicBezTo>
                  <a:pt x="4954" y="64"/>
                  <a:pt x="9463" y="1631"/>
                  <a:pt x="13155" y="4465"/>
                </a:cubicBezTo>
                <a:lnTo>
                  <a:pt x="0" y="21598"/>
                </a:lnTo>
                <a:lnTo>
                  <a:pt x="299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rc 43"/>
          <p:cNvSpPr/>
          <p:nvPr/>
        </p:nvSpPr>
        <p:spPr>
          <a:xfrm rot="9535200">
            <a:off x="4140000" y="2565000"/>
            <a:ext cx="438120" cy="863640"/>
          </a:xfrm>
          <a:custGeom>
            <a:avLst/>
            <a:gdLst/>
            <a:ahLst/>
            <a:rect l="l" t="t" r="r" b="b"/>
            <a:pathLst>
              <a:path fill="none" w="13155" h="21598">
                <a:moveTo>
                  <a:pt x="299" y="0"/>
                </a:moveTo>
                <a:cubicBezTo>
                  <a:pt x="4954" y="64"/>
                  <a:pt x="9463" y="1631"/>
                  <a:pt x="13155" y="4465"/>
                </a:cubicBezTo>
              </a:path>
              <a:path stroke="0" w="13155" h="21598">
                <a:moveTo>
                  <a:pt x="299" y="0"/>
                </a:moveTo>
                <a:cubicBezTo>
                  <a:pt x="4954" y="64"/>
                  <a:pt x="9463" y="1631"/>
                  <a:pt x="13155" y="4465"/>
                </a:cubicBezTo>
                <a:lnTo>
                  <a:pt x="0" y="21598"/>
                </a:lnTo>
                <a:lnTo>
                  <a:pt x="299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rc 44"/>
          <p:cNvSpPr/>
          <p:nvPr/>
        </p:nvSpPr>
        <p:spPr>
          <a:xfrm rot="9535200">
            <a:off x="4858920" y="2565000"/>
            <a:ext cx="438120" cy="863640"/>
          </a:xfrm>
          <a:custGeom>
            <a:avLst/>
            <a:gdLst/>
            <a:ahLst/>
            <a:rect l="l" t="t" r="r" b="b"/>
            <a:pathLst>
              <a:path fill="none" w="13155" h="21598">
                <a:moveTo>
                  <a:pt x="299" y="0"/>
                </a:moveTo>
                <a:cubicBezTo>
                  <a:pt x="4954" y="64"/>
                  <a:pt x="9463" y="1631"/>
                  <a:pt x="13155" y="4465"/>
                </a:cubicBezTo>
              </a:path>
              <a:path stroke="0" w="13155" h="21598">
                <a:moveTo>
                  <a:pt x="299" y="0"/>
                </a:moveTo>
                <a:cubicBezTo>
                  <a:pt x="4954" y="64"/>
                  <a:pt x="9463" y="1631"/>
                  <a:pt x="13155" y="4465"/>
                </a:cubicBezTo>
                <a:lnTo>
                  <a:pt x="0" y="21598"/>
                </a:lnTo>
                <a:lnTo>
                  <a:pt x="299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rc 45"/>
          <p:cNvSpPr/>
          <p:nvPr/>
        </p:nvSpPr>
        <p:spPr>
          <a:xfrm rot="9535200">
            <a:off x="4140000" y="2997360"/>
            <a:ext cx="438120" cy="863280"/>
          </a:xfrm>
          <a:custGeom>
            <a:avLst/>
            <a:gdLst/>
            <a:ahLst/>
            <a:rect l="l" t="t" r="r" b="b"/>
            <a:pathLst>
              <a:path fill="none" w="13155" h="21598">
                <a:moveTo>
                  <a:pt x="299" y="0"/>
                </a:moveTo>
                <a:cubicBezTo>
                  <a:pt x="4954" y="64"/>
                  <a:pt x="9463" y="1631"/>
                  <a:pt x="13155" y="4465"/>
                </a:cubicBezTo>
              </a:path>
              <a:path stroke="0" w="13155" h="21598">
                <a:moveTo>
                  <a:pt x="299" y="0"/>
                </a:moveTo>
                <a:cubicBezTo>
                  <a:pt x="4954" y="64"/>
                  <a:pt x="9463" y="1631"/>
                  <a:pt x="13155" y="4465"/>
                </a:cubicBezTo>
                <a:lnTo>
                  <a:pt x="0" y="21598"/>
                </a:lnTo>
                <a:lnTo>
                  <a:pt x="299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rc 46"/>
          <p:cNvSpPr/>
          <p:nvPr/>
        </p:nvSpPr>
        <p:spPr>
          <a:xfrm rot="9535200">
            <a:off x="4858920" y="2997360"/>
            <a:ext cx="438120" cy="863280"/>
          </a:xfrm>
          <a:custGeom>
            <a:avLst/>
            <a:gdLst/>
            <a:ahLst/>
            <a:rect l="l" t="t" r="r" b="b"/>
            <a:pathLst>
              <a:path fill="none" w="13155" h="21598">
                <a:moveTo>
                  <a:pt x="299" y="0"/>
                </a:moveTo>
                <a:cubicBezTo>
                  <a:pt x="4954" y="64"/>
                  <a:pt x="9463" y="1631"/>
                  <a:pt x="13155" y="4465"/>
                </a:cubicBezTo>
              </a:path>
              <a:path stroke="0" w="13155" h="21598">
                <a:moveTo>
                  <a:pt x="299" y="0"/>
                </a:moveTo>
                <a:cubicBezTo>
                  <a:pt x="4954" y="64"/>
                  <a:pt x="9463" y="1631"/>
                  <a:pt x="13155" y="4465"/>
                </a:cubicBezTo>
                <a:lnTo>
                  <a:pt x="0" y="21598"/>
                </a:lnTo>
                <a:lnTo>
                  <a:pt x="299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rc 47"/>
          <p:cNvSpPr/>
          <p:nvPr/>
        </p:nvSpPr>
        <p:spPr>
          <a:xfrm rot="9535200">
            <a:off x="7596000" y="1699920"/>
            <a:ext cx="438120" cy="863640"/>
          </a:xfrm>
          <a:custGeom>
            <a:avLst/>
            <a:gdLst/>
            <a:ahLst/>
            <a:rect l="l" t="t" r="r" b="b"/>
            <a:pathLst>
              <a:path fill="none" w="13155" h="21598">
                <a:moveTo>
                  <a:pt x="299" y="0"/>
                </a:moveTo>
                <a:cubicBezTo>
                  <a:pt x="4954" y="64"/>
                  <a:pt x="9463" y="1631"/>
                  <a:pt x="13155" y="4465"/>
                </a:cubicBezTo>
              </a:path>
              <a:path stroke="0" w="13155" h="21598">
                <a:moveTo>
                  <a:pt x="299" y="0"/>
                </a:moveTo>
                <a:cubicBezTo>
                  <a:pt x="4954" y="64"/>
                  <a:pt x="9463" y="1631"/>
                  <a:pt x="13155" y="4465"/>
                </a:cubicBezTo>
                <a:lnTo>
                  <a:pt x="0" y="21598"/>
                </a:lnTo>
                <a:lnTo>
                  <a:pt x="299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rc 48"/>
          <p:cNvSpPr/>
          <p:nvPr/>
        </p:nvSpPr>
        <p:spPr>
          <a:xfrm rot="9535200">
            <a:off x="7667280" y="2204640"/>
            <a:ext cx="438120" cy="863640"/>
          </a:xfrm>
          <a:custGeom>
            <a:avLst/>
            <a:gdLst/>
            <a:ahLst/>
            <a:rect l="l" t="t" r="r" b="b"/>
            <a:pathLst>
              <a:path fill="none" w="13155" h="21598">
                <a:moveTo>
                  <a:pt x="299" y="0"/>
                </a:moveTo>
                <a:cubicBezTo>
                  <a:pt x="4954" y="64"/>
                  <a:pt x="9463" y="1631"/>
                  <a:pt x="13155" y="4465"/>
                </a:cubicBezTo>
              </a:path>
              <a:path stroke="0" w="13155" h="21598">
                <a:moveTo>
                  <a:pt x="299" y="0"/>
                </a:moveTo>
                <a:cubicBezTo>
                  <a:pt x="4954" y="64"/>
                  <a:pt x="9463" y="1631"/>
                  <a:pt x="13155" y="4465"/>
                </a:cubicBezTo>
                <a:lnTo>
                  <a:pt x="0" y="21598"/>
                </a:lnTo>
                <a:lnTo>
                  <a:pt x="299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rc 49"/>
          <p:cNvSpPr/>
          <p:nvPr/>
        </p:nvSpPr>
        <p:spPr>
          <a:xfrm rot="9535200">
            <a:off x="7667280" y="2565000"/>
            <a:ext cx="438120" cy="863640"/>
          </a:xfrm>
          <a:custGeom>
            <a:avLst/>
            <a:gdLst/>
            <a:ahLst/>
            <a:rect l="l" t="t" r="r" b="b"/>
            <a:pathLst>
              <a:path fill="none" w="13155" h="21598">
                <a:moveTo>
                  <a:pt x="299" y="0"/>
                </a:moveTo>
                <a:cubicBezTo>
                  <a:pt x="4954" y="64"/>
                  <a:pt x="9463" y="1631"/>
                  <a:pt x="13155" y="4465"/>
                </a:cubicBezTo>
              </a:path>
              <a:path stroke="0" w="13155" h="21598">
                <a:moveTo>
                  <a:pt x="299" y="0"/>
                </a:moveTo>
                <a:cubicBezTo>
                  <a:pt x="4954" y="64"/>
                  <a:pt x="9463" y="1631"/>
                  <a:pt x="13155" y="4465"/>
                </a:cubicBezTo>
                <a:lnTo>
                  <a:pt x="0" y="21598"/>
                </a:lnTo>
                <a:lnTo>
                  <a:pt x="299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rc 50"/>
          <p:cNvSpPr/>
          <p:nvPr/>
        </p:nvSpPr>
        <p:spPr>
          <a:xfrm rot="9535200">
            <a:off x="7740360" y="3068280"/>
            <a:ext cx="438120" cy="863640"/>
          </a:xfrm>
          <a:custGeom>
            <a:avLst/>
            <a:gdLst/>
            <a:ahLst/>
            <a:rect l="l" t="t" r="r" b="b"/>
            <a:pathLst>
              <a:path fill="none" w="13155" h="21598">
                <a:moveTo>
                  <a:pt x="299" y="0"/>
                </a:moveTo>
                <a:cubicBezTo>
                  <a:pt x="4954" y="64"/>
                  <a:pt x="9463" y="1631"/>
                  <a:pt x="13155" y="4465"/>
                </a:cubicBezTo>
              </a:path>
              <a:path stroke="0" w="13155" h="21598">
                <a:moveTo>
                  <a:pt x="299" y="0"/>
                </a:moveTo>
                <a:cubicBezTo>
                  <a:pt x="4954" y="64"/>
                  <a:pt x="9463" y="1631"/>
                  <a:pt x="13155" y="4465"/>
                </a:cubicBezTo>
                <a:lnTo>
                  <a:pt x="0" y="21598"/>
                </a:lnTo>
                <a:lnTo>
                  <a:pt x="299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rc 51"/>
          <p:cNvSpPr/>
          <p:nvPr/>
        </p:nvSpPr>
        <p:spPr>
          <a:xfrm rot="9535200">
            <a:off x="6803640" y="3068280"/>
            <a:ext cx="438120" cy="863640"/>
          </a:xfrm>
          <a:custGeom>
            <a:avLst/>
            <a:gdLst/>
            <a:ahLst/>
            <a:rect l="l" t="t" r="r" b="b"/>
            <a:pathLst>
              <a:path fill="none" w="13155" h="21598">
                <a:moveTo>
                  <a:pt x="299" y="0"/>
                </a:moveTo>
                <a:cubicBezTo>
                  <a:pt x="4954" y="64"/>
                  <a:pt x="9463" y="1631"/>
                  <a:pt x="13155" y="4465"/>
                </a:cubicBezTo>
              </a:path>
              <a:path stroke="0" w="13155" h="21598">
                <a:moveTo>
                  <a:pt x="299" y="0"/>
                </a:moveTo>
                <a:cubicBezTo>
                  <a:pt x="4954" y="64"/>
                  <a:pt x="9463" y="1631"/>
                  <a:pt x="13155" y="4465"/>
                </a:cubicBezTo>
                <a:lnTo>
                  <a:pt x="0" y="21598"/>
                </a:lnTo>
                <a:lnTo>
                  <a:pt x="299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rc 52"/>
          <p:cNvSpPr/>
          <p:nvPr/>
        </p:nvSpPr>
        <p:spPr>
          <a:xfrm rot="9535200">
            <a:off x="6876720" y="2565000"/>
            <a:ext cx="438120" cy="863640"/>
          </a:xfrm>
          <a:custGeom>
            <a:avLst/>
            <a:gdLst/>
            <a:ahLst/>
            <a:rect l="l" t="t" r="r" b="b"/>
            <a:pathLst>
              <a:path fill="none" w="13155" h="21598">
                <a:moveTo>
                  <a:pt x="299" y="0"/>
                </a:moveTo>
                <a:cubicBezTo>
                  <a:pt x="4954" y="64"/>
                  <a:pt x="9463" y="1631"/>
                  <a:pt x="13155" y="4465"/>
                </a:cubicBezTo>
              </a:path>
              <a:path stroke="0" w="13155" h="21598">
                <a:moveTo>
                  <a:pt x="299" y="0"/>
                </a:moveTo>
                <a:cubicBezTo>
                  <a:pt x="4954" y="64"/>
                  <a:pt x="9463" y="1631"/>
                  <a:pt x="13155" y="4465"/>
                </a:cubicBezTo>
                <a:lnTo>
                  <a:pt x="0" y="21598"/>
                </a:lnTo>
                <a:lnTo>
                  <a:pt x="299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rc 53"/>
          <p:cNvSpPr/>
          <p:nvPr/>
        </p:nvSpPr>
        <p:spPr>
          <a:xfrm rot="9535200">
            <a:off x="6803640" y="2133360"/>
            <a:ext cx="438120" cy="863640"/>
          </a:xfrm>
          <a:custGeom>
            <a:avLst/>
            <a:gdLst/>
            <a:ahLst/>
            <a:rect l="l" t="t" r="r" b="b"/>
            <a:pathLst>
              <a:path fill="none" w="13155" h="21598">
                <a:moveTo>
                  <a:pt x="299" y="0"/>
                </a:moveTo>
                <a:cubicBezTo>
                  <a:pt x="4954" y="64"/>
                  <a:pt x="9463" y="1631"/>
                  <a:pt x="13155" y="4465"/>
                </a:cubicBezTo>
              </a:path>
              <a:path stroke="0" w="13155" h="21598">
                <a:moveTo>
                  <a:pt x="299" y="0"/>
                </a:moveTo>
                <a:cubicBezTo>
                  <a:pt x="4954" y="64"/>
                  <a:pt x="9463" y="1631"/>
                  <a:pt x="13155" y="4465"/>
                </a:cubicBezTo>
                <a:lnTo>
                  <a:pt x="0" y="21598"/>
                </a:lnTo>
                <a:lnTo>
                  <a:pt x="299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rc 54"/>
          <p:cNvSpPr/>
          <p:nvPr/>
        </p:nvSpPr>
        <p:spPr>
          <a:xfrm rot="9535200">
            <a:off x="6876720" y="1699920"/>
            <a:ext cx="438120" cy="863640"/>
          </a:xfrm>
          <a:custGeom>
            <a:avLst/>
            <a:gdLst/>
            <a:ahLst/>
            <a:rect l="l" t="t" r="r" b="b"/>
            <a:pathLst>
              <a:path fill="none" w="13155" h="21598">
                <a:moveTo>
                  <a:pt x="299" y="0"/>
                </a:moveTo>
                <a:cubicBezTo>
                  <a:pt x="4954" y="64"/>
                  <a:pt x="9463" y="1631"/>
                  <a:pt x="13155" y="4465"/>
                </a:cubicBezTo>
              </a:path>
              <a:path stroke="0" w="13155" h="21598">
                <a:moveTo>
                  <a:pt x="299" y="0"/>
                </a:moveTo>
                <a:cubicBezTo>
                  <a:pt x="4954" y="64"/>
                  <a:pt x="9463" y="1631"/>
                  <a:pt x="13155" y="4465"/>
                </a:cubicBezTo>
                <a:lnTo>
                  <a:pt x="0" y="21598"/>
                </a:lnTo>
                <a:lnTo>
                  <a:pt x="299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Умножение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914400" y="1600200"/>
          <a:ext cx="7772400" cy="290844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49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клас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клас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клас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1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ножени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изучали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 ∙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=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∙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=  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∙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=  1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∙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=  1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∙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=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∙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=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∙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=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∙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=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6" name="Arc 20"/>
          <p:cNvSpPr/>
          <p:nvPr/>
        </p:nvSpPr>
        <p:spPr>
          <a:xfrm rot="9535200">
            <a:off x="3419280" y="1699920"/>
            <a:ext cx="438120" cy="863640"/>
          </a:xfrm>
          <a:custGeom>
            <a:avLst/>
            <a:gdLst/>
            <a:ahLst/>
            <a:rect l="l" t="t" r="r" b="b"/>
            <a:pathLst>
              <a:path fill="none" w="13155" h="21598">
                <a:moveTo>
                  <a:pt x="299" y="0"/>
                </a:moveTo>
                <a:cubicBezTo>
                  <a:pt x="4954" y="64"/>
                  <a:pt x="9463" y="1631"/>
                  <a:pt x="13155" y="4465"/>
                </a:cubicBezTo>
              </a:path>
              <a:path stroke="0" w="13155" h="21598">
                <a:moveTo>
                  <a:pt x="299" y="0"/>
                </a:moveTo>
                <a:cubicBezTo>
                  <a:pt x="4954" y="64"/>
                  <a:pt x="9463" y="1631"/>
                  <a:pt x="13155" y="4465"/>
                </a:cubicBezTo>
                <a:lnTo>
                  <a:pt x="0" y="21598"/>
                </a:lnTo>
                <a:lnTo>
                  <a:pt x="299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rc 21"/>
          <p:cNvSpPr/>
          <p:nvPr/>
        </p:nvSpPr>
        <p:spPr>
          <a:xfrm rot="9535200">
            <a:off x="3419280" y="2133360"/>
            <a:ext cx="438120" cy="863640"/>
          </a:xfrm>
          <a:custGeom>
            <a:avLst/>
            <a:gdLst/>
            <a:ahLst/>
            <a:rect l="l" t="t" r="r" b="b"/>
            <a:pathLst>
              <a:path fill="none" w="13155" h="21598">
                <a:moveTo>
                  <a:pt x="299" y="0"/>
                </a:moveTo>
                <a:cubicBezTo>
                  <a:pt x="4954" y="64"/>
                  <a:pt x="9463" y="1631"/>
                  <a:pt x="13155" y="4465"/>
                </a:cubicBezTo>
              </a:path>
              <a:path stroke="0" w="13155" h="21598">
                <a:moveTo>
                  <a:pt x="299" y="0"/>
                </a:moveTo>
                <a:cubicBezTo>
                  <a:pt x="4954" y="64"/>
                  <a:pt x="9463" y="1631"/>
                  <a:pt x="13155" y="4465"/>
                </a:cubicBezTo>
                <a:lnTo>
                  <a:pt x="0" y="21598"/>
                </a:lnTo>
                <a:lnTo>
                  <a:pt x="299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rc 22"/>
          <p:cNvSpPr/>
          <p:nvPr/>
        </p:nvSpPr>
        <p:spPr>
          <a:xfrm rot="9535200">
            <a:off x="3419280" y="2637000"/>
            <a:ext cx="438120" cy="863280"/>
          </a:xfrm>
          <a:custGeom>
            <a:avLst/>
            <a:gdLst/>
            <a:ahLst/>
            <a:rect l="l" t="t" r="r" b="b"/>
            <a:pathLst>
              <a:path fill="none" w="13155" h="21598">
                <a:moveTo>
                  <a:pt x="299" y="0"/>
                </a:moveTo>
                <a:cubicBezTo>
                  <a:pt x="4954" y="64"/>
                  <a:pt x="9463" y="1631"/>
                  <a:pt x="13155" y="4465"/>
                </a:cubicBezTo>
              </a:path>
              <a:path stroke="0" w="13155" h="21598">
                <a:moveTo>
                  <a:pt x="299" y="0"/>
                </a:moveTo>
                <a:cubicBezTo>
                  <a:pt x="4954" y="64"/>
                  <a:pt x="9463" y="1631"/>
                  <a:pt x="13155" y="4465"/>
                </a:cubicBezTo>
                <a:lnTo>
                  <a:pt x="0" y="21598"/>
                </a:lnTo>
                <a:lnTo>
                  <a:pt x="299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rc 23"/>
          <p:cNvSpPr/>
          <p:nvPr/>
        </p:nvSpPr>
        <p:spPr>
          <a:xfrm rot="9535200">
            <a:off x="3419280" y="3068280"/>
            <a:ext cx="438120" cy="863640"/>
          </a:xfrm>
          <a:custGeom>
            <a:avLst/>
            <a:gdLst/>
            <a:ahLst/>
            <a:rect l="l" t="t" r="r" b="b"/>
            <a:pathLst>
              <a:path fill="none" w="13155" h="21598">
                <a:moveTo>
                  <a:pt x="299" y="0"/>
                </a:moveTo>
                <a:cubicBezTo>
                  <a:pt x="4954" y="64"/>
                  <a:pt x="9463" y="1631"/>
                  <a:pt x="13155" y="4465"/>
                </a:cubicBezTo>
              </a:path>
              <a:path stroke="0" w="13155" h="21598">
                <a:moveTo>
                  <a:pt x="299" y="0"/>
                </a:moveTo>
                <a:cubicBezTo>
                  <a:pt x="4954" y="64"/>
                  <a:pt x="9463" y="1631"/>
                  <a:pt x="13155" y="4465"/>
                </a:cubicBezTo>
                <a:lnTo>
                  <a:pt x="0" y="21598"/>
                </a:lnTo>
                <a:lnTo>
                  <a:pt x="299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rc 24"/>
          <p:cNvSpPr/>
          <p:nvPr/>
        </p:nvSpPr>
        <p:spPr>
          <a:xfrm rot="9535200">
            <a:off x="3924000" y="1699920"/>
            <a:ext cx="438120" cy="863640"/>
          </a:xfrm>
          <a:custGeom>
            <a:avLst/>
            <a:gdLst/>
            <a:ahLst/>
            <a:rect l="l" t="t" r="r" b="b"/>
            <a:pathLst>
              <a:path fill="none" w="13155" h="21598">
                <a:moveTo>
                  <a:pt x="299" y="0"/>
                </a:moveTo>
                <a:cubicBezTo>
                  <a:pt x="4954" y="64"/>
                  <a:pt x="9463" y="1631"/>
                  <a:pt x="13155" y="4465"/>
                </a:cubicBezTo>
              </a:path>
              <a:path stroke="0" w="13155" h="21598">
                <a:moveTo>
                  <a:pt x="299" y="0"/>
                </a:moveTo>
                <a:cubicBezTo>
                  <a:pt x="4954" y="64"/>
                  <a:pt x="9463" y="1631"/>
                  <a:pt x="13155" y="4465"/>
                </a:cubicBezTo>
                <a:lnTo>
                  <a:pt x="0" y="21598"/>
                </a:lnTo>
                <a:lnTo>
                  <a:pt x="299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rc 25"/>
          <p:cNvSpPr/>
          <p:nvPr/>
        </p:nvSpPr>
        <p:spPr>
          <a:xfrm rot="9535200">
            <a:off x="3995280" y="2133360"/>
            <a:ext cx="438120" cy="863640"/>
          </a:xfrm>
          <a:custGeom>
            <a:avLst/>
            <a:gdLst/>
            <a:ahLst/>
            <a:rect l="l" t="t" r="r" b="b"/>
            <a:pathLst>
              <a:path fill="none" w="13155" h="21598">
                <a:moveTo>
                  <a:pt x="299" y="0"/>
                </a:moveTo>
                <a:cubicBezTo>
                  <a:pt x="4954" y="64"/>
                  <a:pt x="9463" y="1631"/>
                  <a:pt x="13155" y="4465"/>
                </a:cubicBezTo>
              </a:path>
              <a:path stroke="0" w="13155" h="21598">
                <a:moveTo>
                  <a:pt x="299" y="0"/>
                </a:moveTo>
                <a:cubicBezTo>
                  <a:pt x="4954" y="64"/>
                  <a:pt x="9463" y="1631"/>
                  <a:pt x="13155" y="4465"/>
                </a:cubicBezTo>
                <a:lnTo>
                  <a:pt x="0" y="21598"/>
                </a:lnTo>
                <a:lnTo>
                  <a:pt x="299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rc 26"/>
          <p:cNvSpPr/>
          <p:nvPr/>
        </p:nvSpPr>
        <p:spPr>
          <a:xfrm rot="9535200">
            <a:off x="3995280" y="2565000"/>
            <a:ext cx="438120" cy="863640"/>
          </a:xfrm>
          <a:custGeom>
            <a:avLst/>
            <a:gdLst/>
            <a:ahLst/>
            <a:rect l="l" t="t" r="r" b="b"/>
            <a:pathLst>
              <a:path fill="none" w="13155" h="21598">
                <a:moveTo>
                  <a:pt x="299" y="0"/>
                </a:moveTo>
                <a:cubicBezTo>
                  <a:pt x="4954" y="64"/>
                  <a:pt x="9463" y="1631"/>
                  <a:pt x="13155" y="4465"/>
                </a:cubicBezTo>
              </a:path>
              <a:path stroke="0" w="13155" h="21598">
                <a:moveTo>
                  <a:pt x="299" y="0"/>
                </a:moveTo>
                <a:cubicBezTo>
                  <a:pt x="4954" y="64"/>
                  <a:pt x="9463" y="1631"/>
                  <a:pt x="13155" y="4465"/>
                </a:cubicBezTo>
                <a:lnTo>
                  <a:pt x="0" y="21598"/>
                </a:lnTo>
                <a:lnTo>
                  <a:pt x="299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rc 27"/>
          <p:cNvSpPr/>
          <p:nvPr/>
        </p:nvSpPr>
        <p:spPr>
          <a:xfrm rot="9535200">
            <a:off x="3995280" y="3068280"/>
            <a:ext cx="438120" cy="863640"/>
          </a:xfrm>
          <a:custGeom>
            <a:avLst/>
            <a:gdLst/>
            <a:ahLst/>
            <a:rect l="l" t="t" r="r" b="b"/>
            <a:pathLst>
              <a:path fill="none" w="13155" h="21598">
                <a:moveTo>
                  <a:pt x="299" y="0"/>
                </a:moveTo>
                <a:cubicBezTo>
                  <a:pt x="4954" y="64"/>
                  <a:pt x="9463" y="1631"/>
                  <a:pt x="13155" y="4465"/>
                </a:cubicBezTo>
              </a:path>
              <a:path stroke="0" w="13155" h="21598">
                <a:moveTo>
                  <a:pt x="299" y="0"/>
                </a:moveTo>
                <a:cubicBezTo>
                  <a:pt x="4954" y="64"/>
                  <a:pt x="9463" y="1631"/>
                  <a:pt x="13155" y="4465"/>
                </a:cubicBezTo>
                <a:lnTo>
                  <a:pt x="0" y="21598"/>
                </a:lnTo>
                <a:lnTo>
                  <a:pt x="299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rc 28"/>
          <p:cNvSpPr/>
          <p:nvPr/>
        </p:nvSpPr>
        <p:spPr>
          <a:xfrm rot="9535200">
            <a:off x="6084360" y="1699920"/>
            <a:ext cx="438480" cy="863640"/>
          </a:xfrm>
          <a:custGeom>
            <a:avLst/>
            <a:gdLst/>
            <a:ahLst/>
            <a:rect l="l" t="t" r="r" b="b"/>
            <a:pathLst>
              <a:path fill="none" w="13155" h="21598">
                <a:moveTo>
                  <a:pt x="299" y="0"/>
                </a:moveTo>
                <a:cubicBezTo>
                  <a:pt x="4954" y="64"/>
                  <a:pt x="9463" y="1631"/>
                  <a:pt x="13155" y="4465"/>
                </a:cubicBezTo>
              </a:path>
              <a:path stroke="0" w="13155" h="21598">
                <a:moveTo>
                  <a:pt x="299" y="0"/>
                </a:moveTo>
                <a:cubicBezTo>
                  <a:pt x="4954" y="64"/>
                  <a:pt x="9463" y="1631"/>
                  <a:pt x="13155" y="4465"/>
                </a:cubicBezTo>
                <a:lnTo>
                  <a:pt x="0" y="21598"/>
                </a:lnTo>
                <a:lnTo>
                  <a:pt x="299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rc 29"/>
          <p:cNvSpPr/>
          <p:nvPr/>
        </p:nvSpPr>
        <p:spPr>
          <a:xfrm rot="9535200">
            <a:off x="6084360" y="2133360"/>
            <a:ext cx="438480" cy="863640"/>
          </a:xfrm>
          <a:custGeom>
            <a:avLst/>
            <a:gdLst/>
            <a:ahLst/>
            <a:rect l="l" t="t" r="r" b="b"/>
            <a:pathLst>
              <a:path fill="none" w="13155" h="21598">
                <a:moveTo>
                  <a:pt x="299" y="0"/>
                </a:moveTo>
                <a:cubicBezTo>
                  <a:pt x="4954" y="64"/>
                  <a:pt x="9463" y="1631"/>
                  <a:pt x="13155" y="4465"/>
                </a:cubicBezTo>
              </a:path>
              <a:path stroke="0" w="13155" h="21598">
                <a:moveTo>
                  <a:pt x="299" y="0"/>
                </a:moveTo>
                <a:cubicBezTo>
                  <a:pt x="4954" y="64"/>
                  <a:pt x="9463" y="1631"/>
                  <a:pt x="13155" y="4465"/>
                </a:cubicBezTo>
                <a:lnTo>
                  <a:pt x="0" y="21598"/>
                </a:lnTo>
                <a:lnTo>
                  <a:pt x="299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rc 30"/>
          <p:cNvSpPr/>
          <p:nvPr/>
        </p:nvSpPr>
        <p:spPr>
          <a:xfrm rot="9535200">
            <a:off x="6084360" y="2565000"/>
            <a:ext cx="438480" cy="863640"/>
          </a:xfrm>
          <a:custGeom>
            <a:avLst/>
            <a:gdLst/>
            <a:ahLst/>
            <a:rect l="l" t="t" r="r" b="b"/>
            <a:pathLst>
              <a:path fill="none" w="13155" h="21598">
                <a:moveTo>
                  <a:pt x="299" y="0"/>
                </a:moveTo>
                <a:cubicBezTo>
                  <a:pt x="4954" y="64"/>
                  <a:pt x="9463" y="1631"/>
                  <a:pt x="13155" y="4465"/>
                </a:cubicBezTo>
              </a:path>
              <a:path stroke="0" w="13155" h="21598">
                <a:moveTo>
                  <a:pt x="299" y="0"/>
                </a:moveTo>
                <a:cubicBezTo>
                  <a:pt x="4954" y="64"/>
                  <a:pt x="9463" y="1631"/>
                  <a:pt x="13155" y="4465"/>
                </a:cubicBezTo>
                <a:lnTo>
                  <a:pt x="0" y="21598"/>
                </a:lnTo>
                <a:lnTo>
                  <a:pt x="299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rc 31"/>
          <p:cNvSpPr/>
          <p:nvPr/>
        </p:nvSpPr>
        <p:spPr>
          <a:xfrm rot="9535200">
            <a:off x="6084360" y="3068280"/>
            <a:ext cx="438480" cy="863640"/>
          </a:xfrm>
          <a:custGeom>
            <a:avLst/>
            <a:gdLst/>
            <a:ahLst/>
            <a:rect l="l" t="t" r="r" b="b"/>
            <a:pathLst>
              <a:path fill="none" w="13155" h="21598">
                <a:moveTo>
                  <a:pt x="299" y="0"/>
                </a:moveTo>
                <a:cubicBezTo>
                  <a:pt x="4954" y="64"/>
                  <a:pt x="9463" y="1631"/>
                  <a:pt x="13155" y="4465"/>
                </a:cubicBezTo>
              </a:path>
              <a:path stroke="0" w="13155" h="21598">
                <a:moveTo>
                  <a:pt x="299" y="0"/>
                </a:moveTo>
                <a:cubicBezTo>
                  <a:pt x="4954" y="64"/>
                  <a:pt x="9463" y="1631"/>
                  <a:pt x="13155" y="4465"/>
                </a:cubicBezTo>
                <a:lnTo>
                  <a:pt x="0" y="21598"/>
                </a:lnTo>
                <a:lnTo>
                  <a:pt x="299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rc 32"/>
          <p:cNvSpPr/>
          <p:nvPr/>
        </p:nvSpPr>
        <p:spPr>
          <a:xfrm rot="9535200">
            <a:off x="6732360" y="1699920"/>
            <a:ext cx="438120" cy="863640"/>
          </a:xfrm>
          <a:custGeom>
            <a:avLst/>
            <a:gdLst/>
            <a:ahLst/>
            <a:rect l="l" t="t" r="r" b="b"/>
            <a:pathLst>
              <a:path fill="none" w="13155" h="21598">
                <a:moveTo>
                  <a:pt x="299" y="0"/>
                </a:moveTo>
                <a:cubicBezTo>
                  <a:pt x="4954" y="64"/>
                  <a:pt x="9463" y="1631"/>
                  <a:pt x="13155" y="4465"/>
                </a:cubicBezTo>
              </a:path>
              <a:path stroke="0" w="13155" h="21598">
                <a:moveTo>
                  <a:pt x="299" y="0"/>
                </a:moveTo>
                <a:cubicBezTo>
                  <a:pt x="4954" y="64"/>
                  <a:pt x="9463" y="1631"/>
                  <a:pt x="13155" y="4465"/>
                </a:cubicBezTo>
                <a:lnTo>
                  <a:pt x="0" y="21598"/>
                </a:lnTo>
                <a:lnTo>
                  <a:pt x="299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rc 33"/>
          <p:cNvSpPr/>
          <p:nvPr/>
        </p:nvSpPr>
        <p:spPr>
          <a:xfrm rot="9535200">
            <a:off x="6732360" y="2133360"/>
            <a:ext cx="438120" cy="863640"/>
          </a:xfrm>
          <a:custGeom>
            <a:avLst/>
            <a:gdLst/>
            <a:ahLst/>
            <a:rect l="l" t="t" r="r" b="b"/>
            <a:pathLst>
              <a:path fill="none" w="13155" h="21598">
                <a:moveTo>
                  <a:pt x="299" y="0"/>
                </a:moveTo>
                <a:cubicBezTo>
                  <a:pt x="4954" y="64"/>
                  <a:pt x="9463" y="1631"/>
                  <a:pt x="13155" y="4465"/>
                </a:cubicBezTo>
              </a:path>
              <a:path stroke="0" w="13155" h="21598">
                <a:moveTo>
                  <a:pt x="299" y="0"/>
                </a:moveTo>
                <a:cubicBezTo>
                  <a:pt x="4954" y="64"/>
                  <a:pt x="9463" y="1631"/>
                  <a:pt x="13155" y="4465"/>
                </a:cubicBezTo>
                <a:lnTo>
                  <a:pt x="0" y="21598"/>
                </a:lnTo>
                <a:lnTo>
                  <a:pt x="299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rc 34"/>
          <p:cNvSpPr/>
          <p:nvPr/>
        </p:nvSpPr>
        <p:spPr>
          <a:xfrm rot="9535200">
            <a:off x="6732360" y="2565000"/>
            <a:ext cx="438120" cy="863640"/>
          </a:xfrm>
          <a:custGeom>
            <a:avLst/>
            <a:gdLst/>
            <a:ahLst/>
            <a:rect l="l" t="t" r="r" b="b"/>
            <a:pathLst>
              <a:path fill="none" w="13155" h="21598">
                <a:moveTo>
                  <a:pt x="299" y="0"/>
                </a:moveTo>
                <a:cubicBezTo>
                  <a:pt x="4954" y="64"/>
                  <a:pt x="9463" y="1631"/>
                  <a:pt x="13155" y="4465"/>
                </a:cubicBezTo>
              </a:path>
              <a:path stroke="0" w="13155" h="21598">
                <a:moveTo>
                  <a:pt x="299" y="0"/>
                </a:moveTo>
                <a:cubicBezTo>
                  <a:pt x="4954" y="64"/>
                  <a:pt x="9463" y="1631"/>
                  <a:pt x="13155" y="4465"/>
                </a:cubicBezTo>
                <a:lnTo>
                  <a:pt x="0" y="21598"/>
                </a:lnTo>
                <a:lnTo>
                  <a:pt x="299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rc 35"/>
          <p:cNvSpPr/>
          <p:nvPr/>
        </p:nvSpPr>
        <p:spPr>
          <a:xfrm rot="9535200">
            <a:off x="6659280" y="3068280"/>
            <a:ext cx="438120" cy="863640"/>
          </a:xfrm>
          <a:custGeom>
            <a:avLst/>
            <a:gdLst/>
            <a:ahLst/>
            <a:rect l="l" t="t" r="r" b="b"/>
            <a:pathLst>
              <a:path fill="none" w="13155" h="21598">
                <a:moveTo>
                  <a:pt x="299" y="0"/>
                </a:moveTo>
                <a:cubicBezTo>
                  <a:pt x="4954" y="64"/>
                  <a:pt x="9463" y="1631"/>
                  <a:pt x="13155" y="4465"/>
                </a:cubicBezTo>
              </a:path>
              <a:path stroke="0" w="13155" h="21598">
                <a:moveTo>
                  <a:pt x="299" y="0"/>
                </a:moveTo>
                <a:cubicBezTo>
                  <a:pt x="4954" y="64"/>
                  <a:pt x="9463" y="1631"/>
                  <a:pt x="13155" y="4465"/>
                </a:cubicBezTo>
                <a:lnTo>
                  <a:pt x="0" y="21598"/>
                </a:lnTo>
                <a:lnTo>
                  <a:pt x="299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val 36"/>
          <p:cNvSpPr/>
          <p:nvPr/>
        </p:nvSpPr>
        <p:spPr>
          <a:xfrm>
            <a:off x="4788000" y="213372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Oval 37"/>
          <p:cNvSpPr/>
          <p:nvPr/>
        </p:nvSpPr>
        <p:spPr>
          <a:xfrm>
            <a:off x="4859280" y="2565360"/>
            <a:ext cx="432000" cy="432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38"/>
          <p:cNvSpPr/>
          <p:nvPr/>
        </p:nvSpPr>
        <p:spPr>
          <a:xfrm>
            <a:off x="4859280" y="2997360"/>
            <a:ext cx="43200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val 39"/>
          <p:cNvSpPr/>
          <p:nvPr/>
        </p:nvSpPr>
        <p:spPr>
          <a:xfrm>
            <a:off x="4788000" y="342900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Oval 40"/>
          <p:cNvSpPr/>
          <p:nvPr/>
        </p:nvSpPr>
        <p:spPr>
          <a:xfrm>
            <a:off x="7451640" y="3429000"/>
            <a:ext cx="43200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Oval 41"/>
          <p:cNvSpPr/>
          <p:nvPr/>
        </p:nvSpPr>
        <p:spPr>
          <a:xfrm>
            <a:off x="7596360" y="299736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 42"/>
          <p:cNvSpPr/>
          <p:nvPr/>
        </p:nvSpPr>
        <p:spPr>
          <a:xfrm>
            <a:off x="7596360" y="2565360"/>
            <a:ext cx="431640" cy="432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Oval 43"/>
          <p:cNvSpPr/>
          <p:nvPr/>
        </p:nvSpPr>
        <p:spPr>
          <a:xfrm>
            <a:off x="7667640" y="213372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Деление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914400" y="1600200"/>
          <a:ext cx="7772400" cy="305280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515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клас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клас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клас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лени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изучали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  :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=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: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=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: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=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: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=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:  1 =  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: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: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=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: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=  4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2" name="Oval 36"/>
          <p:cNvSpPr/>
          <p:nvPr/>
        </p:nvSpPr>
        <p:spPr>
          <a:xfrm>
            <a:off x="3564000" y="213372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Oval 37"/>
          <p:cNvSpPr/>
          <p:nvPr/>
        </p:nvSpPr>
        <p:spPr>
          <a:xfrm>
            <a:off x="3564000" y="263700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val 38"/>
          <p:cNvSpPr/>
          <p:nvPr/>
        </p:nvSpPr>
        <p:spPr>
          <a:xfrm>
            <a:off x="3635280" y="3068640"/>
            <a:ext cx="43200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Oval 39"/>
          <p:cNvSpPr/>
          <p:nvPr/>
        </p:nvSpPr>
        <p:spPr>
          <a:xfrm>
            <a:off x="3635280" y="3500280"/>
            <a:ext cx="432000" cy="432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Oval 40"/>
          <p:cNvSpPr/>
          <p:nvPr/>
        </p:nvSpPr>
        <p:spPr>
          <a:xfrm>
            <a:off x="6156360" y="213372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Oval 41"/>
          <p:cNvSpPr/>
          <p:nvPr/>
        </p:nvSpPr>
        <p:spPr>
          <a:xfrm>
            <a:off x="6227640" y="2565360"/>
            <a:ext cx="432000" cy="432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Oval 42"/>
          <p:cNvSpPr/>
          <p:nvPr/>
        </p:nvSpPr>
        <p:spPr>
          <a:xfrm>
            <a:off x="6156360" y="306864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Oval 43"/>
          <p:cNvSpPr/>
          <p:nvPr/>
        </p:nvSpPr>
        <p:spPr>
          <a:xfrm>
            <a:off x="6227640" y="3500280"/>
            <a:ext cx="432000" cy="432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rc 44"/>
          <p:cNvSpPr/>
          <p:nvPr/>
        </p:nvSpPr>
        <p:spPr>
          <a:xfrm rot="9535200">
            <a:off x="4571640" y="1773000"/>
            <a:ext cx="438120" cy="863640"/>
          </a:xfrm>
          <a:custGeom>
            <a:avLst/>
            <a:gdLst/>
            <a:ahLst/>
            <a:rect l="l" t="t" r="r" b="b"/>
            <a:pathLst>
              <a:path fill="none" w="13155" h="21598">
                <a:moveTo>
                  <a:pt x="299" y="0"/>
                </a:moveTo>
                <a:cubicBezTo>
                  <a:pt x="4954" y="64"/>
                  <a:pt x="9463" y="1631"/>
                  <a:pt x="13155" y="4465"/>
                </a:cubicBezTo>
              </a:path>
              <a:path stroke="0" w="13155" h="21598">
                <a:moveTo>
                  <a:pt x="299" y="0"/>
                </a:moveTo>
                <a:cubicBezTo>
                  <a:pt x="4954" y="64"/>
                  <a:pt x="9463" y="1631"/>
                  <a:pt x="13155" y="4465"/>
                </a:cubicBezTo>
                <a:lnTo>
                  <a:pt x="0" y="21598"/>
                </a:lnTo>
                <a:lnTo>
                  <a:pt x="299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rc 45"/>
          <p:cNvSpPr/>
          <p:nvPr/>
        </p:nvSpPr>
        <p:spPr>
          <a:xfrm rot="9535200">
            <a:off x="3995280" y="1773000"/>
            <a:ext cx="438120" cy="863640"/>
          </a:xfrm>
          <a:custGeom>
            <a:avLst/>
            <a:gdLst/>
            <a:ahLst/>
            <a:rect l="l" t="t" r="r" b="b"/>
            <a:pathLst>
              <a:path fill="none" w="13155" h="21598">
                <a:moveTo>
                  <a:pt x="299" y="0"/>
                </a:moveTo>
                <a:cubicBezTo>
                  <a:pt x="4954" y="64"/>
                  <a:pt x="9463" y="1631"/>
                  <a:pt x="13155" y="4465"/>
                </a:cubicBezTo>
              </a:path>
              <a:path stroke="0" w="13155" h="21598">
                <a:moveTo>
                  <a:pt x="299" y="0"/>
                </a:moveTo>
                <a:cubicBezTo>
                  <a:pt x="4954" y="64"/>
                  <a:pt x="9463" y="1631"/>
                  <a:pt x="13155" y="4465"/>
                </a:cubicBezTo>
                <a:lnTo>
                  <a:pt x="0" y="21598"/>
                </a:lnTo>
                <a:lnTo>
                  <a:pt x="299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rc 46"/>
          <p:cNvSpPr/>
          <p:nvPr/>
        </p:nvSpPr>
        <p:spPr>
          <a:xfrm rot="9535200">
            <a:off x="4211280" y="3141360"/>
            <a:ext cx="438120" cy="863640"/>
          </a:xfrm>
          <a:custGeom>
            <a:avLst/>
            <a:gdLst/>
            <a:ahLst/>
            <a:rect l="l" t="t" r="r" b="b"/>
            <a:pathLst>
              <a:path fill="none" w="13155" h="21598">
                <a:moveTo>
                  <a:pt x="299" y="0"/>
                </a:moveTo>
                <a:cubicBezTo>
                  <a:pt x="4954" y="64"/>
                  <a:pt x="9463" y="1631"/>
                  <a:pt x="13155" y="4465"/>
                </a:cubicBezTo>
              </a:path>
              <a:path stroke="0" w="13155" h="21598">
                <a:moveTo>
                  <a:pt x="299" y="0"/>
                </a:moveTo>
                <a:cubicBezTo>
                  <a:pt x="4954" y="64"/>
                  <a:pt x="9463" y="1631"/>
                  <a:pt x="13155" y="4465"/>
                </a:cubicBezTo>
                <a:lnTo>
                  <a:pt x="0" y="21598"/>
                </a:lnTo>
                <a:lnTo>
                  <a:pt x="299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rc 47"/>
          <p:cNvSpPr/>
          <p:nvPr/>
        </p:nvSpPr>
        <p:spPr>
          <a:xfrm rot="9535200">
            <a:off x="4787640" y="3141360"/>
            <a:ext cx="438120" cy="863640"/>
          </a:xfrm>
          <a:custGeom>
            <a:avLst/>
            <a:gdLst/>
            <a:ahLst/>
            <a:rect l="l" t="t" r="r" b="b"/>
            <a:pathLst>
              <a:path fill="none" w="13155" h="21598">
                <a:moveTo>
                  <a:pt x="299" y="0"/>
                </a:moveTo>
                <a:cubicBezTo>
                  <a:pt x="4954" y="64"/>
                  <a:pt x="9463" y="1631"/>
                  <a:pt x="13155" y="4465"/>
                </a:cubicBezTo>
              </a:path>
              <a:path stroke="0" w="13155" h="21598">
                <a:moveTo>
                  <a:pt x="299" y="0"/>
                </a:moveTo>
                <a:cubicBezTo>
                  <a:pt x="4954" y="64"/>
                  <a:pt x="9463" y="1631"/>
                  <a:pt x="13155" y="4465"/>
                </a:cubicBezTo>
                <a:lnTo>
                  <a:pt x="0" y="21598"/>
                </a:lnTo>
                <a:lnTo>
                  <a:pt x="299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rc 48"/>
          <p:cNvSpPr/>
          <p:nvPr/>
        </p:nvSpPr>
        <p:spPr>
          <a:xfrm rot="9535200">
            <a:off x="4571640" y="2133360"/>
            <a:ext cx="438120" cy="863640"/>
          </a:xfrm>
          <a:custGeom>
            <a:avLst/>
            <a:gdLst/>
            <a:ahLst/>
            <a:rect l="l" t="t" r="r" b="b"/>
            <a:pathLst>
              <a:path fill="none" w="13155" h="21598">
                <a:moveTo>
                  <a:pt x="299" y="0"/>
                </a:moveTo>
                <a:cubicBezTo>
                  <a:pt x="4954" y="64"/>
                  <a:pt x="9463" y="1631"/>
                  <a:pt x="13155" y="4465"/>
                </a:cubicBezTo>
              </a:path>
              <a:path stroke="0" w="13155" h="21598">
                <a:moveTo>
                  <a:pt x="299" y="0"/>
                </a:moveTo>
                <a:cubicBezTo>
                  <a:pt x="4954" y="64"/>
                  <a:pt x="9463" y="1631"/>
                  <a:pt x="13155" y="4465"/>
                </a:cubicBezTo>
                <a:lnTo>
                  <a:pt x="0" y="21598"/>
                </a:lnTo>
                <a:lnTo>
                  <a:pt x="299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rc 49"/>
          <p:cNvSpPr/>
          <p:nvPr/>
        </p:nvSpPr>
        <p:spPr>
          <a:xfrm rot="9535200">
            <a:off x="3995280" y="2204640"/>
            <a:ext cx="438120" cy="863640"/>
          </a:xfrm>
          <a:custGeom>
            <a:avLst/>
            <a:gdLst/>
            <a:ahLst/>
            <a:rect l="l" t="t" r="r" b="b"/>
            <a:pathLst>
              <a:path fill="none" w="13155" h="21598">
                <a:moveTo>
                  <a:pt x="299" y="0"/>
                </a:moveTo>
                <a:cubicBezTo>
                  <a:pt x="4954" y="64"/>
                  <a:pt x="9463" y="1631"/>
                  <a:pt x="13155" y="4465"/>
                </a:cubicBezTo>
              </a:path>
              <a:path stroke="0" w="13155" h="21598">
                <a:moveTo>
                  <a:pt x="299" y="0"/>
                </a:moveTo>
                <a:cubicBezTo>
                  <a:pt x="4954" y="64"/>
                  <a:pt x="9463" y="1631"/>
                  <a:pt x="13155" y="4465"/>
                </a:cubicBezTo>
                <a:lnTo>
                  <a:pt x="0" y="21598"/>
                </a:lnTo>
                <a:lnTo>
                  <a:pt x="299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rc 50"/>
          <p:cNvSpPr/>
          <p:nvPr/>
        </p:nvSpPr>
        <p:spPr>
          <a:xfrm rot="9535200">
            <a:off x="4140000" y="2637000"/>
            <a:ext cx="438120" cy="863280"/>
          </a:xfrm>
          <a:custGeom>
            <a:avLst/>
            <a:gdLst/>
            <a:ahLst/>
            <a:rect l="l" t="t" r="r" b="b"/>
            <a:pathLst>
              <a:path fill="none" w="13155" h="21598">
                <a:moveTo>
                  <a:pt x="299" y="0"/>
                </a:moveTo>
                <a:cubicBezTo>
                  <a:pt x="4954" y="64"/>
                  <a:pt x="9463" y="1631"/>
                  <a:pt x="13155" y="4465"/>
                </a:cubicBezTo>
              </a:path>
              <a:path stroke="0" w="13155" h="21598">
                <a:moveTo>
                  <a:pt x="299" y="0"/>
                </a:moveTo>
                <a:cubicBezTo>
                  <a:pt x="4954" y="64"/>
                  <a:pt x="9463" y="1631"/>
                  <a:pt x="13155" y="4465"/>
                </a:cubicBezTo>
                <a:lnTo>
                  <a:pt x="0" y="21598"/>
                </a:lnTo>
                <a:lnTo>
                  <a:pt x="299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rc 51"/>
          <p:cNvSpPr/>
          <p:nvPr/>
        </p:nvSpPr>
        <p:spPr>
          <a:xfrm rot="9535200">
            <a:off x="4716000" y="2637000"/>
            <a:ext cx="438120" cy="863280"/>
          </a:xfrm>
          <a:custGeom>
            <a:avLst/>
            <a:gdLst/>
            <a:ahLst/>
            <a:rect l="l" t="t" r="r" b="b"/>
            <a:pathLst>
              <a:path fill="none" w="13155" h="21598">
                <a:moveTo>
                  <a:pt x="299" y="0"/>
                </a:moveTo>
                <a:cubicBezTo>
                  <a:pt x="4954" y="64"/>
                  <a:pt x="9463" y="1631"/>
                  <a:pt x="13155" y="4465"/>
                </a:cubicBezTo>
              </a:path>
              <a:path stroke="0" w="13155" h="21598">
                <a:moveTo>
                  <a:pt x="299" y="0"/>
                </a:moveTo>
                <a:cubicBezTo>
                  <a:pt x="4954" y="64"/>
                  <a:pt x="9463" y="1631"/>
                  <a:pt x="13155" y="4465"/>
                </a:cubicBezTo>
                <a:lnTo>
                  <a:pt x="0" y="21598"/>
                </a:lnTo>
                <a:lnTo>
                  <a:pt x="299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rc 52"/>
          <p:cNvSpPr/>
          <p:nvPr/>
        </p:nvSpPr>
        <p:spPr>
          <a:xfrm rot="9535200">
            <a:off x="6659280" y="1699920"/>
            <a:ext cx="438120" cy="863640"/>
          </a:xfrm>
          <a:custGeom>
            <a:avLst/>
            <a:gdLst/>
            <a:ahLst/>
            <a:rect l="l" t="t" r="r" b="b"/>
            <a:pathLst>
              <a:path fill="none" w="13155" h="21598">
                <a:moveTo>
                  <a:pt x="299" y="0"/>
                </a:moveTo>
                <a:cubicBezTo>
                  <a:pt x="4954" y="64"/>
                  <a:pt x="9463" y="1631"/>
                  <a:pt x="13155" y="4465"/>
                </a:cubicBezTo>
              </a:path>
              <a:path stroke="0" w="13155" h="21598">
                <a:moveTo>
                  <a:pt x="299" y="0"/>
                </a:moveTo>
                <a:cubicBezTo>
                  <a:pt x="4954" y="64"/>
                  <a:pt x="9463" y="1631"/>
                  <a:pt x="13155" y="4465"/>
                </a:cubicBezTo>
                <a:lnTo>
                  <a:pt x="0" y="21598"/>
                </a:lnTo>
                <a:lnTo>
                  <a:pt x="299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rc 53"/>
          <p:cNvSpPr/>
          <p:nvPr/>
        </p:nvSpPr>
        <p:spPr>
          <a:xfrm rot="9535200">
            <a:off x="6803640" y="2133360"/>
            <a:ext cx="438120" cy="863640"/>
          </a:xfrm>
          <a:custGeom>
            <a:avLst/>
            <a:gdLst/>
            <a:ahLst/>
            <a:rect l="l" t="t" r="r" b="b"/>
            <a:pathLst>
              <a:path fill="none" w="13155" h="21598">
                <a:moveTo>
                  <a:pt x="299" y="0"/>
                </a:moveTo>
                <a:cubicBezTo>
                  <a:pt x="4954" y="64"/>
                  <a:pt x="9463" y="1631"/>
                  <a:pt x="13155" y="4465"/>
                </a:cubicBezTo>
              </a:path>
              <a:path stroke="0" w="13155" h="21598">
                <a:moveTo>
                  <a:pt x="299" y="0"/>
                </a:moveTo>
                <a:cubicBezTo>
                  <a:pt x="4954" y="64"/>
                  <a:pt x="9463" y="1631"/>
                  <a:pt x="13155" y="4465"/>
                </a:cubicBezTo>
                <a:lnTo>
                  <a:pt x="0" y="21598"/>
                </a:lnTo>
                <a:lnTo>
                  <a:pt x="299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rc 54"/>
          <p:cNvSpPr/>
          <p:nvPr/>
        </p:nvSpPr>
        <p:spPr>
          <a:xfrm rot="9535200">
            <a:off x="6587640" y="2637000"/>
            <a:ext cx="438120" cy="863280"/>
          </a:xfrm>
          <a:custGeom>
            <a:avLst/>
            <a:gdLst/>
            <a:ahLst/>
            <a:rect l="l" t="t" r="r" b="b"/>
            <a:pathLst>
              <a:path fill="none" w="13155" h="21598">
                <a:moveTo>
                  <a:pt x="299" y="0"/>
                </a:moveTo>
                <a:cubicBezTo>
                  <a:pt x="4954" y="64"/>
                  <a:pt x="9463" y="1631"/>
                  <a:pt x="13155" y="4465"/>
                </a:cubicBezTo>
              </a:path>
              <a:path stroke="0" w="13155" h="21598">
                <a:moveTo>
                  <a:pt x="299" y="0"/>
                </a:moveTo>
                <a:cubicBezTo>
                  <a:pt x="4954" y="64"/>
                  <a:pt x="9463" y="1631"/>
                  <a:pt x="13155" y="4465"/>
                </a:cubicBezTo>
                <a:lnTo>
                  <a:pt x="0" y="21598"/>
                </a:lnTo>
                <a:lnTo>
                  <a:pt x="299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rc 55"/>
          <p:cNvSpPr/>
          <p:nvPr/>
        </p:nvSpPr>
        <p:spPr>
          <a:xfrm rot="9535200">
            <a:off x="6732360" y="3068280"/>
            <a:ext cx="438120" cy="863640"/>
          </a:xfrm>
          <a:custGeom>
            <a:avLst/>
            <a:gdLst/>
            <a:ahLst/>
            <a:rect l="l" t="t" r="r" b="b"/>
            <a:pathLst>
              <a:path fill="none" w="13155" h="21598">
                <a:moveTo>
                  <a:pt x="299" y="0"/>
                </a:moveTo>
                <a:cubicBezTo>
                  <a:pt x="4954" y="64"/>
                  <a:pt x="9463" y="1631"/>
                  <a:pt x="13155" y="4465"/>
                </a:cubicBezTo>
              </a:path>
              <a:path stroke="0" w="13155" h="21598">
                <a:moveTo>
                  <a:pt x="299" y="0"/>
                </a:moveTo>
                <a:cubicBezTo>
                  <a:pt x="4954" y="64"/>
                  <a:pt x="9463" y="1631"/>
                  <a:pt x="13155" y="4465"/>
                </a:cubicBezTo>
                <a:lnTo>
                  <a:pt x="0" y="21598"/>
                </a:lnTo>
                <a:lnTo>
                  <a:pt x="299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rc 56"/>
          <p:cNvSpPr/>
          <p:nvPr/>
        </p:nvSpPr>
        <p:spPr>
          <a:xfrm rot="9535200">
            <a:off x="7308360" y="1699920"/>
            <a:ext cx="438120" cy="863640"/>
          </a:xfrm>
          <a:custGeom>
            <a:avLst/>
            <a:gdLst/>
            <a:ahLst/>
            <a:rect l="l" t="t" r="r" b="b"/>
            <a:pathLst>
              <a:path fill="none" w="13155" h="21598">
                <a:moveTo>
                  <a:pt x="299" y="0"/>
                </a:moveTo>
                <a:cubicBezTo>
                  <a:pt x="4954" y="64"/>
                  <a:pt x="9463" y="1631"/>
                  <a:pt x="13155" y="4465"/>
                </a:cubicBezTo>
              </a:path>
              <a:path stroke="0" w="13155" h="21598">
                <a:moveTo>
                  <a:pt x="299" y="0"/>
                </a:moveTo>
                <a:cubicBezTo>
                  <a:pt x="4954" y="64"/>
                  <a:pt x="9463" y="1631"/>
                  <a:pt x="13155" y="4465"/>
                </a:cubicBezTo>
                <a:lnTo>
                  <a:pt x="0" y="21598"/>
                </a:lnTo>
                <a:lnTo>
                  <a:pt x="299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rc 57"/>
          <p:cNvSpPr/>
          <p:nvPr/>
        </p:nvSpPr>
        <p:spPr>
          <a:xfrm rot="9535200">
            <a:off x="7451280" y="2133360"/>
            <a:ext cx="438120" cy="863640"/>
          </a:xfrm>
          <a:custGeom>
            <a:avLst/>
            <a:gdLst/>
            <a:ahLst/>
            <a:rect l="l" t="t" r="r" b="b"/>
            <a:pathLst>
              <a:path fill="none" w="13155" h="21598">
                <a:moveTo>
                  <a:pt x="299" y="0"/>
                </a:moveTo>
                <a:cubicBezTo>
                  <a:pt x="4954" y="64"/>
                  <a:pt x="9463" y="1631"/>
                  <a:pt x="13155" y="4465"/>
                </a:cubicBezTo>
              </a:path>
              <a:path stroke="0" w="13155" h="21598">
                <a:moveTo>
                  <a:pt x="299" y="0"/>
                </a:moveTo>
                <a:cubicBezTo>
                  <a:pt x="4954" y="64"/>
                  <a:pt x="9463" y="1631"/>
                  <a:pt x="13155" y="4465"/>
                </a:cubicBezTo>
                <a:lnTo>
                  <a:pt x="0" y="21598"/>
                </a:lnTo>
                <a:lnTo>
                  <a:pt x="299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rc 58"/>
          <p:cNvSpPr/>
          <p:nvPr/>
        </p:nvSpPr>
        <p:spPr>
          <a:xfrm rot="9535200">
            <a:off x="7235640" y="2637000"/>
            <a:ext cx="438120" cy="863280"/>
          </a:xfrm>
          <a:custGeom>
            <a:avLst/>
            <a:gdLst/>
            <a:ahLst/>
            <a:rect l="l" t="t" r="r" b="b"/>
            <a:pathLst>
              <a:path fill="none" w="13155" h="21598">
                <a:moveTo>
                  <a:pt x="299" y="0"/>
                </a:moveTo>
                <a:cubicBezTo>
                  <a:pt x="4954" y="64"/>
                  <a:pt x="9463" y="1631"/>
                  <a:pt x="13155" y="4465"/>
                </a:cubicBezTo>
              </a:path>
              <a:path stroke="0" w="13155" h="21598">
                <a:moveTo>
                  <a:pt x="299" y="0"/>
                </a:moveTo>
                <a:cubicBezTo>
                  <a:pt x="4954" y="64"/>
                  <a:pt x="9463" y="1631"/>
                  <a:pt x="13155" y="4465"/>
                </a:cubicBezTo>
                <a:lnTo>
                  <a:pt x="0" y="21598"/>
                </a:lnTo>
                <a:lnTo>
                  <a:pt x="299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rc 59"/>
          <p:cNvSpPr/>
          <p:nvPr/>
        </p:nvSpPr>
        <p:spPr>
          <a:xfrm rot="9535200">
            <a:off x="7308360" y="3068280"/>
            <a:ext cx="438120" cy="863640"/>
          </a:xfrm>
          <a:custGeom>
            <a:avLst/>
            <a:gdLst/>
            <a:ahLst/>
            <a:rect l="l" t="t" r="r" b="b"/>
            <a:pathLst>
              <a:path fill="none" w="13155" h="21598">
                <a:moveTo>
                  <a:pt x="299" y="0"/>
                </a:moveTo>
                <a:cubicBezTo>
                  <a:pt x="4954" y="64"/>
                  <a:pt x="9463" y="1631"/>
                  <a:pt x="13155" y="4465"/>
                </a:cubicBezTo>
              </a:path>
              <a:path stroke="0" w="13155" h="21598">
                <a:moveTo>
                  <a:pt x="299" y="0"/>
                </a:moveTo>
                <a:cubicBezTo>
                  <a:pt x="4954" y="64"/>
                  <a:pt x="9463" y="1631"/>
                  <a:pt x="13155" y="4465"/>
                </a:cubicBezTo>
                <a:lnTo>
                  <a:pt x="0" y="21598"/>
                </a:lnTo>
                <a:lnTo>
                  <a:pt x="299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Мои  выводы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Уравнения решаются одинаково!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Литератур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Бирюкова А.А. / Начальная школа:  Справочник  школьника/ А.А.Бирюкова,  Е.И. Синицина – М.: Филологическое общество «Слово», АСТ, Компания «Ключ-С», 199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Моро М.И. / Математика : 1 класс : учебник : в 2 ч / М. И. Моро,  Ю. М. Колягин,   М. А. Бантова,  Г. В. Бельтюкова, С. И.  Волкова,   С. В. Степанова – М.: Просвещение,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Чекин, А. Л. Математика : 1 класс : учебник : в 2 ч. / А. Л. Чекин ; под ред. Р. Г. Чураковой. – М. : Академкнига/Учебник,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Моро М.И. / Математика : 2 класс : учебник : в 2 ч / М. И. Моро,  Ю. М. Колягин,   М. А. Бантова,  Г. В. Бельтюкова, С. И.  Волкова,   С. В. Степанова – М.: Просвещение,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Чекин, А. Л. Математика :  2 класс : учебник : в 2 ч. / А. Л. Чекин ; под ред. Р. Г. Чураковой. – М. : Академкнига/Учебник,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 Моро М.И. / Математика : 3 класс : учебник : в 2 ч / М. И. Моро,  Ю. М. Колягин,   М. А. Бантова,  Г. В. Бельтюкова, С. И.  Волкова,   С. В. Степанова – М.: Просвещение,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. Чекин, А. Л. Математика :  3 класс : учебник : в 2 ч. / А. Л. Чекин ; под ред. Р. Г. Чураковой. – М. : Академкнига/Учебник,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Цель  работы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смотреть метод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шения уравнений с целыми числ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Методы исследования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нализ и синтез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шения уравнений   с 1 клас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Что такое уравнение?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равнением называю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венство содержащее букву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начение которой надо найт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Учебники  1 класс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06" name="Picture 11" descr="м2"/>
          <p:cNvPicPr/>
          <p:nvPr/>
        </p:nvPicPr>
        <p:blipFill>
          <a:blip r:embed="rId1"/>
          <a:stretch/>
        </p:blipFill>
        <p:spPr>
          <a:xfrm>
            <a:off x="900000" y="1484280"/>
            <a:ext cx="2114640" cy="27716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2" descr="м3"/>
          <p:cNvPicPr/>
          <p:nvPr/>
        </p:nvPicPr>
        <p:blipFill>
          <a:blip r:embed="rId2"/>
          <a:stretch/>
        </p:blipFill>
        <p:spPr>
          <a:xfrm>
            <a:off x="2340000" y="3429000"/>
            <a:ext cx="2133720" cy="2687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3" descr="м1"/>
          <p:cNvPicPr/>
          <p:nvPr/>
        </p:nvPicPr>
        <p:blipFill>
          <a:blip r:embed="rId3"/>
          <a:stretch/>
        </p:blipFill>
        <p:spPr>
          <a:xfrm>
            <a:off x="4716360" y="1557360"/>
            <a:ext cx="2040120" cy="28083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4" descr="5"/>
          <p:cNvPicPr/>
          <p:nvPr/>
        </p:nvPicPr>
        <p:blipFill>
          <a:blip r:embed="rId4"/>
          <a:stretch/>
        </p:blipFill>
        <p:spPr>
          <a:xfrm>
            <a:off x="6516720" y="3284640"/>
            <a:ext cx="213984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Учебники 2 класс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11" name="Picture 5" descr="м22"/>
          <p:cNvPicPr/>
          <p:nvPr/>
        </p:nvPicPr>
        <p:blipFill>
          <a:blip r:embed="rId1"/>
          <a:stretch/>
        </p:blipFill>
        <p:spPr>
          <a:xfrm>
            <a:off x="826920" y="1484280"/>
            <a:ext cx="2124360" cy="27367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м12"/>
          <p:cNvPicPr/>
          <p:nvPr/>
        </p:nvPicPr>
        <p:blipFill>
          <a:blip r:embed="rId2"/>
          <a:stretch/>
        </p:blipFill>
        <p:spPr>
          <a:xfrm>
            <a:off x="2700360" y="3284640"/>
            <a:ext cx="2058840" cy="28083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м11"/>
          <p:cNvPicPr/>
          <p:nvPr/>
        </p:nvPicPr>
        <p:blipFill>
          <a:blip r:embed="rId3"/>
          <a:stretch/>
        </p:blipFill>
        <p:spPr>
          <a:xfrm>
            <a:off x="4859280" y="1484280"/>
            <a:ext cx="2185920" cy="28814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8" descr="6"/>
          <p:cNvPicPr/>
          <p:nvPr/>
        </p:nvPicPr>
        <p:blipFill>
          <a:blip r:embed="rId4"/>
          <a:stretch/>
        </p:blipFill>
        <p:spPr>
          <a:xfrm>
            <a:off x="6588000" y="3284640"/>
            <a:ext cx="215136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Учебники 3 класс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16" name="Picture 4" descr="м14"/>
          <p:cNvPicPr/>
          <p:nvPr/>
        </p:nvPicPr>
        <p:blipFill>
          <a:blip r:embed="rId1"/>
          <a:stretch/>
        </p:blipFill>
        <p:spPr>
          <a:xfrm>
            <a:off x="971640" y="1484280"/>
            <a:ext cx="1863720" cy="24732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7"/>
          <p:cNvPicPr/>
          <p:nvPr/>
        </p:nvPicPr>
        <p:blipFill>
          <a:blip r:embed="rId2"/>
          <a:stretch/>
        </p:blipFill>
        <p:spPr>
          <a:xfrm>
            <a:off x="2627280" y="3429000"/>
            <a:ext cx="1979640" cy="24732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м7"/>
          <p:cNvPicPr/>
          <p:nvPr/>
        </p:nvPicPr>
        <p:blipFill>
          <a:blip r:embed="rId3"/>
          <a:stretch/>
        </p:blipFill>
        <p:spPr>
          <a:xfrm>
            <a:off x="4932360" y="1484280"/>
            <a:ext cx="2081160" cy="27367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0" descr="м13"/>
          <p:cNvPicPr/>
          <p:nvPr/>
        </p:nvPicPr>
        <p:blipFill>
          <a:blip r:embed="rId4"/>
          <a:stretch/>
        </p:blipFill>
        <p:spPr>
          <a:xfrm>
            <a:off x="6659640" y="3500280"/>
            <a:ext cx="186372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Сложение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900000" y="1600200"/>
          <a:ext cx="7786800" cy="2725560"/>
        </p:xfrm>
        <a:graphic>
          <a:graphicData uri="http://schemas.openxmlformats.org/drawingml/2006/table">
            <a:tbl>
              <a:tblPr/>
              <a:tblGrid>
                <a:gridCol w="2595600"/>
                <a:gridCol w="2595600"/>
                <a:gridCol w="2595600"/>
              </a:tblGrid>
              <a:tr h="46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клас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клас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клас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5 =  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 + …=  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 + □  =  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□ 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7 =  15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  + 15 =  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  +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=  9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+ 57 =  8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 + х  =  54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  + 105 = 4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3  +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= 19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+ 89 = 40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3  +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= 1604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Вычитание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914400" y="1600200"/>
          <a:ext cx="7772400" cy="290844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49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клас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клас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клас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1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- … = 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 1 = 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 – □ = 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□ –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= 2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 - х =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 - 1 = 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 - у = 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 - 8 = 2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0 – х = 2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170 = 3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0 –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= 4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380 = 100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21:03:06Z</dcterms:created>
  <dc:creator>Admin</dc:creator>
  <dc:description/>
  <dc:language>en-US</dc:language>
  <cp:lastModifiedBy>Елена</cp:lastModifiedBy>
  <dcterms:modified xsi:type="dcterms:W3CDTF">2013-03-25T06:20:47Z</dcterms:modified>
  <cp:revision>3</cp:revision>
  <dc:subject/>
  <dc:title>МБОУ «Яйская  основная общеобразовательная школа№3»</dc:title>
</cp:coreProperties>
</file>