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935-342C-4128-9324-524513B6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78B-BF50-43B7-AFDD-6EA349E7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387-B65B-405D-BAF6-DF99E89C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03E-27AB-41D7-9C6A-E61D16EA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D687-FDBF-4E8C-83F3-5BC66003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6383-BB45-4C70-9C59-1757034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11B0-1628-4773-9408-C3A4CBC4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B00-9CDB-4D6A-897E-01D4271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58CC-20CF-4073-B40D-403EF37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855-C257-4A47-BC70-99DE8E3A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AAF-749F-4EAC-B195-D8ED67C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C6D-EC92-4CC4-84BF-96401BCE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9174-D5FB-4E40-995F-FBA5B049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4F65-4A16-4B6E-8D94-7BE06ED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597-8268-4EA2-A6BF-D8E3DC4C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F136-5870-4891-88DB-B0B304A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D42E-4996-44DC-98E0-20CEDBCB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1E99-ECB6-43D1-993D-CB9C0A58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F9EF-2FE9-49D8-BC4D-B986E0A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ED5F-E78C-40F5-9375-D97B3E3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D235-DA8B-4FEF-AFAE-F3E50D2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5351-E1EB-4E61-B075-B9E809C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77A-B696-4090-BF27-8FD06A2F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2271-C537-4169-825F-C399136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5140-5965-4691-B276-D4DC3DB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CE79-CA46-4D2F-BA9B-8C80567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D2E9-BC92-4ACD-9EC9-05C0EFC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E566-9C91-4B46-B47C-8C7AA0A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C4F8-BB3F-49B9-AF77-20E8A17A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F0A6-20F6-4E86-95F4-AA2480E2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8500-EEC4-429D-B639-5DCB2501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E8EC-69C5-4297-B0FB-15B85AD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B8B0-67FE-4168-BFF6-B359829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604-06F7-473D-B09B-B550573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9936-1139-4EF1-9FBE-8132DBB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6797-135E-426B-B6BD-EDFB878D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AF82-8342-4551-BD11-737C5F7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3835-FCFB-4527-9924-AF6058C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F2CE-77C4-4207-90DB-DBC0DD9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2ABE-CC32-4FFF-BB03-D47FD2F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9A87-2209-431B-B7C0-1E8EB4C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C61D-41C4-4559-B87C-C9A6FAAB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397A-88A8-4492-8A02-C027DFAA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018-BB80-4AEB-AB07-CDE2C0F1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177-48B7-4561-BD41-C7D7D62A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9E2-01DA-426B-9746-F0A8325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9BB-0D01-4BF8-95DE-7DDB0ED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B75-9D2A-4D91-AB00-FA58CD6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F15E-5DCF-40F5-96C9-FF39ACCDF4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A10A-3A0F-4FAB-9686-42A02C28EBA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B0FD-9BC9-46CA-9AF5-A4BD067ABA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005-5EBD-4AA5-B773-2041DD6B754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212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2428"/>
                </a:solidFill>
                <a:latin typeface="Constantia"/>
              </a:rPr>
              <a:t>МКОУ «Таежно-Михайловская ООШ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2428"/>
                </a:solidFill>
                <a:latin typeface="Constantia"/>
              </a:rPr>
              <a:t>Преподаватель-организатор ОБЖ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2428"/>
                </a:solidFill>
                <a:latin typeface="Constantia"/>
              </a:rPr>
              <a:t>Голосова Людмила Пет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мение управлять своими эмо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 rot="5400000">
            <a:off x="6134040" y="1333080"/>
            <a:ext cx="1866960" cy="1943280"/>
          </a:xfrm>
          <a:custGeom>
            <a:avLst/>
            <a:gdLst>
              <a:gd name="textAreaLeft" fmla="*/ 291600 w 1866960"/>
              <a:gd name="textAreaRight" fmla="*/ 1633680 w 1866960"/>
              <a:gd name="textAreaTop" fmla="*/ 485640 h 1943280"/>
              <a:gd name="textAreaBottom" fmla="*/ 1457640 h 194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562720" y="3657600"/>
            <a:ext cx="32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ауто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амовну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0" y="1828800"/>
            <a:ext cx="5410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2285640" y="838080"/>
            <a:ext cx="1143000" cy="838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04920" y="1828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одоление ошибочных пра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19520" y="1828800"/>
            <a:ext cx="990360" cy="1143000"/>
          </a:xfrm>
          <a:custGeom>
            <a:avLst/>
            <a:gdLst>
              <a:gd name="textAreaLeft" fmla="*/ 123840 w 990360"/>
              <a:gd name="textAreaRight" fmla="*/ 866880 w 9903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09880" y="1066680"/>
            <a:ext cx="53341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елание быть, как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еодоление комплекса неполно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елание занять лидирующие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еодоление тяжелого микроклимата (голод, нищ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352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16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5146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971800" y="3505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57200" y="2354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143000" y="2362320"/>
            <a:ext cx="6400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Умерен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Режим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Двигатель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Закаливание</a:t>
            </a:r>
            <a:r>
              <a:rPr b="1" i="1" lang="ru-RU" sz="2400" spc="-1" strike="noStrike">
                <a:solidFill>
                  <a:srgbClr val="e3274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32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274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Личная гиги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Грамотное экологическ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Умение управлять своими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5df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5dfd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2819520" y="0"/>
            <a:ext cx="5943600" cy="1600200"/>
          </a:xfrm>
          <a:prstGeom prst="cloudCallout">
            <a:avLst>
              <a:gd name="adj1" fmla="val -35388"/>
              <a:gd name="adj2" fmla="val 8353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28600" y="685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меренное и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4343400" y="1371600"/>
            <a:ext cx="2209680" cy="1676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800" y="3200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оценный прием пищи людьми с учетом их пола, возраста, характера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219320" y="914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рационального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1980720" y="1523880"/>
            <a:ext cx="2057400" cy="1676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0492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1)Разнообраз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4038480" y="1523880"/>
            <a:ext cx="152640" cy="2514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438280" y="43434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2)Поддержание веса в н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4343400" y="1523880"/>
            <a:ext cx="1905120" cy="1676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410080" y="350532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3)Учет интенсивности физических нагру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2057400" y="7621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жим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5257800" y="914400"/>
            <a:ext cx="2895480" cy="3886200"/>
          </a:xfrm>
          <a:custGeom>
            <a:avLst/>
            <a:gdLst>
              <a:gd name="textAreaLeft" fmla="*/ 387720 w 2895480"/>
              <a:gd name="textAreaRight" fmla="*/ 2507760 w 2895480"/>
              <a:gd name="textAreaTop" fmla="*/ 680040 h 3886200"/>
              <a:gd name="textAreaBottom" fmla="*/ 281772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33520" y="3429000"/>
            <a:ext cx="487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ляется строго индивидуально на основании личн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447920" y="7621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остаточная двигательная   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648320" y="27432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2d700"/>
                </a:solidFill>
                <a:latin typeface="Arial"/>
              </a:rPr>
              <a:t>Режим</a:t>
            </a:r>
            <a:r>
              <a:rPr b="0" i="1" lang="ru-RU" sz="2400" spc="-1" strike="noStrike">
                <a:solidFill>
                  <a:srgbClr val="e2d7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2d700"/>
                </a:solidFill>
                <a:latin typeface="Arial"/>
              </a:rPr>
              <a:t>труда и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572000" y="3429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114800" y="38862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2d700"/>
                </a:solidFill>
                <a:latin typeface="Arial"/>
              </a:rPr>
              <a:t>Режим занятий физической</a:t>
            </a:r>
            <a:r>
              <a:rPr b="0" i="1" lang="ru-RU" sz="2400" spc="-1" strike="noStrike">
                <a:solidFill>
                  <a:srgbClr val="e2d7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2d700"/>
                </a:solidFill>
                <a:latin typeface="Arial"/>
              </a:rPr>
              <a:t>культу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352680" y="1905120"/>
            <a:ext cx="1371600" cy="1066680"/>
          </a:xfrm>
          <a:prstGeom prst="line">
            <a:avLst/>
          </a:prstGeom>
          <a:ln w="158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3276720" y="1905120"/>
            <a:ext cx="914400" cy="2133360"/>
          </a:xfrm>
          <a:prstGeom prst="line">
            <a:avLst/>
          </a:prstGeom>
          <a:ln w="158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9718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6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048120" y="533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5912"/>
                </a:solidFill>
                <a:latin typeface="Arial"/>
              </a:rPr>
              <a:t>Закал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2514600" y="1143000"/>
            <a:ext cx="1447920" cy="53352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58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Воздуш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4343400" y="1143000"/>
            <a:ext cx="0" cy="99072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724280" y="1143000"/>
            <a:ext cx="1447920" cy="60948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35053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Сол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791320" y="17524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6172200" y="1828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Вод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33520" y="4038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700"/>
                </a:solidFill>
                <a:latin typeface="Arial"/>
              </a:rPr>
              <a:t>Принципы закал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3200400" y="3886200"/>
            <a:ext cx="1752480" cy="12952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105520" y="380988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ebf01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01a"/>
                </a:solidFill>
                <a:latin typeface="Arial"/>
              </a:rPr>
              <a:t>Постеп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bf01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01a"/>
                </a:solidFill>
                <a:latin typeface="Arial"/>
              </a:rPr>
              <a:t>Продолж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bf01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01a"/>
                </a:solidFill>
                <a:latin typeface="Arial"/>
              </a:rPr>
              <a:t>Постоя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4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4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4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4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3429000" y="2895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Личная гиги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304920" y="152280"/>
            <a:ext cx="2743200" cy="1905120"/>
          </a:xfrm>
          <a:prstGeom prst="cloudCallout">
            <a:avLst>
              <a:gd name="adj1" fmla="val 74074"/>
              <a:gd name="adj2" fmla="val 8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игиена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276720" y="0"/>
            <a:ext cx="2514600" cy="2209680"/>
          </a:xfrm>
          <a:prstGeom prst="cloudCallout">
            <a:avLst>
              <a:gd name="adj1" fmla="val 38509"/>
              <a:gd name="adj2" fmla="val 79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игиена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248520" y="228600"/>
            <a:ext cx="2590560" cy="2057400"/>
          </a:xfrm>
          <a:prstGeom prst="cloudCallout">
            <a:avLst>
              <a:gd name="adj1" fmla="val -53004"/>
              <a:gd name="adj2" fmla="val 79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игиена вол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4266720" y="3657600"/>
            <a:ext cx="838440" cy="6858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6095880" y="3657600"/>
            <a:ext cx="914400" cy="6858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8862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Arial"/>
              </a:rPr>
              <a:t>Правила туа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867280" y="44956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Arial"/>
              </a:rPr>
              <a:t>Гигиена одежды и обу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1"/>
          <a:stretch/>
        </p:blipFill>
        <p:spPr>
          <a:xfrm>
            <a:off x="0" y="2819520"/>
            <a:ext cx="312408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066680" y="3808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рамотное экологическ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 flipH="1">
            <a:off x="2590920" y="914400"/>
            <a:ext cx="1752480" cy="1143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62120" y="213372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окружающе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 rot="1895400">
            <a:off x="2971800" y="3048120"/>
            <a:ext cx="1447920" cy="1828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648320" y="441972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инимально вредное влияние на её со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 7</dc:creator>
  <dc:description/>
  <dc:language>en-US</dc:language>
  <cp:lastModifiedBy>Win 7</cp:lastModifiedBy>
  <dcterms:modified xsi:type="dcterms:W3CDTF">2013-10-10T14:59:0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