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D3E6-1EA6-4B11-933F-BE42784F38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здесь сделать??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сить, еще слайд можно добавить… 2слай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оставить, только картинку со сло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ADA7-A0A2-4295-8B3E-885B83A16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3439-AD71-4E88-AC9F-B74537DE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7DE2-6EED-42CE-B6DD-FFE279F84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D3DB-EDA4-4CCB-92CC-BF9424619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4C300-22BD-461D-81C4-C703FE4B2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6B3F6-5997-4FF2-A58B-2F28C2D1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E32F5-D1BF-4184-8B08-A184F6A3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0D4B1-7AE9-4913-9052-F78DEC31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76A93-7205-463D-9B1B-40DECCF4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70833-104C-4BA3-9B03-AE6E1FB1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F4413-F8E4-4A0E-8210-BB9A87D5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94C2-96E9-4BCF-AA87-ED529346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2AEC3-2DC6-4520-A1EA-0104641C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4264B-189A-4C3A-AF2E-D3B97408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B3129-F476-4D7B-AE60-7284A4E3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758B6-9F55-4394-B328-BFADCDD0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C05C0-60E6-44B7-89E5-4CEB9BC24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8374F-A023-4629-92C4-0EE17194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91322-9564-47ED-8191-BBBCD6DE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B07E9-FB7B-4D68-9647-5E14B726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3C59F-4EF3-4FC3-B531-EFC6CCFF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428DE-B331-4561-8E15-7AE5E8D7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F01B-11B4-4343-9DFF-E31DD439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26247-EA33-4654-B897-8ED35E2E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C8C06-8424-486D-A81C-8D6B1A40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3579F-4293-4A5F-AAAA-2DF63501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C460E-33EE-4EC9-BFDA-A57446A9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0C259-7507-4911-BEBE-8A5F4626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35EC6-1843-4A0A-9BA5-0483F22FF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E8E9C-E5E7-4D9E-8A70-65FD1903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5EAA2C-C030-4127-8ADA-35254D394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62AEF7-E862-4FE2-84F9-1E3AA5A4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E75F9A-8AF0-4B30-8720-42A157C1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6C96-F0AA-4B1D-9259-FD47D26A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EEBB03-63B5-487D-9772-11CA0B91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0072FA-FBC2-4CD8-984C-D60D3772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88A197-E943-4A76-8A12-C71163E3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D495E8-3D47-4CF9-852E-B33045CA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B12008-AC12-4694-B484-0C424E5E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3629FE-E19E-4C63-9150-D67414AE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26C5F8-B595-4C29-A9A7-7BFA915F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530D4C-66E8-4651-BB0F-35B177E83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B0FF83-F852-4F2B-8F58-55AC85DC0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B3E5-89B9-48F1-90B0-8EF8A850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F01E-3EC8-4A09-B0D9-2D807E36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57C6-BDBA-4F22-92C1-C50ACCB5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6185-F38C-46DC-AE9B-E6A8996C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6B5B-0421-4C5D-A592-05154339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9668-AD01-4269-B707-CC0C5995B8C5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790C-6CC4-4290-9F6F-04DC0BB45BD0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ED90-914A-46AD-855E-7911AA9E902E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5F67-C059-4409-BA41-93ECCE6066EF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Подготовила: Бурова Татьяна, 7Бкласс,</a:t>
            </a:r>
            <a:br>
              <a:rPr sz="2200"/>
            </a:b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МОУ Шатковская СОШ №1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2012год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1015920" y="1403280"/>
            <a:ext cx="70660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500" spc="-1" strike="noStrike">
                <a:solidFill>
                  <a:srgbClr val="ffffff"/>
                </a:solidFill>
                <a:latin typeface="Georgia"/>
              </a:rPr>
              <a:t>Проект </a:t>
            </a:r>
            <a:br>
              <a:rPr sz="3500"/>
            </a:br>
            <a:r>
              <a:rPr b="0" i="1" lang="ru-RU" sz="3500" spc="-1" strike="noStrike">
                <a:solidFill>
                  <a:srgbClr val="ffffff"/>
                </a:solidFill>
                <a:latin typeface="Georgia"/>
              </a:rPr>
              <a:t>«Исторические сведения о дробях и старинные задачи на дроби»</a:t>
            </a:r>
            <a:endParaRPr b="0" lang="en-US" sz="35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240920" y="189000"/>
            <a:ext cx="697572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Monotype Corsiva"/>
              </a:rPr>
              <a:t>4. Древний Вавилон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3807000" y="593640"/>
            <a:ext cx="5157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Первые упоминания о дробях найдены на глиняных табличках Древнего Вавилона.  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Это государство находилось в долинах рек Тигр и Евфрат примерно за три тысячи лет до нашей эры.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4167360" y="2168640"/>
            <a:ext cx="484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Вавилонские «тексты» доходят до нас в виде глиняных табличек, обычно примерно размера ладони. Они написаны клинописью, клинообразным алфавитом.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3627360" y="3429000"/>
            <a:ext cx="4572000" cy="32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Их арифметика имела основание 60, в вавилонской математике  пользовались </a:t>
            </a:r>
            <a:r>
              <a:rPr b="1" lang="ru-RU" sz="2200" spc="-1" strike="noStrike">
                <a:solidFill>
                  <a:srgbClr val="ffffff"/>
                </a:solidFill>
                <a:latin typeface="Monotype Corsiva"/>
              </a:rPr>
              <a:t>шестидесятеричной</a:t>
            </a: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 системой для целых чисел и дробей, дроби записывались с постоянным знаменателем равным 60-ти. 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2997360" y="5724360"/>
            <a:ext cx="175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Например,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209" name="Рисунок 15" descr="http://kosilova.textdriven.com/narod/studia3/math/translatio/babylon.files/image016.gif"/>
          <p:cNvPicPr/>
          <p:nvPr/>
        </p:nvPicPr>
        <p:blipFill>
          <a:blip r:embed="rId1"/>
          <a:stretch/>
        </p:blipFill>
        <p:spPr>
          <a:xfrm>
            <a:off x="4707000" y="5221440"/>
            <a:ext cx="3195720" cy="163656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14" descr="http://kosilova.textdriven.com/narod/studia3/math/translatio/babylon.files/image004.gif"/>
          <p:cNvPicPr/>
          <p:nvPr/>
        </p:nvPicPr>
        <p:blipFill>
          <a:blip r:embed="rId2"/>
          <a:stretch/>
        </p:blipFill>
        <p:spPr>
          <a:xfrm>
            <a:off x="115920" y="5273640"/>
            <a:ext cx="2951280" cy="1071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вавилонская табличка"/>
          <p:cNvPicPr/>
          <p:nvPr/>
        </p:nvPicPr>
        <p:blipFill>
          <a:blip r:embed="rId3"/>
          <a:stretch/>
        </p:blipFill>
        <p:spPr>
          <a:xfrm>
            <a:off x="431640" y="1133640"/>
            <a:ext cx="2595600" cy="35114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22000" y="189000"/>
            <a:ext cx="6705720" cy="63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9f9f9"/>
                </a:solidFill>
                <a:latin typeface="Monotype Corsiva"/>
              </a:rPr>
              <a:t> </a:t>
            </a:r>
            <a:r>
              <a:rPr b="1" lang="ru-RU" sz="3400" spc="-1" strike="noStrike">
                <a:solidFill>
                  <a:srgbClr val="f9f9f9"/>
                </a:solidFill>
                <a:latin typeface="Monotype Corsiva"/>
              </a:rPr>
              <a:t>5.</a:t>
            </a:r>
            <a:r>
              <a:rPr b="0" lang="ru-RU" sz="3400" spc="-1" strike="noStrike">
                <a:solidFill>
                  <a:srgbClr val="f9f9f9"/>
                </a:solidFill>
                <a:latin typeface="Monotype Corsiva"/>
              </a:rPr>
              <a:t> </a:t>
            </a:r>
            <a:r>
              <a:rPr b="1" lang="ru-RU" sz="3400" spc="-1" strike="noStrike">
                <a:solidFill>
                  <a:srgbClr val="f9f9f9"/>
                </a:solidFill>
                <a:latin typeface="Monotype Corsiva"/>
              </a:rPr>
              <a:t>Древний Китай</a:t>
            </a:r>
            <a:r>
              <a:rPr b="0" lang="ru-RU" sz="3400" spc="-1" strike="noStrike">
                <a:solidFill>
                  <a:srgbClr val="f9f9f9"/>
                </a:solidFill>
                <a:latin typeface="Constantia"/>
              </a:rPr>
              <a:t> </a:t>
            </a:r>
            <a:endParaRPr b="0" lang="en-US" sz="34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132000" y="684000"/>
            <a:ext cx="5554800" cy="33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Возникновение китайской  цивилизации на берегах реки Хуанхэ относится к началу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тыс. до н. э.</a:t>
            </a:r>
            <a:br>
              <a:rPr sz="1900"/>
            </a:b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    Среди важнейших достижений китайской математики отметим: правило двух ложных положений, введение отрицательных чисел, десятичных дробей, методов решения систем линейных уравнений, алгебраических уравнений высших степеней и извлечение корней любой степени.</a:t>
            </a: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-273240" y="4462920"/>
            <a:ext cx="766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«</a:t>
            </a:r>
            <a:r>
              <a:rPr b="0" i="1" lang="ru-RU" sz="2200" spc="-1" strike="noStrike">
                <a:solidFill>
                  <a:srgbClr val="ffffff"/>
                </a:solidFill>
                <a:latin typeface="Monotype Corsiva"/>
              </a:rPr>
              <a:t>Три пути ведут к знанию:</a:t>
            </a:r>
            <a:br>
              <a:rPr sz="2200"/>
            </a:br>
            <a:r>
              <a:rPr b="0" i="1" lang="ru-RU" sz="2200" spc="-1" strike="noStrike">
                <a:solidFill>
                  <a:srgbClr val="ffffff"/>
                </a:solidFill>
                <a:latin typeface="Monotype Corsiva"/>
              </a:rPr>
              <a:t>Путь размышления – самый благородный,</a:t>
            </a:r>
            <a:br>
              <a:rPr sz="2200"/>
            </a:br>
            <a:r>
              <a:rPr b="0" i="1" lang="ru-RU" sz="2200" spc="-1" strike="noStrike">
                <a:solidFill>
                  <a:srgbClr val="ffffff"/>
                </a:solidFill>
                <a:latin typeface="Monotype Corsiva"/>
              </a:rPr>
              <a:t>Путь подражания – самый легкий</a:t>
            </a:r>
            <a:br>
              <a:rPr sz="2200"/>
            </a:br>
            <a:r>
              <a:rPr b="0" i="1" lang="ru-RU" sz="2200" spc="-1" strike="noStrike">
                <a:solidFill>
                  <a:srgbClr val="ffffff"/>
                </a:solidFill>
                <a:latin typeface="Monotype Corsiva"/>
              </a:rPr>
              <a:t>И путь опыта – это путь самый горький…»  </a:t>
            </a:r>
            <a:r>
              <a:rPr b="1" i="1" lang="ru-RU" sz="2200" spc="-1" strike="noStrike">
                <a:solidFill>
                  <a:srgbClr val="ffffff"/>
                </a:solidFill>
                <a:latin typeface="Monotype Corsiva"/>
              </a:rPr>
              <a:t>Конфуций</a:t>
            </a: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476280" y="1133640"/>
            <a:ext cx="2757600" cy="3060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Rectangle 4" descr=""/>
          <p:cNvPicPr/>
          <p:nvPr/>
        </p:nvPicPr>
        <p:blipFill>
          <a:blip r:embed="rId1"/>
          <a:stretch/>
        </p:blipFill>
        <p:spPr>
          <a:xfrm>
            <a:off x="480960" y="6480"/>
            <a:ext cx="8461440" cy="1504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206280" y="1088640"/>
            <a:ext cx="4267440" cy="40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Дикая утка от южного     моря до северного моря летит 7 дней. Дикий гусь от северного моя до южного моря летит 9 дней. Теперь утка и гусь вылетают одновременно</a:t>
            </a: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. </a:t>
            </a: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Через сколько дней они встретятся?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481280" y="99864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шение:                             утка    7 дн. 9раз  63 дня                          гусь    9 дн.  7раз 63 дня                       1)7+9=16 раз                      2) 63:16= 3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15/16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 дней)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1:7=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1/7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ути утка 1 д.   4) 1:9=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/9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ути гусь 1 д.    5)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1/7+1/9=16/63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месте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)  1: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16/63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3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15/16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ней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через 3 15/16 дней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9" name="Picture 6" descr="7A3B332C6AB5"/>
          <p:cNvPicPr/>
          <p:nvPr/>
        </p:nvPicPr>
        <p:blipFill>
          <a:blip r:embed="rId2"/>
          <a:stretch/>
        </p:blipFill>
        <p:spPr>
          <a:xfrm>
            <a:off x="3222720" y="4824360"/>
            <a:ext cx="3193920" cy="17049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6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6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6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6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6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6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6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2708280"/>
            <a:ext cx="322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           </a:t>
            </a:r>
            <a:r>
              <a:rPr b="1" lang="ru-RU" sz="1800" spc="-1" strike="noStrike">
                <a:solidFill>
                  <a:srgbClr val="ffffff"/>
                </a:solidFill>
                <a:latin typeface="Monotype Corsiva"/>
              </a:rPr>
              <a:t>МАГНИЦКИЙ 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onotype Corsiva"/>
              </a:rPr>
              <a:t>Леонтий Филиппович (1669-1739)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221" name="Picture 2" descr="E:\Мои документы\Мои видеозаписи\Матетатика\page3-200px-Magnitsky.djvu.jpg"/>
          <p:cNvPicPr/>
          <p:nvPr/>
        </p:nvPicPr>
        <p:blipFill>
          <a:blip r:embed="rId1"/>
          <a:stretch/>
        </p:blipFill>
        <p:spPr>
          <a:xfrm>
            <a:off x="476280" y="3294000"/>
            <a:ext cx="1857240" cy="221472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8"/>
          <p:cNvSpPr/>
          <p:nvPr/>
        </p:nvSpPr>
        <p:spPr>
          <a:xfrm>
            <a:off x="385920" y="5499000"/>
            <a:ext cx="2295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Страница первого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русского учебника 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«Арифметика» 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1703г.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23" name="Rectangle 10"/>
          <p:cNvSpPr/>
          <p:nvPr/>
        </p:nvSpPr>
        <p:spPr>
          <a:xfrm>
            <a:off x="3132000" y="593640"/>
            <a:ext cx="4572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Дроби в Древней Руси называли долями, позднее ломаными числами. Так у дробей с числителем 1 были свои названия. 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1\2- половина, полтина. 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1\3 - треть.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1\4 - четь. 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1\6 - полтреть.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1\8- полчеть. 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1\12- полполтреть.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1\10 – десятина (1,09 га)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24" name="Rectangle 11"/>
          <p:cNvSpPr/>
          <p:nvPr/>
        </p:nvSpPr>
        <p:spPr>
          <a:xfrm>
            <a:off x="2906640" y="4284720"/>
            <a:ext cx="5761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Славянская нумерация употреблялась в России до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XVI века. И только при Петре I стала вводится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десятеричная система счисления, которая и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сохранилась до наших дней. В 1903 г вышла в свет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“Арифметика” Л. Ф. Магницкого. В которой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в первой части изложены действия с целыми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числами, во второй - с ломаными, т.е. дробями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25" name="Rectangle 12"/>
          <p:cNvSpPr/>
          <p:nvPr/>
        </p:nvSpPr>
        <p:spPr>
          <a:xfrm>
            <a:off x="2457360" y="-147600"/>
            <a:ext cx="3510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Monotype Corsiva"/>
              </a:rPr>
              <a:t>6. Древняя Русь</a:t>
            </a: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checker dir="ver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ctangle 2" descr=""/>
          <p:cNvPicPr/>
          <p:nvPr/>
        </p:nvPicPr>
        <p:blipFill>
          <a:blip r:embed="rId1"/>
          <a:stretch/>
        </p:blipFill>
        <p:spPr>
          <a:xfrm>
            <a:off x="450720" y="0"/>
            <a:ext cx="8010720" cy="14320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3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В древних рукописях и старинных учебниках арифметики разных стран встречаются много интересных задач на дроби. Решение каждой из таких задач требует немалой смекалки, сообразительности и умения рассуждать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Рассмотрим несколько таких задач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8" name="Рисунок 6" descr="803007.JPG"/>
          <p:cNvPicPr/>
          <p:nvPr/>
        </p:nvPicPr>
        <p:blipFill>
          <a:blip r:embed="rId2"/>
          <a:stretch/>
        </p:blipFill>
        <p:spPr>
          <a:xfrm>
            <a:off x="1523880" y="3657600"/>
            <a:ext cx="609624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4" descr=""/>
          <p:cNvPicPr/>
          <p:nvPr/>
        </p:nvPicPr>
        <p:blipFill>
          <a:blip r:embed="rId1"/>
          <a:stretch/>
        </p:blipFill>
        <p:spPr>
          <a:xfrm>
            <a:off x="450720" y="0"/>
            <a:ext cx="8010720" cy="14270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-360" y="1143000"/>
            <a:ext cx="48769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№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Путник, догнав другого, спросил его: «Далеко ли до деревни, которая впереди?» Другой путник ответил: « Расстояние от деревни, из которой ты идёшь, равно трети всего расстояния меду деревнями. А если пройдёшь ещё две версты, будешь ровно посередине между деревнями. Сколько вёрст осталось идти первому путнику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724280" y="1219320"/>
            <a:ext cx="4267440" cy="23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№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Четыре плотника хотят построить дом. 1 плотник  может построить дом за год, второй- за 2 года, третий- за три года, четвёртый- за 4 года. За сколько лет они построят дом при совместной работе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«Арифметика», Магницский, 1703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0" y="3962520"/>
            <a:ext cx="44956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cc"/>
                </a:solidFill>
                <a:uFillTx/>
                <a:latin typeface="Arial"/>
              </a:rPr>
              <a:t>Решение№1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версты, которые нужно пройти  до середины, составляют  1/6 всего расстояния до деревни.  2*6=12( вёрст)  всё расстояние                                    12*1/3=4( версты)  прошёл путник                               12-4=8 (вёрст) осталось                                                Ответ: 8 вёрст.                      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648320" y="3962520"/>
            <a:ext cx="44956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01600" indent="-2016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cc"/>
                </a:solidFill>
                <a:uFillTx/>
                <a:latin typeface="Arial"/>
              </a:rPr>
              <a:t>Решение№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Число 12 –делители 1, 2, 3, 4.                                                                                                       1) 12:1=12( домов) 1 плотник за 12 лет                                                                                                                                 2) 12:2=6( дом)    2 плотник  за 12 лет                                                                                                                       3) 12:3=4( дом)   3  плотник  за 12 лет                                                                                                          4) 12:4=3( дом)    4  плотник  за 12 лет                                                                                                             5) 12+6+4+3=25( домов)  вместе за  12 лет                                                                                                                        6)  12:25= 12/25( года)  1 дом  вместе.                             Ответ: примерно  6  месяцев.</a:t>
            </a:r>
            <a:r>
              <a:rPr b="0" lang="ru-RU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checker dir="ver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9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3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Rectangle 4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Некто взял из сокровищницы 1/13.   Из того, что осталось, другой взял 1/17. Оставил же в сокровищнице 192. Мы хотим узнать, сколько было в сокровищнице первоначально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Решение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1)1-</a:t>
            </a: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1/13=12/13(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ч) сокровищ осталось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2)</a:t>
            </a: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12/13-1/17=191/22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(ч) сокровищ осталось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191/22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составляет 191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3)191:191*221=221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Ответ: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221 было первоначально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checker dir="vert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Rectangle 2" descr=""/>
          <p:cNvPicPr/>
          <p:nvPr/>
        </p:nvPicPr>
        <p:blipFill>
          <a:blip r:embed="rId1"/>
          <a:stretch/>
        </p:blipFill>
        <p:spPr>
          <a:xfrm>
            <a:off x="244440" y="152280"/>
            <a:ext cx="8442360" cy="1474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Трое выиграли некоторую сумму денег. На дою первого пришлось ¼ этой суммы, на долю второго -1/7, а долю третьего – 17 флоринов. Как велик весь выигрыш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ешение:                            примем выигрыш за 1.         1) ¼+</a:t>
            </a:r>
            <a:r>
              <a:rPr b="0" i="1" lang="ru-RU" sz="2600" spc="-1" strike="noStrike">
                <a:solidFill>
                  <a:srgbClr val="ffffff"/>
                </a:solidFill>
                <a:latin typeface="Times New Roman"/>
              </a:rPr>
              <a:t>1/7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11/28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(ч.) выиграли двое                  2)1-</a:t>
            </a: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11/28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17/28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(ч.) выиграл третий 3)17/28=11/28         17 флористов есть 11/28 4)17:17*28=28(флор.) Ответ: 28 флоринов весь выигрыш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checker dir="vert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6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6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6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6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96640" y="232920"/>
            <a:ext cx="8235720" cy="62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i="1" lang="ru-RU" sz="3000" spc="-1" strike="noStrike" u="sng">
                <a:solidFill>
                  <a:srgbClr val="ffffff"/>
                </a:solidFill>
                <a:uFillTx/>
                <a:latin typeface="Constantia"/>
              </a:rPr>
              <a:t>Как появились дроби?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С древних времён людям приходилось не только считать предметы, для чего требовались натуральные числа, но и измерять длину, время, площадь. Не всегда результат измерения выражался натуральным числом, приходилось учитывать части и доли. Так появились дроби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Современное </a:t>
            </a:r>
            <a:r>
              <a:rPr b="0" lang="ru-RU" sz="2200" spc="-1" strike="noStrike" u="sng">
                <a:solidFill>
                  <a:srgbClr val="ffffff"/>
                </a:solidFill>
                <a:uFillTx/>
                <a:latin typeface="Constantia"/>
              </a:rPr>
              <a:t>обозначение дробей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берет свое начало в Древней Индии; его стали использовать и арабы, а от них в </a:t>
            </a: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XII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– </a:t>
            </a: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XIV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веках оно было заимствовано европейцами. Вначале в записи дробей не использовалась дробная черта; например числа 1/5; 2 1/3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                                        2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                                  1     1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записывались так:  5  ;  3. Черта дроби стала постоянно использоваться лишь около 300 лет назад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checker dir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31640" y="279360"/>
            <a:ext cx="5895720" cy="68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9f9f9"/>
                </a:solidFill>
                <a:latin typeface="Comic Sans MS"/>
              </a:rPr>
              <a:t>Маршрут путешествия:</a:t>
            </a:r>
            <a:endParaRPr b="0" lang="en-US" sz="38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05920" y="1133280"/>
            <a:ext cx="821052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1. Древняя Греция и Индия.</a:t>
            </a:r>
            <a:br>
              <a:rPr sz="3500"/>
            </a:b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     2.Древний Египет.</a:t>
            </a:r>
            <a:br>
              <a:rPr sz="3500"/>
            </a:b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       3.Древний Рим.</a:t>
            </a:r>
            <a:br>
              <a:rPr sz="3500"/>
            </a:b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         4.Древний Вавилон.</a:t>
            </a:r>
            <a:br>
              <a:rPr sz="3500"/>
            </a:b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           5.Древний Китай.</a:t>
            </a:r>
            <a:br>
              <a:rPr sz="3500"/>
            </a:b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             6. Древняя Русь.</a:t>
            </a:r>
            <a:endParaRPr b="0" lang="en-US" sz="35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62000" y="728640"/>
            <a:ext cx="81388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Обыкновенные дроби широко употреблялись древними греками и индийцами. Современную систему записи дробей с числителем и знаменателем создал индийский ученый Брамагупта в Индии. Только там писали знаменатель сверху, а числитель – снизу и не писали дробные черты. Правила действий с дробями, изложенные, в IX веке распространились в мусульманских странах благодаря Мухаммеду Хорезмскому. В Западную Европу их привез итальянский купец и ученый Леонардо Фибоначчи из Пизы в XIII веке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4481640" y="5902920"/>
            <a:ext cx="323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200" spc="-1" strike="noStrike">
                <a:solidFill>
                  <a:srgbClr val="ffffff"/>
                </a:solidFill>
                <a:latin typeface="Arial"/>
              </a:rPr>
              <a:t>Леона́рдо Пиза́нский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коло 1170</a:t>
            </a: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 —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1250 г.)</a:t>
            </a: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792000" y="233280"/>
            <a:ext cx="8145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Monotype Corsiva"/>
              </a:rPr>
              <a:t>1. Древняя Греция и Индия</a:t>
            </a:r>
            <a:endParaRPr b="0" lang="en-US" sz="3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Rectangle 4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152280" y="1294920"/>
            <a:ext cx="40593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Слон, слониха и слонёнок пришли напиться к озеру, чтобы напиться воды. Слон может выпить озеро за 3ч, слониха - за 5ч, а слонёнок - за 6ч. За сколько времени они все вместе выпьют озеро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647960" y="1219320"/>
            <a:ext cx="4267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лон -        1 озеро       3ч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0 озёр     30ч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лониха-   1 озеро       5ч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 озёр       30 ч.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лонёнок- 1 озеро       6ч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 озёр        30 ч.                      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К(3,5,6)=30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10+6+5=21(озеро) выпьют слон, слониха и слонёнок за 30часов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30:21=1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3/7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ч) они вместе выпьют озеро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твет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3/7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час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8" name="Picture 32" descr=""/>
          <p:cNvPicPr/>
          <p:nvPr/>
        </p:nvPicPr>
        <p:blipFill>
          <a:blip r:embed="rId2"/>
          <a:stretch/>
        </p:blipFill>
        <p:spPr>
          <a:xfrm>
            <a:off x="566640" y="3743280"/>
            <a:ext cx="396108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1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10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10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10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1000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" dur="1000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5920" y="188640"/>
            <a:ext cx="8254800" cy="68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9f9f9"/>
                </a:solidFill>
                <a:latin typeface="Monotype Corsiva"/>
              </a:rPr>
              <a:t>2. Древний Египет</a:t>
            </a:r>
            <a:endParaRPr b="0" lang="en-US" sz="38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5920" y="86364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Египтяне ввели в обращение дроби  1/2, 1/3, 1/28 – их называли основными или единичными, было специальное обозначение для дроби  2/3, не совпадающее с обозначениями для других дробей. 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     Все остальные дроби египтяне старались записать как суммы долей, т.е. дробей вида 1/</a:t>
            </a: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n</a:t>
            </a: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.  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     Например, вместо 8/15 они писали 1/3+1/5. Иногда это бывало удобно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Picture 3" descr="Рисунок2"/>
          <p:cNvPicPr/>
          <p:nvPr/>
        </p:nvPicPr>
        <p:blipFill>
          <a:blip r:embed="rId1"/>
          <a:stretch/>
        </p:blipFill>
        <p:spPr>
          <a:xfrm>
            <a:off x="4346640" y="3654360"/>
            <a:ext cx="3779640" cy="302904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5"/>
          <p:cNvSpPr/>
          <p:nvPr/>
        </p:nvSpPr>
        <p:spPr>
          <a:xfrm>
            <a:off x="880920" y="5072760"/>
            <a:ext cx="34639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Monotype Corsiva"/>
              </a:rPr>
              <a:t>Древнеегипетский папирус 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Monotype Corsiva"/>
              </a:rPr>
              <a:t>около 2000 лет до н.э.</a:t>
            </a: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 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checker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Rectangle 6" descr=""/>
          <p:cNvPicPr/>
          <p:nvPr/>
        </p:nvPicPr>
        <p:blipFill>
          <a:blip r:embed="rId1"/>
          <a:stretch/>
        </p:blipFill>
        <p:spPr>
          <a:xfrm>
            <a:off x="250920" y="0"/>
            <a:ext cx="8364600" cy="12319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228240" y="1447920"/>
            <a:ext cx="4267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риходит пастух с 70 быками. Его спрашивают:                         - Сколько приводишь ты из своего многочисленного стада?   Пастух  отвечает:                       - Я привожу две трети от трети скота. Сочти, сколько быков в стаде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ешение:                          70 быков составляют 2/3 от1/3                             1) 2/3*1/3=2/9 составляют 70 быков.     2) 70 : 2/9= 315(быков) составляют стадо.            Ответ: 315 бык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checker dir="ver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4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4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4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4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8572320" y="6804000"/>
            <a:ext cx="42840" cy="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7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1511280" y="142920"/>
            <a:ext cx="5581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Monotype Corsiva"/>
              </a:rPr>
              <a:t>3. Древний Рим</a:t>
            </a:r>
            <a:r>
              <a:rPr b="1" lang="ru-RU" sz="22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297000" y="684360"/>
            <a:ext cx="4572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Monotype Corsiva"/>
              </a:rPr>
              <a:t>Интересная система дробей была в Древнем Риме. Единица массы 1 асс делился на 12 долей, сообразно с этим римляне пользовались двенадцатеричными дробями. 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i="1" lang="ru-RU" sz="2200" spc="-1" strike="noStrike">
                <a:solidFill>
                  <a:srgbClr val="ffffff"/>
                </a:solidFill>
                <a:latin typeface="Monotype Corsiva"/>
              </a:rPr>
              <a:t>Дробь, которую мы называем 1/12, римляне именовали "унцией", хотя бы она употреблялась для измерения длины или иной величины; дробь, которую мы называем 1/8, римляне называли "полторы унции" и тому подобное</a:t>
            </a:r>
            <a:r>
              <a:rPr b="1" i="1" lang="ru-RU" sz="2200" spc="-1" strike="noStrike">
                <a:solidFill>
                  <a:srgbClr val="ffffff"/>
                </a:solidFill>
                <a:latin typeface="Monotype Corsiva"/>
              </a:rPr>
              <a:t>. 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4167360" y="3833640"/>
            <a:ext cx="4572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Римлянин мог сказать, что он прошёл 7 унций пути или прочитал 5 унций книги. При этом конечно, не взвешивали путь или книгу. 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Имелось в виду, что пройдено 7/12 долей пути или прочитано 5/12 частей книги.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200" name="Picture 2" descr="E:\Мои документы\Мои видеозаписи\Матетатика\Картинки\i.   jpeg.jpeg"/>
          <p:cNvPicPr/>
          <p:nvPr/>
        </p:nvPicPr>
        <p:blipFill>
          <a:blip r:embed="rId1"/>
          <a:stretch/>
        </p:blipFill>
        <p:spPr>
          <a:xfrm>
            <a:off x="4797360" y="593640"/>
            <a:ext cx="3465720" cy="31431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0920" y="458280"/>
            <a:ext cx="6931080" cy="102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9f9f9"/>
                </a:solidFill>
                <a:latin typeface="Monotype Corsiva"/>
              </a:rPr>
              <a:t>Древнеримская    задача (</a:t>
            </a:r>
            <a:r>
              <a:rPr b="1" i="1" lang="en-US" sz="3200" spc="-1" strike="noStrike">
                <a:solidFill>
                  <a:srgbClr val="f9f9f9"/>
                </a:solidFill>
                <a:latin typeface="Monotype Corsiva"/>
              </a:rPr>
              <a:t>II</a:t>
            </a:r>
            <a:r>
              <a:rPr b="1" i="1" lang="ru-RU" sz="3200" spc="-1" strike="noStrike">
                <a:solidFill>
                  <a:srgbClr val="f9f9f9"/>
                </a:solidFill>
                <a:latin typeface="Monotype Corsiva"/>
              </a:rPr>
              <a:t>в.)</a:t>
            </a:r>
            <a:br>
              <a:rPr sz="3200"/>
            </a:br>
            <a:endParaRPr b="0" lang="en-US" sz="3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042920"/>
            <a:ext cx="8229600" cy="56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екто, умирая, завещал: « Если у моей жены родится сын, то пусть ему будет 2/3 имения, а жене – остальная часть. Если же родится дочь, то ей 1/3, а жене 2/3». Родилась двойня – сын и дочь. Как же разделить имение?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611280" y="3159000"/>
            <a:ext cx="4186080" cy="34196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6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6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0-10T09:22:22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