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2E4-A02A-4D4B-B145-1ED88354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950-C486-4C91-9147-BE4E94A0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3948C-A7EE-4F1E-AC5C-BBB2A0A0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37676-2B06-404B-8430-74AA0A71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681ED-DBBF-4E81-920A-A0746F8D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B5B6E-0B6B-4B9B-8124-302FA088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3BB7E-68DD-4C2C-887B-31659C4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6FA5B-D289-4BCE-90B6-D71E1CB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58E94-421E-4CC2-97CE-7540D34B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593E4-F428-430A-AB42-B93A294E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FE7F6-D318-49BE-AC51-CC82FEAA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8F6B3-071C-409D-A4DA-DEF18ED6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9F6-CB36-4D6E-965C-B82F74D1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B4D0D-9438-4CAD-A5A4-C422E8D5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9F988-0F2E-4B8D-82F1-F160237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FD603-C936-46F5-B941-F79F5978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E1FB4-296F-4BCF-B69F-4B4D0163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CFF74-92B5-4084-8219-D80C4D1A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36DBE-FE86-4F04-A7CE-52270CD6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80E2B-211E-43E4-9B4D-C18864C0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EA418-CCC3-47E3-821F-45FB17E2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6C2DD-639E-4860-8A0D-0D5CD58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4FDBE-C4B6-47D7-BF63-D17D925B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646-F524-42AD-8BAF-B5810468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48557-700F-458A-8AEF-E9C797B1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5D082-517B-484B-A4A5-00121296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147C6-B78E-4ED8-AA52-D32F0E1B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6613B-02A8-4574-B23A-AB974346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3C9A8-9F0A-4D40-AEAF-8889D8C7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0CB65-2E5E-4903-A3A6-54812181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83FAF-A031-4A45-B596-E03617ED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97AE1-0C3A-4AD9-927B-43395F4F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188EA-BD6D-4DE1-8A93-D59D8CC3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91CD6-0482-4C8A-B78E-1D4E1BDF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56B8-656B-4962-BFC3-99A02FD2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76552-AA17-4115-AC6E-7E68DCF8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52DBC-71A8-42EF-8B36-93739BEA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1872B-C20A-4401-B9DE-845B7724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A75A5-1B2B-47DB-A558-B578CAB2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77DC7-5904-4E21-BEC1-7708E798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A97A5-15C6-44E2-B87A-1A7A0FE0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77DBA-0022-4293-A221-C4042663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2AFFA-8070-4901-B765-A287D83D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00ACB-EF11-4A42-A6F4-B624F05E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5569A-B40D-4781-82B3-B545DCF0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A7F8-84D8-4BB6-8224-CDF4DADE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0B1B8-C6FE-4D2F-A57D-E50A57F2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C3769-4FDF-47DF-8071-3F649AC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9B36F-7863-4F38-872C-1AEC677E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2D94E-8231-4CF4-A760-CDB81022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48788-80DD-43CF-BB88-0B9F0544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02A1B-4A2C-4577-A862-23B0053C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C400F-A161-4F2E-81F2-21614851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8DCF8-7FF4-4067-9DC5-DAF39BD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6A275-125D-4A1E-8298-544C1F95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5D851-CFD0-4C91-80D7-C81E1C7C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30C3-C745-4B19-BBDC-D48AC75A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FF63F-F62D-47A5-9D57-45FACEDB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12910-2DAD-47B1-925F-573A302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96C22-C69C-4FB3-8A00-15A47074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DB1DC-F64B-4FB7-BE2D-E38D8A3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43597-4C65-4B17-A4F2-565FC583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CEC77-0C49-403E-AB71-F63953BC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E3519-12EC-4F74-8DF7-DD5EC6C1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627CF-219E-4E9C-BD74-2244F39B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45378-9209-48F1-92B4-0D7C8F8F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523AF-3893-41C6-A37B-C0AD25B3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BD6D-BE8E-410E-B260-179B1E6F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32EA9-0D59-48F0-9B7C-99448843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9916D-29E5-4EAC-A5E5-4041A616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1D8FB-ED69-4F9F-879C-158DD7C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843A2-55B7-4FD1-BA14-7B3B0FB0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ABFF0-F3DD-455F-8B9D-7E30C565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88672-8CDB-4A9C-B68E-AA55E60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B00AE-5845-41A9-AAC1-78B6B966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A2345-D6B4-497F-A93A-6CBEC376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6CC3D-ABAB-45BB-ACD3-6E21C98E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5BD38-2F8B-4869-9FBC-E4D97279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AF42-0CE3-466A-9689-04192AFA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6945B-173E-45D9-8909-CA9E5310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7B171-A302-4898-B282-42C9EC85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21D69-4062-4044-9B2B-9143420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CCB17-CB2E-4658-95C9-27BCDF1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C2ED4-757B-4C43-AFB6-B9CBD9D3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045A2-8FB0-458C-8D25-BFBE4905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D5CF4-EA28-45B2-B4F4-03D4AB60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6EA05-3A3F-4C72-B8DC-CFA74317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92F92-109E-4654-B480-446CEF9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74BF3-D9FD-415F-B88A-794F0E9F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3A3D-F827-4AE5-8206-E8A3EBF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93120-2139-4A4C-8F14-ECBF29AA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03473-033C-4C46-869B-EB5D1D09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D10B5-A58B-4A3A-902F-78B486AA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CC779-DA2A-44F2-B2A7-7C7DC669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4D01D-ACD3-4D14-B9AE-0C165849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6F9D1-CC05-41B2-8B71-7729AE64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7C568-FEC6-45C5-90C4-E126D902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AFA95-F665-4FBA-83C4-E7EA8F8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08236-EF7E-42B0-8CF1-BFAB345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F9FE7-9645-4780-9763-1B84133A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2164-7A66-4C05-8B29-22001FEE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6E4C3-A800-49B2-BF28-9EC0591B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5F01E-9B5D-42A2-BA97-CA962298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DB80E-D576-4A88-AF52-62B194ED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8E191-A74B-4765-BA72-8E2FB9BE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0418B-2A65-4FE0-9A53-431DAC9F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04DBF-888F-4591-99B2-72AD8FD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A40BA-385B-4F3E-9F0B-4D5BD40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28269-0C6C-4530-857A-B1286282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BCD61-30D9-476F-A53B-DD8FC762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19C9C-DD5F-44D5-8CE8-D7E6D91A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70A-ABB1-42AF-91F6-186EDF06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E489-1591-4FEE-9C0F-15F7D6A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68233-D10C-4266-81C0-AE162516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A3843-CD3C-42FC-BF8D-1086DB7C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56E1C-8356-48A0-B59C-F3C2A388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8BEA4-3947-4D7C-810C-0962B140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99072-E61E-4142-93D9-70BBCC5E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CC5E1-2D42-4833-94BE-050E58C0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350101-D23B-4CF3-A48D-CCBA6F99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D4A5B-B05E-4C6B-B770-CEC9750C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48D01-4518-4BA7-8810-8C1C141F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4F4D8-2306-4F00-909F-970C2A0F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7668-2858-4927-9DDA-969FB89E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AF376-CA05-4D83-A427-03021B08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1516BF-4FAB-4527-9618-8B4C05F2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94CFA-8961-47C4-86CF-8D1A7E7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1A845-F8F4-4651-B19E-35FBCE2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5BB85-2331-4A83-9A5D-04170EED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EE715-A88F-4C07-B3CF-4E6B3F54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DE5AF-F809-484E-8F7C-A692090C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31663-9E3F-48AC-9D1F-D4B1F60E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7FB1F5-A39F-4DFD-9167-CCD057DD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8D9266-DC2A-43EA-84D5-3BB474FA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D894-05C1-4A72-A606-24CEED9F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D4C42-096A-479D-B7EF-A3434D24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99B0F-88D6-47B3-A132-EC41D050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84FC1-2DFF-4B82-A103-281264CE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A3D69-8EAB-4439-B0BB-2C820E9A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D0BB7D-A5A1-4DD5-87D2-B12F979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4A7A2-F293-48A4-B806-2E01EC0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F326C-AB90-4778-B616-443CD04A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9D733-EED7-48F1-8BC0-F37753BD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665FB-4432-4FA6-97BE-DCA42B3A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AAC15-5644-492F-855F-0AA8EF72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2AAE-FC3D-48EF-87CB-4428C05C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7AFCE-6B3C-449D-B7AA-0605DDB4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D02929-39BD-4421-B7E8-C1747913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98984-5677-4476-A945-BF6A0A4C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AD7F5-036C-453E-8AA3-178B8D9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84406-AF24-42E5-9CD0-F35ACE06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D4C202-1C37-4189-8C22-7498F5C4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3C22F-1F89-4BCD-AD9D-CD0D33DD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5A86BD-31F1-4730-916A-E9C1DC39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316B6-845E-47E9-BF1C-ECCEF2E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4DF26-01FF-4637-9778-019C1C3F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D67E-6D1B-44AC-A865-613F2A5B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46B95-D104-4BBE-BF0F-CE176D20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FEB86-6800-48B4-AF97-3425801B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1FAF97-6F32-4088-B0DC-BA5E0591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306ACF-99F8-4815-9105-F9E3DFF7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228D7-BF4B-400D-A996-15EB2EAF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45FC0-5C05-44D9-B6AF-C8371D3E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BB232-3AD9-488A-94CD-287447FA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65012-E974-4F0A-8157-FD9F8E5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0912C-4CFE-4BE0-94B6-80F6787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8CB8F-6382-4CA3-AB6E-8644D94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DDCBB-01C2-44B9-912E-251763FA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315B2B-0BE8-4299-87AF-34DDC113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7584C-E725-4092-870A-EBE59B55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7A06B6-A285-4315-B65C-2E392117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E085B-CE6E-4747-929E-9CA64249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1CD013-DD84-4ECA-A76E-7E7FD13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06AF81-F256-4EC2-953D-56C49090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692D7B-DB7A-4868-BEF6-F47CC228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2F07E6-D735-4B52-B2B7-CFC3AD9B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425E94-A779-4633-A6A6-CA8FD4CB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6257CE-D52B-45F2-9E33-D65E12DF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4C70-EE33-4782-9140-737BD57B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250B33-168F-4D91-88C0-46F1B866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6B6ABA-B37D-4C5A-AC15-706B299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6E222-02AF-49BA-9312-ACBD8602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B515D1-76CC-4664-A423-2D1365A9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7FB7F9-349C-4EBE-B58E-C435CF3F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62BE6B-E32B-4F05-B132-B7D46AB3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1409E9-9922-4123-9011-BFD14D63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2BC729-8AF4-4985-9241-3FF6EE84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9EED52-F3A6-4E7C-A770-5AD56D7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586398-F0EC-45FF-A00A-140971B0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D5F9-05F8-48A5-99DE-1DAE05B3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48ED4B-6447-4213-A025-F3F3AA6C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188B29-022E-4D34-9DBD-2838794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A39EB5-15D2-4877-A1EC-08847C3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92F0B1-AF24-40D9-9605-FA64F612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B23CE7-0CDD-4C59-B07D-C58BD785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AC00E7-CA6E-4F2C-A4E9-D416D9C1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211E0D-E87A-4104-AF8C-F14DC504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E77CFB-0E0B-470C-AE06-EED1916D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A11C4-881E-4D04-836D-53F910D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7C2C25-A34C-4953-8400-E79EAA59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E515-C467-4F9B-A5A3-10E01AC2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8C9EA6-9B7F-440E-A541-064F129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98C9C2-B8AF-4133-B3D6-402EB103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E32782-3726-4791-8741-D6CF183E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C42204-316C-46EA-9675-47540E9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DC36EA-0ED4-468B-86A4-6C913DE0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42B35A-4AD4-4260-B2FF-4699B425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1AC705-0180-4748-8F89-59696C7D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F12F5B-295F-4A86-B991-58D8EDE0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F1E2A1-98EE-4AE8-A5D6-5029DB8E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FE0FD-4CD9-45A7-A15D-43CA5BBD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52A-7774-4AB9-8009-B56340B2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FAFF-46D3-4279-8E89-877E806C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6D14-8FAC-42CF-AFE1-A700C975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FF17-EBF9-4D00-AD05-5516D214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1BE0-F060-4C50-B882-544DB8D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330E-FB3B-40FF-86DB-FE53C758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3575-6241-42AA-A0C2-78BD5725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14895-D17F-4BE4-96DC-B78484EE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5EF36-2EEF-42C4-9862-04950212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2D84-EB78-4793-82B5-FEFEDA1F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24E85-2827-4105-B598-A0DFB4C6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4C9-8D34-4305-BA6A-B0C0480D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C5A4-1E88-4C97-B4BA-3D904CB4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1AF5-49EA-4576-B02E-97EA4906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7C2A-2855-46DA-B8D7-0A610077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16F50-6DD7-43F4-B542-FAF4E318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AD1E-6C48-4949-A4F9-BC2FF12C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D7F39-5026-409C-B15F-7AE34E2D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2D6F-3D0B-43ED-A4F8-CF6A729B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4695-4ED2-48F0-B130-957DC6CB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E0C4-E0E7-492E-A4A3-45B8C1AF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200DD-3F5C-4467-B4FC-E338B94D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160-E041-4E2A-8E4D-1D6AF36A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D433-CFD7-4D7D-8F25-BE9AA780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E6E02-5A6E-4D62-B0A1-64927250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590A5-049A-4570-9187-AB8A764F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6BF6-4648-44C2-B11A-2D5186DF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F6FE-B43E-4F16-ACDF-A393787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B9D43-928A-4AE7-9782-F0475AE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509F2-E694-4027-97CF-3C9476A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1B1F-C2D8-4A11-9AC5-9053AF44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B8EC8-3BD3-4F51-9F68-F764832B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6D08D-4DE0-4587-99BA-E294CC08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92B-8693-43DD-94E9-0692C58A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E83EB-FE97-423F-B41B-4E667BE1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51170-7C8A-4B80-82B3-A50434B2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F2F04-EA9B-4E10-9CD3-E190E2B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CBFFE-3FAB-4662-8A24-E1B8F98A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3D0A8-77DE-46D9-BAFD-414CD8C1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DCC98-D387-4B16-828E-7665B4BD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D654-F262-404D-81CD-60CAB802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D1A3D-B436-468F-B135-95D3BD1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A85F-3CEF-4FC2-B32E-D134853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0D8D-2117-4B8B-8A26-7C1D2CF0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2A3-2731-48C6-BC45-4606203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12889-6563-4ACD-B9E1-14C7E8BD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BA568-620E-48D4-B4D6-B7B4F1E9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50B20-325B-4727-9385-36D3C84D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A6F6-3D93-4CA5-BF4C-0A664FC3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9FAF3-F950-43DB-A693-23F75C72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D573C-2C89-4834-813A-F74D4F49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A020C-A485-4915-9998-CEC20086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B860-905D-4224-B6B3-9A237FB6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3596D-B25A-4186-A2C0-598F11ED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69B95-4A63-4369-BA61-DA15ACF9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E03-1BD0-4B19-82B6-A6876C9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6121-B711-46BB-8B75-D2E6C2C1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B919-CEE2-468F-8300-7C36F89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28F3-B009-40B0-8048-5D240F4D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9BB7C-92FB-4E5D-AB7C-BE82E81F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2AAA-6DD5-40D8-961D-3114FAA8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F5A63-A98F-4536-B804-96AF1A39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8E308-76D8-463C-B64C-DB2EDEC6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23D92-7115-4550-B011-6C1F6ED9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AF653-2C90-4475-B364-C9063E30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E9DE4-7B2C-4C9F-82D1-D4D946D8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112-A87C-4BA3-A33F-445E7EC2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ADD83-5761-4F14-905E-9B2CEF4F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B318-9DCF-4662-9BB7-ACF1ECBB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FE037-D3CC-4F94-995F-0A815974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216A1-97E8-4078-99CD-A864C928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5BE79-21B7-440E-BCE3-2470FE03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6D0B8-E85E-4BAF-A536-5A074FAF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B6AD6-BD10-44C0-A74D-A3C98263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FBA40-26DF-44A5-B39C-609D5A06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EC43E-7A9E-4DD6-90C6-D584D64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F28CB-8172-4F3D-8D54-9E923686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4606-1B6E-456E-A3DC-9855AEE4380F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7A97-7D76-4728-8B1F-382D8222AC2B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FC0A-6F03-452D-9577-5858521CFB9F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6908-8A2E-4189-8999-3CC48C26950B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8A80-B7D8-4AE6-A6CA-CEFA065E22E8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DAA6-DEE7-4AAD-8C12-33DDCC676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DA89-5B04-48CC-98CB-8316BDD5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1B41-D9CD-4616-B6BD-3EC28C098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4D02-1741-49FF-93C1-DFB1BA339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7199-E951-4ACE-B18C-04D72D71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798C-36EA-431D-8E8A-7F048684E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5AF1-A487-4693-BE2F-91D6F5184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876F-6A12-49C7-86E9-C2B8998C5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15CF-3693-494D-8EBF-81FA94435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339C-5032-4FA4-85D0-BD0B9623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2EB-C41F-4FDE-8989-C292D25F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F7F2-2CD9-496C-B3FD-000EE6355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15BB-7FE9-4CEE-BEF0-488D0D9FF634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19D0-76B5-49F0-814A-1F62A6129378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E5E2-7AF9-4004-AC02-01A617C9A6C6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2362-C4BF-4A52-8182-6926E8EDFD10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8173-1FDA-4BCA-97FB-5525A47213F7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72D7-45D2-43CC-B07E-C6BCF6CA75E2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A90E-DB56-4794-BFA8-CE6C4CEC67FE}" type="slidenum"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284560" y="69660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ратегия коммуникации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5" name="Picture 4" descr="MPj04395290000[1]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986" name="TextBox 4"/>
          <p:cNvSpPr/>
          <p:nvPr/>
        </p:nvSpPr>
        <p:spPr>
          <a:xfrm>
            <a:off x="0" y="114300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e8ff"/>
                </a:solidFill>
                <a:latin typeface="Times New Roman"/>
                <a:ea typeface="Times New Roman"/>
              </a:rPr>
              <a:t>Урок русского языка, 2 класс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азделительные Ъ и Ь»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987" name="Picture 2" descr="pchel20"/>
          <p:cNvPicPr/>
          <p:nvPr/>
        </p:nvPicPr>
        <p:blipFill>
          <a:blip r:embed="rId2"/>
          <a:stretch/>
        </p:blipFill>
        <p:spPr>
          <a:xfrm>
            <a:off x="3571920" y="2928960"/>
            <a:ext cx="21906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pchel20"/>
          <p:cNvPicPr/>
          <p:nvPr/>
        </p:nvPicPr>
        <p:blipFill>
          <a:blip r:embed="rId1"/>
          <a:stretch/>
        </p:blipFill>
        <p:spPr>
          <a:xfrm>
            <a:off x="6953400" y="0"/>
            <a:ext cx="2190600" cy="141912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7"/>
          <p:cNvSpPr/>
          <p:nvPr/>
        </p:nvSpPr>
        <p:spPr>
          <a:xfrm>
            <a:off x="3192480" y="3500280"/>
            <a:ext cx="302256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шЬет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жЬё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снил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79" name="Picture 8" descr="pchel12"/>
          <p:cNvPicPr/>
          <p:nvPr/>
        </p:nvPicPr>
        <p:blipFill>
          <a:blip r:embed="rId2"/>
          <a:stretch/>
        </p:blipFill>
        <p:spPr>
          <a:xfrm>
            <a:off x="324000" y="3429000"/>
            <a:ext cx="2168280" cy="32209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9" descr="pchel12"/>
          <p:cNvPicPr/>
          <p:nvPr/>
        </p:nvPicPr>
        <p:blipFill>
          <a:blip r:embed="rId3"/>
          <a:stretch/>
        </p:blipFill>
        <p:spPr>
          <a:xfrm>
            <a:off x="6824520" y="3500280"/>
            <a:ext cx="1892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2" descr="pchel20"/>
          <p:cNvPicPr/>
          <p:nvPr/>
        </p:nvPicPr>
        <p:blipFill>
          <a:blip r:embed="rId1"/>
          <a:stretch/>
        </p:blipFill>
        <p:spPr>
          <a:xfrm>
            <a:off x="3564000" y="1413000"/>
            <a:ext cx="2190600" cy="14191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4"/>
          <p:cNvSpPr/>
          <p:nvPr/>
        </p:nvSpPr>
        <p:spPr>
          <a:xfrm>
            <a:off x="2835360" y="44244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…ют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83" name="Rectangle 5"/>
          <p:cNvSpPr/>
          <p:nvPr/>
        </p:nvSpPr>
        <p:spPr>
          <a:xfrm>
            <a:off x="2857680" y="5062680"/>
            <a:ext cx="57290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…юбилейный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84" name="Rectangle 6"/>
          <p:cNvSpPr/>
          <p:nvPr/>
        </p:nvSpPr>
        <p:spPr>
          <a:xfrm>
            <a:off x="2786040" y="5848200"/>
            <a:ext cx="36432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нож…е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3000240" y="3490920"/>
            <a:ext cx="3022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…ехал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86" name="Picture 8" descr="pchel12"/>
          <p:cNvPicPr/>
          <p:nvPr/>
        </p:nvPicPr>
        <p:blipFill>
          <a:blip r:embed="rId2"/>
          <a:stretch/>
        </p:blipFill>
        <p:spPr>
          <a:xfrm>
            <a:off x="324000" y="3429000"/>
            <a:ext cx="2168280" cy="32209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8" descr="pchel12"/>
          <p:cNvPicPr/>
          <p:nvPr/>
        </p:nvPicPr>
        <p:blipFill>
          <a:blip r:embed="rId3"/>
          <a:stretch/>
        </p:blipFill>
        <p:spPr>
          <a:xfrm>
            <a:off x="7572240" y="3500280"/>
            <a:ext cx="1059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2" descr="pchel20"/>
          <p:cNvPicPr/>
          <p:nvPr/>
        </p:nvPicPr>
        <p:blipFill>
          <a:blip r:embed="rId1"/>
          <a:stretch/>
        </p:blipFill>
        <p:spPr>
          <a:xfrm>
            <a:off x="6786720" y="214200"/>
            <a:ext cx="2190600" cy="1419480"/>
          </a:xfrm>
          <a:prstGeom prst="rect">
            <a:avLst/>
          </a:prstGeom>
          <a:ln w="0">
            <a:noFill/>
          </a:ln>
        </p:spPr>
      </p:pic>
      <p:sp>
        <p:nvSpPr>
          <p:cNvPr id="1089" name="Rectangle 4"/>
          <p:cNvSpPr/>
          <p:nvPr/>
        </p:nvSpPr>
        <p:spPr>
          <a:xfrm>
            <a:off x="3500280" y="44244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част…е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2214720" y="5062680"/>
            <a:ext cx="57290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з…яна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1" name="Rectangle 6"/>
          <p:cNvSpPr/>
          <p:nvPr/>
        </p:nvSpPr>
        <p:spPr>
          <a:xfrm>
            <a:off x="3643200" y="5848200"/>
            <a:ext cx="36435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…явить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2" name="Rectangle 7"/>
          <p:cNvSpPr/>
          <p:nvPr/>
        </p:nvSpPr>
        <p:spPr>
          <a:xfrm>
            <a:off x="3478320" y="3490920"/>
            <a:ext cx="3022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…едки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93" name="Рисунок 8" descr="ec34f03c017d.png"/>
          <p:cNvPicPr/>
          <p:nvPr/>
        </p:nvPicPr>
        <p:blipFill>
          <a:blip r:embed="rId2"/>
          <a:stretch/>
        </p:blipFill>
        <p:spPr>
          <a:xfrm>
            <a:off x="0" y="3214800"/>
            <a:ext cx="3290760" cy="35049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8" descr="pchel12"/>
          <p:cNvPicPr/>
          <p:nvPr/>
        </p:nvPicPr>
        <p:blipFill>
          <a:blip r:embed="rId3"/>
          <a:stretch/>
        </p:blipFill>
        <p:spPr>
          <a:xfrm>
            <a:off x="7572240" y="3500280"/>
            <a:ext cx="1059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2" descr="pchel20"/>
          <p:cNvPicPr/>
          <p:nvPr/>
        </p:nvPicPr>
        <p:blipFill>
          <a:blip r:embed="rId1"/>
          <a:stretch/>
        </p:blipFill>
        <p:spPr>
          <a:xfrm>
            <a:off x="6786720" y="214200"/>
            <a:ext cx="2190600" cy="141948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4"/>
          <p:cNvSpPr/>
          <p:nvPr/>
        </p:nvSpPr>
        <p:spPr>
          <a:xfrm>
            <a:off x="3478320" y="442908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част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7" name="Rectangle 5"/>
          <p:cNvSpPr/>
          <p:nvPr/>
        </p:nvSpPr>
        <p:spPr>
          <a:xfrm>
            <a:off x="2235240" y="5062680"/>
            <a:ext cx="5729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з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на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3643200" y="5848200"/>
            <a:ext cx="36435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ъ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ить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9" name="Rectangle 7"/>
          <p:cNvSpPr/>
          <p:nvPr/>
        </p:nvSpPr>
        <p:spPr>
          <a:xfrm>
            <a:off x="3478320" y="3490920"/>
            <a:ext cx="3022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ъ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ки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100" name="Рисунок 8" descr="ec34f03c017d.png"/>
          <p:cNvPicPr/>
          <p:nvPr/>
        </p:nvPicPr>
        <p:blipFill>
          <a:blip r:embed="rId2"/>
          <a:stretch/>
        </p:blipFill>
        <p:spPr>
          <a:xfrm>
            <a:off x="0" y="3214800"/>
            <a:ext cx="3290760" cy="35049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8" descr="pchel12"/>
          <p:cNvPicPr/>
          <p:nvPr/>
        </p:nvPicPr>
        <p:blipFill>
          <a:blip r:embed="rId3"/>
          <a:stretch/>
        </p:blipFill>
        <p:spPr>
          <a:xfrm>
            <a:off x="7572240" y="3500280"/>
            <a:ext cx="1059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5" descr="pchel20"/>
          <p:cNvPicPr/>
          <p:nvPr/>
        </p:nvPicPr>
        <p:blipFill>
          <a:blip r:embed="rId1"/>
          <a:stretch/>
        </p:blipFill>
        <p:spPr>
          <a:xfrm>
            <a:off x="6953400" y="0"/>
            <a:ext cx="2190600" cy="14191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6" descr="pchel12"/>
          <p:cNvPicPr/>
          <p:nvPr/>
        </p:nvPicPr>
        <p:blipFill>
          <a:blip r:embed="rId2"/>
          <a:stretch/>
        </p:blipFill>
        <p:spPr>
          <a:xfrm>
            <a:off x="324000" y="3429000"/>
            <a:ext cx="2168280" cy="32209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2" descr="oduvan14"/>
          <p:cNvPicPr/>
          <p:nvPr/>
        </p:nvPicPr>
        <p:blipFill>
          <a:blip r:embed="rId3"/>
          <a:stretch/>
        </p:blipFill>
        <p:spPr>
          <a:xfrm>
            <a:off x="2411280" y="256536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3" descr="pchel12"/>
          <p:cNvPicPr/>
          <p:nvPr/>
        </p:nvPicPr>
        <p:blipFill>
          <a:blip r:embed="rId4"/>
          <a:stretch/>
        </p:blipFill>
        <p:spPr>
          <a:xfrm>
            <a:off x="7020000" y="3789360"/>
            <a:ext cx="1697040" cy="252108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14"/>
          <p:cNvSpPr/>
          <p:nvPr/>
        </p:nvSpPr>
        <p:spPr>
          <a:xfrm>
            <a:off x="623880" y="6067440"/>
            <a:ext cx="25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нируйся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93" name="Rectangle 16"/>
          <p:cNvSpPr/>
          <p:nvPr/>
        </p:nvSpPr>
        <p:spPr>
          <a:xfrm>
            <a:off x="6012000" y="5929200"/>
            <a:ext cx="28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. работа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94" name="Rectangle 18"/>
          <p:cNvSpPr/>
          <p:nvPr/>
        </p:nvSpPr>
        <p:spPr>
          <a:xfrm>
            <a:off x="3492360" y="4919760"/>
            <a:ext cx="223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ное 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ствие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995" name="Picture 11" descr="f37dea5307b7"/>
          <p:cNvPicPr/>
          <p:nvPr/>
        </p:nvPicPr>
        <p:blipFill>
          <a:blip r:embed="rId5"/>
          <a:stretch/>
        </p:blipFill>
        <p:spPr>
          <a:xfrm>
            <a:off x="5435640" y="4437000"/>
            <a:ext cx="1163520" cy="1468440"/>
          </a:xfrm>
          <a:prstGeom prst="rect">
            <a:avLst/>
          </a:prstGeom>
          <a:ln w="0">
            <a:noFill/>
          </a:ln>
        </p:spPr>
      </p:pic>
      <p:sp>
        <p:nvSpPr>
          <p:cNvPr id="996" name="Rectangle 20"/>
          <p:cNvSpPr/>
          <p:nvPr/>
        </p:nvSpPr>
        <p:spPr>
          <a:xfrm>
            <a:off x="3492360" y="3562200"/>
            <a:ext cx="22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тори 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е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2" descr="pchel20"/>
          <p:cNvPicPr/>
          <p:nvPr/>
        </p:nvPicPr>
        <p:blipFill>
          <a:blip r:embed="rId1"/>
          <a:stretch/>
        </p:blipFill>
        <p:spPr>
          <a:xfrm>
            <a:off x="3564000" y="1413000"/>
            <a:ext cx="2190600" cy="1419120"/>
          </a:xfrm>
          <a:prstGeom prst="rect">
            <a:avLst/>
          </a:prstGeom>
          <a:ln w="0">
            <a:noFill/>
          </a:ln>
        </p:spPr>
      </p:pic>
      <p:sp>
        <p:nvSpPr>
          <p:cNvPr id="998" name="Rectangle 6"/>
          <p:cNvSpPr/>
          <p:nvPr/>
        </p:nvSpPr>
        <p:spPr>
          <a:xfrm>
            <a:off x="3041640" y="6165720"/>
            <a:ext cx="25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ерок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99" name="Rectangle 7"/>
          <p:cNvSpPr/>
          <p:nvPr/>
        </p:nvSpPr>
        <p:spPr>
          <a:xfrm>
            <a:off x="2940120" y="4221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рок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00" name="Rectangle 8"/>
          <p:cNvSpPr/>
          <p:nvPr/>
        </p:nvSpPr>
        <p:spPr>
          <a:xfrm>
            <a:off x="2928960" y="4724280"/>
            <a:ext cx="33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язать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01" name="Rectangle 10"/>
          <p:cNvSpPr/>
          <p:nvPr/>
        </p:nvSpPr>
        <p:spPr>
          <a:xfrm>
            <a:off x="3084480" y="5372280"/>
            <a:ext cx="223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етел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02" name="Rectangle 11"/>
          <p:cNvSpPr/>
          <p:nvPr/>
        </p:nvSpPr>
        <p:spPr>
          <a:xfrm>
            <a:off x="3025800" y="3429000"/>
            <a:ext cx="3022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езный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03" name="Picture 12" descr="pchel12"/>
          <p:cNvPicPr/>
          <p:nvPr/>
        </p:nvPicPr>
        <p:blipFill>
          <a:blip r:embed="rId2"/>
          <a:stretch/>
        </p:blipFill>
        <p:spPr>
          <a:xfrm>
            <a:off x="324000" y="3429000"/>
            <a:ext cx="2168280" cy="322092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3" descr="pchel12"/>
          <p:cNvPicPr/>
          <p:nvPr/>
        </p:nvPicPr>
        <p:blipFill>
          <a:blip r:embed="rId3"/>
          <a:stretch/>
        </p:blipFill>
        <p:spPr>
          <a:xfrm>
            <a:off x="6824520" y="3500280"/>
            <a:ext cx="1892520" cy="2810160"/>
          </a:xfrm>
          <a:prstGeom prst="rect">
            <a:avLst/>
          </a:prstGeom>
          <a:ln w="0">
            <a:noFill/>
          </a:ln>
        </p:spPr>
      </p:pic>
      <p:grpSp>
        <p:nvGrpSpPr>
          <p:cNvPr id="1005" name="Group 20"/>
          <p:cNvGrpSpPr/>
          <p:nvPr/>
        </p:nvGrpSpPr>
        <p:grpSpPr>
          <a:xfrm>
            <a:off x="6227640" y="1628640"/>
            <a:ext cx="2448000" cy="1224000"/>
            <a:chOff x="6227640" y="1628640"/>
            <a:chExt cx="2448000" cy="1224000"/>
          </a:xfrm>
        </p:grpSpPr>
        <p:sp>
          <p:nvSpPr>
            <p:cNvPr id="1006" name="Rectangle 15"/>
            <p:cNvSpPr/>
            <p:nvPr/>
          </p:nvSpPr>
          <p:spPr>
            <a:xfrm>
              <a:off x="6227640" y="1628640"/>
              <a:ext cx="2448000" cy="12240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07" name="Text Box 16"/>
            <p:cNvSpPr/>
            <p:nvPr/>
          </p:nvSpPr>
          <p:spPr>
            <a:xfrm>
              <a:off x="6730920" y="1844640"/>
              <a:ext cx="151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Ъ/Ь</a:t>
              </a:r>
              <a:endParaRPr b="0" lang="en-US" sz="4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grpSp>
        <p:nvGrpSpPr>
          <p:cNvPr id="1008" name="Group 19"/>
          <p:cNvGrpSpPr/>
          <p:nvPr/>
        </p:nvGrpSpPr>
        <p:grpSpPr>
          <a:xfrm>
            <a:off x="539640" y="1628640"/>
            <a:ext cx="2448000" cy="1224000"/>
            <a:chOff x="539640" y="1628640"/>
            <a:chExt cx="2448000" cy="1224000"/>
          </a:xfrm>
        </p:grpSpPr>
        <p:sp>
          <p:nvSpPr>
            <p:cNvPr id="1009" name="Rectangle 14"/>
            <p:cNvSpPr/>
            <p:nvPr/>
          </p:nvSpPr>
          <p:spPr>
            <a:xfrm>
              <a:off x="539640" y="1628640"/>
              <a:ext cx="2448000" cy="12240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10" name="Line 17"/>
            <p:cNvSpPr/>
            <p:nvPr/>
          </p:nvSpPr>
          <p:spPr>
            <a:xfrm>
              <a:off x="1116000" y="2075040"/>
              <a:ext cx="11523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11" name="Line 18"/>
            <p:cNvSpPr/>
            <p:nvPr/>
          </p:nvSpPr>
          <p:spPr>
            <a:xfrm flipV="1">
              <a:off x="2254320" y="2045880"/>
              <a:ext cx="0" cy="360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6" descr="pchel12"/>
          <p:cNvPicPr/>
          <p:nvPr/>
        </p:nvPicPr>
        <p:blipFill>
          <a:blip r:embed="rId1"/>
          <a:stretch/>
        </p:blipFill>
        <p:spPr>
          <a:xfrm>
            <a:off x="324000" y="3429000"/>
            <a:ext cx="2168280" cy="32209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2" descr="oduvan14"/>
          <p:cNvPicPr/>
          <p:nvPr/>
        </p:nvPicPr>
        <p:blipFill>
          <a:blip r:embed="rId2"/>
          <a:stretch/>
        </p:blipFill>
        <p:spPr>
          <a:xfrm>
            <a:off x="2411280" y="256536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3" descr="pchel12"/>
          <p:cNvPicPr/>
          <p:nvPr/>
        </p:nvPicPr>
        <p:blipFill>
          <a:blip r:embed="rId3"/>
          <a:stretch/>
        </p:blipFill>
        <p:spPr>
          <a:xfrm>
            <a:off x="7020000" y="3789360"/>
            <a:ext cx="1697040" cy="2521080"/>
          </a:xfrm>
          <a:prstGeom prst="rect">
            <a:avLst/>
          </a:prstGeom>
          <a:ln w="0">
            <a:noFill/>
          </a:ln>
        </p:spPr>
      </p:pic>
      <p:sp>
        <p:nvSpPr>
          <p:cNvPr id="1015" name="Rectangle 14"/>
          <p:cNvSpPr/>
          <p:nvPr/>
        </p:nvSpPr>
        <p:spPr>
          <a:xfrm>
            <a:off x="623880" y="6067440"/>
            <a:ext cx="25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нируйся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16" name="Rectangle 16"/>
          <p:cNvSpPr/>
          <p:nvPr/>
        </p:nvSpPr>
        <p:spPr>
          <a:xfrm>
            <a:off x="6012000" y="5929200"/>
            <a:ext cx="28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. работа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17" name="Rectangle 18"/>
          <p:cNvSpPr/>
          <p:nvPr/>
        </p:nvSpPr>
        <p:spPr>
          <a:xfrm>
            <a:off x="3492360" y="4919760"/>
            <a:ext cx="223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ное 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ствие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18" name="Picture 11" descr="f37dea5307b7"/>
          <p:cNvPicPr/>
          <p:nvPr/>
        </p:nvPicPr>
        <p:blipFill>
          <a:blip r:embed="rId4"/>
          <a:stretch/>
        </p:blipFill>
        <p:spPr>
          <a:xfrm>
            <a:off x="5435640" y="4437000"/>
            <a:ext cx="1163520" cy="1468440"/>
          </a:xfrm>
          <a:prstGeom prst="rect">
            <a:avLst/>
          </a:prstGeom>
          <a:ln w="0">
            <a:noFill/>
          </a:ln>
        </p:spPr>
      </p:pic>
      <p:sp>
        <p:nvSpPr>
          <p:cNvPr id="1019" name="Rectangle 20"/>
          <p:cNvSpPr/>
          <p:nvPr/>
        </p:nvSpPr>
        <p:spPr>
          <a:xfrm>
            <a:off x="3492360" y="3562200"/>
            <a:ext cx="22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тори 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е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20" name="Picture 11" descr="pchel20"/>
          <p:cNvPicPr/>
          <p:nvPr/>
        </p:nvPicPr>
        <p:blipFill>
          <a:blip r:embed="rId5"/>
          <a:stretch/>
        </p:blipFill>
        <p:spPr>
          <a:xfrm>
            <a:off x="3564000" y="404640"/>
            <a:ext cx="2190600" cy="1419480"/>
          </a:xfrm>
          <a:prstGeom prst="rect">
            <a:avLst/>
          </a:prstGeom>
          <a:ln w="0">
            <a:noFill/>
          </a:ln>
        </p:spPr>
      </p:pic>
      <p:grpSp>
        <p:nvGrpSpPr>
          <p:cNvPr id="1021" name="Group 12"/>
          <p:cNvGrpSpPr/>
          <p:nvPr/>
        </p:nvGrpSpPr>
        <p:grpSpPr>
          <a:xfrm>
            <a:off x="6227640" y="620640"/>
            <a:ext cx="2448000" cy="1224000"/>
            <a:chOff x="6227640" y="620640"/>
            <a:chExt cx="2448000" cy="1224000"/>
          </a:xfrm>
        </p:grpSpPr>
        <p:sp>
          <p:nvSpPr>
            <p:cNvPr id="1022" name="Rectangle 13"/>
            <p:cNvSpPr/>
            <p:nvPr/>
          </p:nvSpPr>
          <p:spPr>
            <a:xfrm>
              <a:off x="6227640" y="620640"/>
              <a:ext cx="2448000" cy="12240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23" name="Text Box 14"/>
            <p:cNvSpPr/>
            <p:nvPr/>
          </p:nvSpPr>
          <p:spPr>
            <a:xfrm>
              <a:off x="6730920" y="836640"/>
              <a:ext cx="151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Ъ/Ь</a:t>
              </a:r>
              <a:endParaRPr b="0" lang="en-US" sz="4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grpSp>
        <p:nvGrpSpPr>
          <p:cNvPr id="1024" name="Group 15"/>
          <p:cNvGrpSpPr/>
          <p:nvPr/>
        </p:nvGrpSpPr>
        <p:grpSpPr>
          <a:xfrm>
            <a:off x="539640" y="620640"/>
            <a:ext cx="2448000" cy="1224000"/>
            <a:chOff x="539640" y="620640"/>
            <a:chExt cx="2448000" cy="1224000"/>
          </a:xfrm>
        </p:grpSpPr>
        <p:sp>
          <p:nvSpPr>
            <p:cNvPr id="1025" name="Rectangle 16"/>
            <p:cNvSpPr/>
            <p:nvPr/>
          </p:nvSpPr>
          <p:spPr>
            <a:xfrm>
              <a:off x="539640" y="620640"/>
              <a:ext cx="2448000" cy="12240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26" name="Line 17"/>
            <p:cNvSpPr/>
            <p:nvPr/>
          </p:nvSpPr>
          <p:spPr>
            <a:xfrm>
              <a:off x="1116000" y="1067040"/>
              <a:ext cx="11523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27" name="Line 18"/>
            <p:cNvSpPr/>
            <p:nvPr/>
          </p:nvSpPr>
          <p:spPr>
            <a:xfrm flipV="1">
              <a:off x="2254320" y="1037880"/>
              <a:ext cx="0" cy="360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pchel20"/>
          <p:cNvPicPr/>
          <p:nvPr/>
        </p:nvPicPr>
        <p:blipFill>
          <a:blip r:embed="rId1"/>
          <a:stretch/>
        </p:blipFill>
        <p:spPr>
          <a:xfrm>
            <a:off x="6953400" y="0"/>
            <a:ext cx="2190600" cy="1419120"/>
          </a:xfrm>
          <a:prstGeom prst="rect">
            <a:avLst/>
          </a:prstGeom>
          <a:ln w="0">
            <a:noFill/>
          </a:ln>
        </p:spPr>
      </p:pic>
      <p:sp>
        <p:nvSpPr>
          <p:cNvPr id="1029" name="Rectangle 7"/>
          <p:cNvSpPr/>
          <p:nvPr/>
        </p:nvSpPr>
        <p:spPr>
          <a:xfrm>
            <a:off x="3192480" y="3500280"/>
            <a:ext cx="302256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ш…ет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ж…ё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…яснил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30" name="Picture 8" descr="pchel12"/>
          <p:cNvPicPr/>
          <p:nvPr/>
        </p:nvPicPr>
        <p:blipFill>
          <a:blip r:embed="rId2"/>
          <a:stretch/>
        </p:blipFill>
        <p:spPr>
          <a:xfrm>
            <a:off x="324000" y="3429000"/>
            <a:ext cx="2168280" cy="3220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9" descr="pchel12"/>
          <p:cNvPicPr/>
          <p:nvPr/>
        </p:nvPicPr>
        <p:blipFill>
          <a:blip r:embed="rId3"/>
          <a:stretch/>
        </p:blipFill>
        <p:spPr>
          <a:xfrm>
            <a:off x="6824520" y="3500280"/>
            <a:ext cx="1892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pchel20"/>
          <p:cNvPicPr/>
          <p:nvPr/>
        </p:nvPicPr>
        <p:blipFill>
          <a:blip r:embed="rId1"/>
          <a:stretch/>
        </p:blipFill>
        <p:spPr>
          <a:xfrm>
            <a:off x="6953400" y="0"/>
            <a:ext cx="2190600" cy="1419120"/>
          </a:xfrm>
          <a:prstGeom prst="rect">
            <a:avLst/>
          </a:prstGeom>
          <a:ln w="0">
            <a:noFill/>
          </a:ln>
        </p:spPr>
      </p:pic>
      <p:sp>
        <p:nvSpPr>
          <p:cNvPr id="1033" name="Rectangle 7"/>
          <p:cNvSpPr/>
          <p:nvPr/>
        </p:nvSpPr>
        <p:spPr>
          <a:xfrm>
            <a:off x="3192480" y="3500280"/>
            <a:ext cx="302256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шЬет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жЬё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снил</a:t>
            </a:r>
            <a:endParaRPr b="0" lang="en-US" sz="4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34" name="Picture 8" descr="pchel12"/>
          <p:cNvPicPr/>
          <p:nvPr/>
        </p:nvPicPr>
        <p:blipFill>
          <a:blip r:embed="rId2"/>
          <a:stretch/>
        </p:blipFill>
        <p:spPr>
          <a:xfrm>
            <a:off x="324000" y="3429000"/>
            <a:ext cx="2168280" cy="32209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9" descr="pchel12"/>
          <p:cNvPicPr/>
          <p:nvPr/>
        </p:nvPicPr>
        <p:blipFill>
          <a:blip r:embed="rId3"/>
          <a:stretch/>
        </p:blipFill>
        <p:spPr>
          <a:xfrm>
            <a:off x="6824520" y="3500280"/>
            <a:ext cx="1892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6"/>
          <p:cNvSpPr/>
          <p:nvPr/>
        </p:nvSpPr>
        <p:spPr>
          <a:xfrm>
            <a:off x="2666880" y="3573360"/>
            <a:ext cx="5329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ть слова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500040" y="3408480"/>
            <a:ext cx="1928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: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38" name="Rectangle 6"/>
          <p:cNvSpPr/>
          <p:nvPr/>
        </p:nvSpPr>
        <p:spPr>
          <a:xfrm>
            <a:off x="2685960" y="4143240"/>
            <a:ext cx="53294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Использовать выбранные 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2671920" y="5000760"/>
            <a:ext cx="6329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Найти общее для слов с Ъ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40" name="Rectangle 6"/>
          <p:cNvSpPr/>
          <p:nvPr/>
        </p:nvSpPr>
        <p:spPr>
          <a:xfrm>
            <a:off x="2657520" y="5715000"/>
            <a:ext cx="532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Сделать вывод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41" name="Picture 3" descr="pchel12"/>
          <p:cNvPicPr/>
          <p:nvPr/>
        </p:nvPicPr>
        <p:blipFill>
          <a:blip r:embed="rId1"/>
          <a:stretch/>
        </p:blipFill>
        <p:spPr>
          <a:xfrm>
            <a:off x="142920" y="4071960"/>
            <a:ext cx="168264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042" name="Группа 12"/>
          <p:cNvGrpSpPr/>
          <p:nvPr/>
        </p:nvGrpSpPr>
        <p:grpSpPr>
          <a:xfrm>
            <a:off x="714240" y="1071720"/>
            <a:ext cx="7858440" cy="1714320"/>
            <a:chOff x="714240" y="1071720"/>
            <a:chExt cx="7858440" cy="1714320"/>
          </a:xfrm>
        </p:grpSpPr>
        <p:sp>
          <p:nvSpPr>
            <p:cNvPr id="1043" name="Скругленный прямоугольник 10"/>
            <p:cNvSpPr/>
            <p:nvPr/>
          </p:nvSpPr>
          <p:spPr>
            <a:xfrm>
              <a:off x="714240" y="1071720"/>
              <a:ext cx="7858440" cy="171432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25560">
              <a:solidFill>
                <a:srgbClr val="00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44" name="TextBox 11"/>
            <p:cNvSpPr/>
            <p:nvPr/>
          </p:nvSpPr>
          <p:spPr>
            <a:xfrm>
              <a:off x="1499760" y="1299960"/>
              <a:ext cx="628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нье, объяснил, съел, ружьё, подъюбник, безделье, бьют</a:t>
              </a:r>
              <a:endParaRPr b="0" lang="en-US" sz="36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pic>
        <p:nvPicPr>
          <p:cNvPr id="1045" name="Picture 2" descr="pchel20"/>
          <p:cNvPicPr/>
          <p:nvPr/>
        </p:nvPicPr>
        <p:blipFill>
          <a:blip r:embed="rId2"/>
          <a:stretch/>
        </p:blipFill>
        <p:spPr>
          <a:xfrm>
            <a:off x="6953400" y="0"/>
            <a:ext cx="21906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pchel20"/>
          <p:cNvPicPr/>
          <p:nvPr/>
        </p:nvPicPr>
        <p:blipFill>
          <a:blip r:embed="rId1"/>
          <a:stretch/>
        </p:blipFill>
        <p:spPr>
          <a:xfrm>
            <a:off x="6953400" y="0"/>
            <a:ext cx="2190600" cy="1419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8" descr="pchel12"/>
          <p:cNvPicPr/>
          <p:nvPr/>
        </p:nvPicPr>
        <p:blipFill>
          <a:blip r:embed="rId2"/>
          <a:stretch/>
        </p:blipFill>
        <p:spPr>
          <a:xfrm>
            <a:off x="2286000" y="4000680"/>
            <a:ext cx="1643040" cy="2439720"/>
          </a:xfrm>
          <a:prstGeom prst="rect">
            <a:avLst/>
          </a:prstGeom>
          <a:ln w="0">
            <a:noFill/>
          </a:ln>
        </p:spPr>
      </p:pic>
      <p:grpSp>
        <p:nvGrpSpPr>
          <p:cNvPr id="1048" name="Группа 14"/>
          <p:cNvGrpSpPr/>
          <p:nvPr/>
        </p:nvGrpSpPr>
        <p:grpSpPr>
          <a:xfrm>
            <a:off x="628560" y="3389400"/>
            <a:ext cx="2300400" cy="1039680"/>
            <a:chOff x="628560" y="3389400"/>
            <a:chExt cx="2300400" cy="1039680"/>
          </a:xfrm>
        </p:grpSpPr>
        <p:sp>
          <p:nvSpPr>
            <p:cNvPr id="1049" name="Прямоугольник 8"/>
            <p:cNvSpPr/>
            <p:nvPr/>
          </p:nvSpPr>
          <p:spPr>
            <a:xfrm>
              <a:off x="642600" y="3500280"/>
              <a:ext cx="2286360" cy="92880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50" name="TextBox 13"/>
            <p:cNvSpPr/>
            <p:nvPr/>
          </p:nvSpPr>
          <p:spPr>
            <a:xfrm>
              <a:off x="628560" y="3389400"/>
              <a:ext cx="228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ъ</a:t>
              </a:r>
              <a:endParaRPr b="0" lang="en-US" sz="60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grpSp>
        <p:nvGrpSpPr>
          <p:cNvPr id="1051" name="Группа 15"/>
          <p:cNvGrpSpPr/>
          <p:nvPr/>
        </p:nvGrpSpPr>
        <p:grpSpPr>
          <a:xfrm>
            <a:off x="6272280" y="3384720"/>
            <a:ext cx="2300400" cy="1039680"/>
            <a:chOff x="6272280" y="3384720"/>
            <a:chExt cx="2300400" cy="1039680"/>
          </a:xfrm>
        </p:grpSpPr>
        <p:sp>
          <p:nvSpPr>
            <p:cNvPr id="1052" name="Прямоугольник 16"/>
            <p:cNvSpPr/>
            <p:nvPr/>
          </p:nvSpPr>
          <p:spPr>
            <a:xfrm>
              <a:off x="6286320" y="3495600"/>
              <a:ext cx="2286360" cy="92880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53" name="TextBox 17"/>
            <p:cNvSpPr/>
            <p:nvPr/>
          </p:nvSpPr>
          <p:spPr>
            <a:xfrm>
              <a:off x="6272280" y="3384720"/>
              <a:ext cx="228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ь</a:t>
              </a:r>
              <a:endParaRPr b="0" lang="en-US" sz="60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pic>
        <p:nvPicPr>
          <p:cNvPr id="1054" name="Picture 9" descr="pchel12"/>
          <p:cNvPicPr/>
          <p:nvPr/>
        </p:nvPicPr>
        <p:blipFill>
          <a:blip r:embed="rId3"/>
          <a:stretch/>
        </p:blipFill>
        <p:spPr>
          <a:xfrm>
            <a:off x="5357880" y="3714840"/>
            <a:ext cx="1747800" cy="2595600"/>
          </a:xfrm>
          <a:prstGeom prst="rect">
            <a:avLst/>
          </a:prstGeom>
          <a:ln w="0">
            <a:noFill/>
          </a:ln>
        </p:spPr>
      </p:pic>
      <p:grpSp>
        <p:nvGrpSpPr>
          <p:cNvPr id="1055" name="Группа 22"/>
          <p:cNvGrpSpPr/>
          <p:nvPr/>
        </p:nvGrpSpPr>
        <p:grpSpPr>
          <a:xfrm>
            <a:off x="1754280" y="2901960"/>
            <a:ext cx="900000" cy="574560"/>
            <a:chOff x="1754280" y="2901960"/>
            <a:chExt cx="900000" cy="574560"/>
          </a:xfrm>
        </p:grpSpPr>
        <p:sp>
          <p:nvSpPr>
            <p:cNvPr id="1056" name="Прямая соединительная линия 20"/>
            <p:cNvSpPr/>
            <p:nvPr/>
          </p:nvSpPr>
          <p:spPr>
            <a:xfrm>
              <a:off x="1754280" y="2916000"/>
              <a:ext cx="900000" cy="14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57" name="Прямая соединительная линия 21"/>
            <p:cNvSpPr/>
            <p:nvPr/>
          </p:nvSpPr>
          <p:spPr>
            <a:xfrm flipH="1">
              <a:off x="1755720" y="2901960"/>
              <a:ext cx="1440" cy="5745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grpSp>
        <p:nvGrpSpPr>
          <p:cNvPr id="1058" name="Группа 23"/>
          <p:cNvGrpSpPr/>
          <p:nvPr/>
        </p:nvGrpSpPr>
        <p:grpSpPr>
          <a:xfrm>
            <a:off x="6488280" y="2901960"/>
            <a:ext cx="900000" cy="574560"/>
            <a:chOff x="6488280" y="2901960"/>
            <a:chExt cx="900000" cy="574560"/>
          </a:xfrm>
        </p:grpSpPr>
        <p:sp>
          <p:nvSpPr>
            <p:cNvPr id="1059" name="Прямая соединительная линия 24"/>
            <p:cNvSpPr/>
            <p:nvPr/>
          </p:nvSpPr>
          <p:spPr>
            <a:xfrm flipH="1">
              <a:off x="6488280" y="2916000"/>
              <a:ext cx="900000" cy="14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60" name="Прямая соединительная линия 25"/>
            <p:cNvSpPr/>
            <p:nvPr/>
          </p:nvSpPr>
          <p:spPr>
            <a:xfrm>
              <a:off x="7385400" y="2901960"/>
              <a:ext cx="1440" cy="5745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sp>
        <p:nvSpPr>
          <p:cNvPr id="1061" name="Прямая соединительная линия 28"/>
          <p:cNvSpPr/>
          <p:nvPr/>
        </p:nvSpPr>
        <p:spPr>
          <a:xfrm flipH="1">
            <a:off x="4572000" y="1700280"/>
            <a:ext cx="1440" cy="468360"/>
          </a:xfrm>
          <a:prstGeom prst="line">
            <a:avLst/>
          </a:prstGeom>
          <a:ln w="38160">
            <a:solidFill>
              <a:srgbClr val="00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062" name="Группа 45"/>
          <p:cNvGrpSpPr/>
          <p:nvPr/>
        </p:nvGrpSpPr>
        <p:grpSpPr>
          <a:xfrm>
            <a:off x="2970360" y="785880"/>
            <a:ext cx="3214440" cy="928800"/>
            <a:chOff x="2970360" y="785880"/>
            <a:chExt cx="3214440" cy="928800"/>
          </a:xfrm>
        </p:grpSpPr>
        <p:sp>
          <p:nvSpPr>
            <p:cNvPr id="1063" name="Прямоугольник 5"/>
            <p:cNvSpPr/>
            <p:nvPr/>
          </p:nvSpPr>
          <p:spPr>
            <a:xfrm>
              <a:off x="2970360" y="785880"/>
              <a:ext cx="3214440" cy="92880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64" name="TextBox 6"/>
            <p:cNvSpPr/>
            <p:nvPr/>
          </p:nvSpPr>
          <p:spPr>
            <a:xfrm>
              <a:off x="4285800" y="785880"/>
              <a:ext cx="13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]</a:t>
              </a:r>
              <a:endParaRPr b="0" lang="en-US" sz="4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grpSp>
          <p:nvGrpSpPr>
            <p:cNvPr id="1065" name="Группа 33"/>
            <p:cNvGrpSpPr/>
            <p:nvPr/>
          </p:nvGrpSpPr>
          <p:grpSpPr>
            <a:xfrm>
              <a:off x="3781800" y="1000080"/>
              <a:ext cx="504000" cy="504000"/>
              <a:chOff x="3781800" y="1000080"/>
              <a:chExt cx="504000" cy="504000"/>
            </a:xfrm>
          </p:grpSpPr>
          <p:sp>
            <p:nvSpPr>
              <p:cNvPr id="1066" name="Прямоугольник 34"/>
              <p:cNvSpPr/>
              <p:nvPr/>
            </p:nvSpPr>
            <p:spPr>
              <a:xfrm>
                <a:off x="3781800" y="1000080"/>
                <a:ext cx="504000" cy="504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ahoma"/>
                </a:endParaRPr>
              </a:p>
            </p:txBody>
          </p:sp>
          <p:sp>
            <p:nvSpPr>
              <p:cNvPr id="1067" name="Прямая соединительная линия 35"/>
              <p:cNvSpPr/>
              <p:nvPr/>
            </p:nvSpPr>
            <p:spPr>
              <a:xfrm flipH="1" flipV="1">
                <a:off x="3889080" y="1270440"/>
                <a:ext cx="288360" cy="1440"/>
              </a:xfrm>
              <a:prstGeom prst="line">
                <a:avLst/>
              </a:prstGeom>
              <a:ln w="38160">
                <a:solidFill>
                  <a:srgbClr val="94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ahoma"/>
                </a:endParaRPr>
              </a:p>
            </p:txBody>
          </p:sp>
        </p:grpSp>
      </p:grpSp>
      <p:grpSp>
        <p:nvGrpSpPr>
          <p:cNvPr id="1068" name="Группа 43"/>
          <p:cNvGrpSpPr/>
          <p:nvPr/>
        </p:nvGrpSpPr>
        <p:grpSpPr>
          <a:xfrm>
            <a:off x="2571840" y="2128680"/>
            <a:ext cx="4000320" cy="1571760"/>
            <a:chOff x="2571840" y="2128680"/>
            <a:chExt cx="4000320" cy="1571760"/>
          </a:xfrm>
        </p:grpSpPr>
        <p:sp>
          <p:nvSpPr>
            <p:cNvPr id="1069" name="Блок-схема: решение 7"/>
            <p:cNvSpPr/>
            <p:nvPr/>
          </p:nvSpPr>
          <p:spPr>
            <a:xfrm>
              <a:off x="2571840" y="2128680"/>
              <a:ext cx="4000320" cy="1571760"/>
            </a:xfrm>
            <a:prstGeom prst="flowChartDecision">
              <a:avLst/>
            </a:prstGeom>
            <a:solidFill>
              <a:srgbClr val="ffffff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70" name="TextBox 37"/>
            <p:cNvSpPr/>
            <p:nvPr/>
          </p:nvSpPr>
          <p:spPr>
            <a:xfrm>
              <a:off x="4929120" y="2499480"/>
              <a:ext cx="785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4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grpSp>
          <p:nvGrpSpPr>
            <p:cNvPr id="1071" name="Группа 42"/>
            <p:cNvGrpSpPr/>
            <p:nvPr/>
          </p:nvGrpSpPr>
          <p:grpSpPr>
            <a:xfrm>
              <a:off x="3555720" y="2638800"/>
              <a:ext cx="1405080" cy="646920"/>
              <a:chOff x="3555720" y="2638800"/>
              <a:chExt cx="1405080" cy="646920"/>
            </a:xfrm>
          </p:grpSpPr>
          <p:grpSp>
            <p:nvGrpSpPr>
              <p:cNvPr id="1072" name="Группа 32"/>
              <p:cNvGrpSpPr/>
              <p:nvPr/>
            </p:nvGrpSpPr>
            <p:grpSpPr>
              <a:xfrm>
                <a:off x="4327560" y="2781720"/>
                <a:ext cx="504000" cy="504000"/>
                <a:chOff x="4327560" y="2781720"/>
                <a:chExt cx="504000" cy="504000"/>
              </a:xfrm>
            </p:grpSpPr>
            <p:sp>
              <p:nvSpPr>
                <p:cNvPr id="1073" name="Прямоугольник 29"/>
                <p:cNvSpPr/>
                <p:nvPr/>
              </p:nvSpPr>
              <p:spPr>
                <a:xfrm>
                  <a:off x="4327560" y="2781720"/>
                  <a:ext cx="504000" cy="504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ahoma"/>
                  </a:endParaRPr>
                </a:p>
              </p:txBody>
            </p:sp>
            <p:sp>
              <p:nvSpPr>
                <p:cNvPr id="1074" name="Прямая соединительная линия 31"/>
                <p:cNvSpPr/>
                <p:nvPr/>
              </p:nvSpPr>
              <p:spPr>
                <a:xfrm flipH="1" flipV="1">
                  <a:off x="4434840" y="3051000"/>
                  <a:ext cx="288360" cy="1440"/>
                </a:xfrm>
                <a:prstGeom prst="line">
                  <a:avLst/>
                </a:prstGeom>
                <a:ln w="3816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75" name="Прямая соединительная линия 39"/>
              <p:cNvSpPr/>
              <p:nvPr/>
            </p:nvSpPr>
            <p:spPr>
              <a:xfrm>
                <a:off x="3555720" y="2652840"/>
                <a:ext cx="140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ahoma"/>
                </a:endParaRPr>
              </a:p>
            </p:txBody>
          </p:sp>
          <p:sp>
            <p:nvSpPr>
              <p:cNvPr id="1076" name="Прямая соединительная линия 40"/>
              <p:cNvSpPr/>
              <p:nvPr/>
            </p:nvSpPr>
            <p:spPr>
              <a:xfrm>
                <a:off x="4960800" y="2638800"/>
                <a:ext cx="0" cy="2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6:36:08Z</dcterms:created>
  <dc:creator>Слава</dc:creator>
  <dc:description/>
  <dc:language>en-US</dc:language>
  <cp:lastModifiedBy>Слава</cp:lastModifiedBy>
  <dcterms:modified xsi:type="dcterms:W3CDTF">2013-10-10T16:36:28Z</dcterms:modified>
  <cp:revision>1</cp:revision>
  <dc:subject/>
  <dc:title>Стратегия коммуникации</dc:title>
</cp:coreProperties>
</file>