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7E7-CA2B-4318-A343-FA20BE9F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D3A-B596-4AE3-8985-707FE78E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BE2-A7B1-415F-8BD1-BBB56D6C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304-7C4D-41D0-A7EA-3598F9EC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5055-1770-4A59-8AF9-3E2DE88E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C727-718B-4D82-927A-81AC5F4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C3AC-6D87-460C-97FE-36A82AD2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23B2-896A-4F3B-91A2-BE3A1E27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4FA-47BC-4930-85F4-D0E436E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F25-2D1B-4CFF-BB44-CBCE6F35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9C65-0A0A-4F76-B93C-AADF447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059-D4A2-4393-8862-F0AE1A8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CAB-11E2-4588-85AA-C74CCDA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BB7-10AB-4A8C-B9B6-71227D7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71AB-BEAA-4F88-A4C2-2B44E564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D9C-7D27-4F73-A483-81C53B9C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DBA-317B-412B-A021-456388D8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DF7-FC34-4464-A082-AF4BF28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11F-2CF1-4D45-97C4-BD8AA75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428-804B-4AC0-A674-5E5B947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CF2-4DE1-44C8-96F0-52A05B7E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BA5-2DB7-4DA4-BB51-6867A79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C73-7A48-4B8A-B336-7E0DB41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3B5-4F92-4B68-8E36-C6D1B9C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C097-695B-4982-991D-1BE74BC50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33C-3C96-4543-9E60-54643DEDE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62520" y="1066680"/>
            <a:ext cx="2465280" cy="20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02280" y="317196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Исполнители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733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щиеся  6-х  классов ГОУ СОШ № 20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лов Владислав Олегович         6-А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улов Ильдар Рустамович       6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55920" y="510552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оводитель проекта: учитель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ко Игорь Николае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228600"/>
            <a:ext cx="7467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хмачтовый корабль</a:t>
            </a:r>
            <a:endParaRPr b="1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96969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304920"/>
            <a:ext cx="7848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Цель 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В рамках воспитательной системы «Остров сокровищ» в школе № 2035 проводится конкурсы, мероприятия  с  различной тематической направленностью в.т.ч. и по технологии. Для демонстрации пиратских атрибутов уч-ся на уроках  и кружке изготавливали костюмы, оружие и одним из элементов этого проекта стал пиратский трёхмачтовый корабль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III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IV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веков выполненный из технического картона по эскизам самих уч-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886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4956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омоделирование позволяет лучше познать мир техники, развивает конструкторские способности, техническое мышление и является одним из важных способов познания окружающей действи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0600" y="328680"/>
            <a:ext cx="87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Инструменты, приспособления и материа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05320" y="838080"/>
            <a:ext cx="3081240" cy="222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05320" y="3200400"/>
            <a:ext cx="30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1. 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Эск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43000" y="281952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934320" y="3048120"/>
            <a:ext cx="1747800" cy="170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981080" y="4572000"/>
            <a:ext cx="4700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280" y="228600"/>
            <a:ext cx="86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2. Изготовление основных частей парус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52680" y="4343400"/>
            <a:ext cx="3519720" cy="215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3054240" cy="2092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12408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суем произвольно на картоне эскиз килевой рамки, намечаем монтажные вырезы и вырезаем канцелярским нож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181480" y="8380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29200" y="3200400"/>
            <a:ext cx="34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ем  и    вырезаем шпангоуты с монтажными выре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21080" y="40644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Сборка дета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3574800" cy="268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47920" y="1066680"/>
            <a:ext cx="3276360" cy="245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666880" y="2971800"/>
            <a:ext cx="3443400" cy="256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мечаем и вырезаем палубу. Проделываем отверстия под мачты. Кладем палубу сверху на килевую рамку и шпангоуты (на собранный остов корабля). Прикрепляем палубу с помощью шила и ни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68320" y="304920"/>
            <a:ext cx="77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Изготовление мелких деталей  кораб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36896" t="67081" r="39626" b="15032"/>
          <a:stretch/>
        </p:blipFill>
        <p:spPr>
          <a:xfrm>
            <a:off x="1116000" y="1197000"/>
            <a:ext cx="2711520" cy="203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34654" t="0" r="37988" b="39869"/>
          <a:stretch/>
        </p:blipFill>
        <p:spPr>
          <a:xfrm>
            <a:off x="7020000" y="1341360"/>
            <a:ext cx="135396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15057" t="36546" r="65281" b="45977"/>
          <a:stretch/>
        </p:blipFill>
        <p:spPr>
          <a:xfrm>
            <a:off x="4356000" y="2708280"/>
            <a:ext cx="2036880" cy="135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63858" t="50270" r="20524" b="42789"/>
          <a:stretch/>
        </p:blipFill>
        <p:spPr>
          <a:xfrm>
            <a:off x="755640" y="3716280"/>
            <a:ext cx="220680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rcRect l="36740" t="61291" r="36318" b="32259"/>
          <a:stretch/>
        </p:blipFill>
        <p:spPr>
          <a:xfrm>
            <a:off x="4356000" y="4581360"/>
            <a:ext cx="39448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80720" y="45720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езультаты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анная модель может служить учебным пособием как уменьшенная копия суд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стота технологии изготовления данной модели, доступность материалов, а также минимальные затраты времени на ее изготовление и финансов позволяют сделать вывод об удачном выборе для осуществления про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98440" y="304812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оложительные сторон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576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шевый 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ложная технология изгото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высокая стоимость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зкая трудоёмк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щедоступные материа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27760" y="5207040"/>
            <a:ext cx="64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Отрицательные сторон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913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упкость мод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удобство влажной уборк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352680" y="990720"/>
            <a:ext cx="26766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67080" y="2514600"/>
            <a:ext cx="7668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76720" y="380988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0-09T21:54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