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BE9-73F8-4DA7-8A03-BECE823A38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A70-BB07-40A9-B290-F2B0CFF27881}" type="slidenum">
              <a:rPr b="0" lang="ru-RU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4CD-5A01-47CC-B497-CE9ABC93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5B8-317F-4B3E-AEC7-D654CED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2F2-D19F-4AB3-B31D-7A03E219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C2F-D497-41A6-B83C-E7CBB8A2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80BA-2A91-400D-BB40-5ABA88C3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6017-43CE-4656-ACFA-2B4526A8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BB0C-D57C-4706-BBE1-AEAA1AE5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54DB-045C-474F-BD7E-885996C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033A-E8FA-4E02-9519-964869BC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8F82-A22F-44D1-99D4-99B1EC4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BC82-1ED2-4DF9-AC02-5F221E8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47F-1FBD-4FBA-A62D-2CA9A291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666-BCBB-4D18-8F80-2064729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E59-D646-477A-9380-B58B1E6C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250E-793B-4B2A-8AA4-9D5F250F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998-AA3D-4831-8EE6-ADBFD602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5207-957C-4DC7-B568-F36EA8A6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D5DD-A2A3-4F3A-BA3A-19D69464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F193-1946-41FA-B030-CFA0FD2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2E23-3C08-4007-8B16-C34CB8F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688B-30A7-49BC-A4F8-63757273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EA7E-5164-43FF-A09A-9D31255A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459-C6A4-475D-857E-46DE138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942D-1833-4841-810D-2FD5B0C5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E653-AB22-43F8-839C-70BB5D9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A93F-05C5-41C1-9978-CB3F8AD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6612-23E4-4035-B5E1-BF21A35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9788-C0A7-4F19-BD98-6972404B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9623-16BA-4085-B944-96821DCA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D5C2-686E-4FB9-890C-AF459F07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6661-333F-4F20-971E-59EC9FED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DE9A-DA91-4B48-83C8-CC3EF8CF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4848-AA3B-4C39-A614-0D18888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205-50EC-4092-99DC-6A8FB77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4053-69E2-41B5-87CF-795C5F8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8FEA-5B42-4F9D-930C-F3BE7768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1C09-7D84-4E1E-909D-2A27A50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8C6B5-EE10-4DFE-B99A-B02B2E7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BF80-FF3C-4D30-AE98-A7D579C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E7AE-DC5A-4D29-98A0-1C74797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F744-E03E-40D4-B5F1-FE6957F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25D0-B5A2-465E-97C0-D333F432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C0E5-A808-4B09-94A2-5DE2E540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05A0-6F9C-441B-ABD7-060702A2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1FA-47A2-4020-8FA2-F83DC9B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5182-959F-4054-BE56-5773DBFB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8DB1-223B-49A6-AD01-EDE9D877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80A4-A812-4A32-A3F0-F26BABB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E36CC-0020-4789-882B-2FB6D277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5A77-AB1D-4160-A4B6-1D0F0BB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5DDD-C07A-48BF-AEB9-18D98FF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0B1F1-8129-4EDA-8225-AF05857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9980-D1D7-413A-817D-6A3BEF20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3D1E0-56DB-4623-9260-52C26A74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EC53-C4A8-4B06-B84B-2086E212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D2B-9075-4163-AAF4-F060C7F5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3554-3D53-4BBE-BE31-F594C219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D29F-89C8-4B07-ABD7-2CD6E6E3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1636-1DFC-4815-92EE-F4E341FA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E6A2-2644-42E4-9B9D-D878C52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80FD-5A2F-4733-B99D-8E68895F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8D50-2B5B-4747-BEAD-7B917339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8569F-9027-4842-8EFC-F16FB52E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F9448-BD30-4969-85D4-75BF911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322F-FC90-4D0C-B3AA-31F7372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4376E-EF94-4376-99EC-4C4D0AD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11C-8F39-40A5-AFFA-CC5768F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97B3-D6C0-48BD-A89C-8A3DCF4A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9C4B-970E-430F-B7FE-D0BC53F3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D1CA-9EBA-4EDF-9C4D-E959CC36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6205-731D-49B1-A23A-D3DD906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4891-2BF4-4357-97EC-AE3BC8F4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495F-CD48-4295-B3FD-B661B6E9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08791-6CC4-42F1-8619-C9127007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43331-43B2-40CE-89F7-BC93D80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B6DA-68E9-4F69-B7C8-5495E88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7FBFA-144A-4EFA-8A92-B34DA5B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4EF-9AEA-4D21-948A-1D7FB0D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DD48-C876-41E2-AA15-17F506A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F6CC-4EE3-40BE-B214-2C89485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5022-360C-4810-B664-D2E9F2E5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11C1-E4E4-4E5C-851D-349C319F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D209-A44F-4D2E-9A31-74566820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C80-8894-48AC-8B95-A8A2D15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5f6c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5f6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58AC-E9E0-404D-BD28-182E3710CB37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5f6c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5f6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57F0-5002-4006-97D5-2929FD863552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e5f6c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e5f6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2B6E-21B2-4030-B6C8-EFEB46E9BCFD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5f6c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5f6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04DC-7EB3-4246-98B1-0611C541DC06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5f6c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5f6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BD6F-7BF6-4457-86F7-F59227DD8386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5f6c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5f6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CF4-5DEB-4657-9027-6CFA83707E7C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6bd864"/>
              </a:gs>
              <a:gs pos="100000">
                <a:srgbClr val="d6f4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5f6c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5f6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bbedb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82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6822d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822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401-2EC9-4950-AAA0-5E8117976EE7}" type="slidenum">
              <a:rPr b="0" lang="ru-RU" sz="1000" spc="-1" strike="noStrike">
                <a:solidFill>
                  <a:srgbClr val="6682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894_&#1075;&#1086;&#1076;" TargetMode="External"/><Relationship Id="rId3" Type="http://schemas.openxmlformats.org/officeDocument/2006/relationships/hyperlink" Target="http://ru.wikipedia.org/wiki/1959_&#1075;&#1086;&#1076;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32000" y="2781000"/>
            <a:ext cx="439236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ndara"/>
              </a:rPr>
              <a:t>В гости </a:t>
            </a:r>
            <a:br>
              <a:rPr sz="6600"/>
            </a:br>
            <a:r>
              <a:rPr b="1" lang="ru-RU" sz="6600" spc="-1" strike="noStrike">
                <a:solidFill>
                  <a:srgbClr val="00b050"/>
                </a:solidFill>
                <a:latin typeface="Candara"/>
              </a:rPr>
              <a:t>к природе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6227640" y="5589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зентация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Учителя МКОУ СОШ № 2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рохалевой Н.М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822d"/>
                </a:solidFill>
                <a:latin typeface="Candara"/>
              </a:rPr>
              <a:t>2013 год   президентом России </a:t>
            </a:r>
            <a:endParaRPr b="0" lang="en-US" sz="3200" spc="-1" strike="noStrike">
              <a:solidFill>
                <a:srgbClr val="66822d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822d"/>
                </a:solidFill>
                <a:latin typeface="Candara"/>
              </a:rPr>
              <a:t>В. В. Путиным   назван   годом  </a:t>
            </a:r>
            <a:endParaRPr b="0" lang="en-US" sz="3200" spc="-1" strike="noStrike">
              <a:solidFill>
                <a:srgbClr val="66822d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822d"/>
                </a:solidFill>
                <a:latin typeface="Candara"/>
              </a:rPr>
              <a:t>Охраны окружающей среды.</a:t>
            </a:r>
            <a:endParaRPr b="0" lang="en-US" sz="3600" spc="-1" strike="noStrike">
              <a:solidFill>
                <a:srgbClr val="66822d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2505240" y="333360"/>
            <a:ext cx="65577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36a09"/>
                </a:solidFill>
                <a:latin typeface="Candara"/>
                <a:ea typeface="Times New Roman"/>
              </a:rPr>
              <a:t>Виталий Валентинович Бианки </a:t>
            </a:r>
            <a:r>
              <a:rPr b="1" i="1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русский </a:t>
            </a:r>
            <a:r>
              <a:rPr b="1" i="1" lang="ru-RU" sz="2800" spc="-1" strike="noStrike" u="sng">
                <a:solidFill>
                  <a:srgbClr val="936a09"/>
                </a:solidFill>
                <a:uFillTx/>
                <a:latin typeface="Candara"/>
                <a:ea typeface="Times New Roman"/>
              </a:rPr>
              <a:t>писатель -</a:t>
            </a:r>
            <a:r>
              <a:rPr b="1" i="1" lang="ru-RU" sz="2800" spc="-1" strike="noStrike">
                <a:solidFill>
                  <a:srgbClr val="936a09"/>
                </a:solidFill>
                <a:latin typeface="Candara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936a09"/>
                </a:solidFill>
                <a:uFillTx/>
                <a:latin typeface="Candara"/>
                <a:ea typeface="Times New Roman"/>
              </a:rPr>
              <a:t>натуралист,</a:t>
            </a:r>
            <a:r>
              <a:rPr b="1" i="1" lang="ru-RU" sz="2800" spc="-1" strike="noStrike">
                <a:solidFill>
                  <a:srgbClr val="936a09"/>
                </a:solidFill>
                <a:latin typeface="Candara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автор многих произведений для детей.</a:t>
            </a:r>
            <a:r>
              <a:rPr b="1" i="1" lang="ru-RU" sz="2800" spc="-1" strike="noStrike">
                <a:solidFill>
                  <a:srgbClr val="162631"/>
                </a:solidFill>
                <a:latin typeface="Candara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09520" y="404640"/>
            <a:ext cx="2192400" cy="31878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3"/>
          <p:cNvSpPr/>
          <p:nvPr/>
        </p:nvSpPr>
        <p:spPr>
          <a:xfrm>
            <a:off x="325440" y="3770280"/>
            <a:ext cx="1959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 </a:t>
            </a:r>
            <a:r>
              <a:rPr b="0" lang="ru-RU" sz="2800" spc="-1" strike="noStrike" u="sng">
                <a:solidFill>
                  <a:srgbClr val="408080"/>
                </a:solidFill>
                <a:uFillTx/>
                <a:latin typeface="Candara"/>
                <a:ea typeface="Arial"/>
                <a:hlinkClick r:id="rId2"/>
              </a:rPr>
              <a:t>1894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- </a:t>
            </a:r>
            <a:r>
              <a:rPr b="0" lang="ru-RU" sz="2800" spc="-1" strike="noStrike" u="sng">
                <a:solidFill>
                  <a:srgbClr val="408080"/>
                </a:solidFill>
                <a:uFillTx/>
                <a:latin typeface="Candara"/>
                <a:ea typeface="Arial"/>
                <a:hlinkClick r:id="rId3"/>
              </a:rPr>
              <a:t>1959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-198360" y="6181560"/>
            <a:ext cx="699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9224"/>
                </a:solidFill>
                <a:latin typeface="Candara"/>
              </a:rPr>
              <a:t>Книге  «Лесная газета»    85 лет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Picture 6" descr=""/>
          <p:cNvPicPr/>
          <p:nvPr/>
        </p:nvPicPr>
        <p:blipFill>
          <a:blip r:embed="rId4"/>
          <a:stretch/>
        </p:blipFill>
        <p:spPr>
          <a:xfrm rot="20988600">
            <a:off x="3679560" y="1869840"/>
            <a:ext cx="1863720" cy="287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"/>
          <p:cNvPicPr/>
          <p:nvPr/>
        </p:nvPicPr>
        <p:blipFill>
          <a:blip r:embed="rId5"/>
          <a:stretch/>
        </p:blipFill>
        <p:spPr>
          <a:xfrm>
            <a:off x="5398920" y="184464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"/>
          <p:cNvPicPr/>
          <p:nvPr/>
        </p:nvPicPr>
        <p:blipFill>
          <a:blip r:embed="rId6"/>
          <a:stretch/>
        </p:blipFill>
        <p:spPr>
          <a:xfrm rot="1094400">
            <a:off x="6861240" y="1952280"/>
            <a:ext cx="1908000" cy="2948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7"/>
          <a:stretch/>
        </p:blipFill>
        <p:spPr>
          <a:xfrm rot="21208800">
            <a:off x="2385720" y="2831760"/>
            <a:ext cx="1676160" cy="1876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"/>
          <p:cNvPicPr/>
          <p:nvPr/>
        </p:nvPicPr>
        <p:blipFill>
          <a:blip r:embed="rId8"/>
          <a:stretch/>
        </p:blipFill>
        <p:spPr>
          <a:xfrm>
            <a:off x="3224160" y="1728720"/>
            <a:ext cx="4464000" cy="460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151080"/>
            <a:ext cx="9003960" cy="294480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4" descr=""/>
          <p:cNvPicPr/>
          <p:nvPr/>
        </p:nvPicPr>
        <p:blipFill>
          <a:blip r:embed="rId2"/>
          <a:stretch/>
        </p:blipFill>
        <p:spPr>
          <a:xfrm>
            <a:off x="2103480" y="1676520"/>
            <a:ext cx="51688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258840" y="1413000"/>
            <a:ext cx="863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ndara"/>
                <a:ea typeface="Arial"/>
              </a:rPr>
              <a:t>Учредитель</a:t>
            </a:r>
            <a:r>
              <a:rPr b="0" i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 -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 российском корпоративном праве 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лицо, создавшее организацию. 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324000" y="2782800"/>
            <a:ext cx="83516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9224"/>
                </a:solidFill>
                <a:latin typeface="Candara"/>
              </a:rPr>
              <a:t>Журналист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i="1" lang="ru-RU" sz="2800" spc="-1" strike="noStrike">
                <a:solidFill>
                  <a:srgbClr val="222222"/>
                </a:solidFill>
                <a:latin typeface="Candara"/>
              </a:rPr>
              <a:t>человек, занимающийся сбором информации о значимых фактах, событиях. 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9224"/>
                </a:solidFill>
                <a:latin typeface="Candara"/>
              </a:rPr>
              <a:t>Редактор</a:t>
            </a:r>
            <a:r>
              <a:rPr b="0" i="1" lang="ru-RU" sz="3200" spc="-1" strike="noStrike">
                <a:solidFill>
                  <a:srgbClr val="222222"/>
                </a:solidFill>
                <a:latin typeface="Candar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проверяет и исправляет текст, готовя его к публикации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9224"/>
                </a:solidFill>
                <a:latin typeface="Candara"/>
              </a:rPr>
              <a:t>Художник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осуществляет   оформление   газеты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292400"/>
            <a:ext cx="8461440" cy="154296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2" descr=""/>
          <p:cNvPicPr/>
          <p:nvPr/>
        </p:nvPicPr>
        <p:blipFill>
          <a:blip r:embed="rId2"/>
          <a:stretch/>
        </p:blipFill>
        <p:spPr>
          <a:xfrm>
            <a:off x="828720" y="2382840"/>
            <a:ext cx="78152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641520" y="135576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АЖНАЯ   ИНФОРМАЦИЯ  О ПРЕДСТАВИТЕЛ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1227240" y="198900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ФОТО ИЛИ РИСУНОК  ПРЕДСТАВИТЕЛ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676240" y="342900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ЗАГАДКИ, РЕБУСЫ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1924560" y="2708280"/>
            <a:ext cx="36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2204280" y="789120"/>
            <a:ext cx="49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НАЗВАНИЕ СТРАНИЦЫ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3233160" y="59230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СПОЛНИТЕЛ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6" name="Прямоугольник 1" descr=""/>
          <p:cNvPicPr/>
          <p:nvPr/>
        </p:nvPicPr>
        <p:blipFill>
          <a:blip r:embed="rId1"/>
          <a:stretch/>
        </p:blipFill>
        <p:spPr>
          <a:xfrm>
            <a:off x="3193920" y="3816360"/>
            <a:ext cx="21956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3"/>
          <p:cNvSpPr/>
          <p:nvPr/>
        </p:nvSpPr>
        <p:spPr>
          <a:xfrm>
            <a:off x="3564000" y="2228760"/>
            <a:ext cx="4994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9224"/>
                </a:solidFill>
                <a:latin typeface="Candara"/>
                <a:ea typeface="Arial"/>
              </a:rPr>
              <a:t>Природа человеку не враг! Человек находил и находит в ней всё, что ему нужно для жизни. Не покорять её нужно, а понять, изучить, узнать, и она тогда сама откроет тебе свои кладовые и свои музеи.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a9224"/>
                </a:solidFill>
                <a:latin typeface="Candara"/>
                <a:ea typeface="Arial"/>
              </a:rPr>
              <a:t>В. Бианк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95280" y="441360"/>
            <a:ext cx="26640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1"/>
          <p:cNvSpPr/>
          <p:nvPr/>
        </p:nvSpPr>
        <p:spPr>
          <a:xfrm>
            <a:off x="468360" y="1052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нтернет-ресурсы о лесных представителях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u.wikipedia.org/wiki/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Бианки,_Виталий_Валентинович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‎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u.wikipedia.org/wiki/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Лес‎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dic.academic.ru/dic.nsf/ushakov/753394‎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www.ecosystema.ru/07referats/slovgeo/417.htm‎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20:35:04Z</dcterms:created>
  <dc:creator>User</dc:creator>
  <dc:description/>
  <dc:language>en-US</dc:language>
  <cp:lastModifiedBy>User</cp:lastModifiedBy>
  <dcterms:modified xsi:type="dcterms:W3CDTF">2013-09-16T17:20:59Z</dcterms:modified>
  <cp:revision>32</cp:revision>
  <dc:subject/>
  <dc:title>В гости к природе</dc:title>
</cp:coreProperties>
</file>