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8330-F91B-44FF-96CA-798696C7D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B8CC-AB7E-44AC-93DB-DE9AC91C9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8BA3-785E-44A8-9CBE-FB3DDB6C8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7B8A-FF09-4124-90AD-42FF48FCC1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F892-AED9-4607-AC8A-566ACA0EE2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2DA6-E7CF-4C3D-9B6E-1C9A06110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13B7-B09C-40A8-AA98-C7A6D8757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97BD-736A-4AB7-8391-5517C851C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0DEE7-2AAC-411D-BB60-EFD5383B4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9892-7DC6-4C0C-9849-B5537E867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7115-4C05-432A-88CA-12ECAFEF4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8347-516D-40D8-8CFB-05C4CBEE1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80B9A4-2019-4E3A-9D1E-014425A8D027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onurilhan.files.wordpress.com/2011/08/deve-1.jpg" TargetMode="External"/><Relationship Id="rId3" Type="http://schemas.openxmlformats.org/officeDocument/2006/relationships/hyperlink" Target="http://serezhenka.my1.ru/publ/poehzija/svoi_zagadki_dlja_malyshej/zagadka_pro_verbljuda/26-1-0-911" TargetMode="External"/><Relationship Id="rId4" Type="http://schemas.openxmlformats.org/officeDocument/2006/relationships/hyperlink" Target="http://setimodia.files.wordpress.com/2011/05/camelo.jpg" TargetMode="External"/><Relationship Id="rId5" Type="http://schemas.openxmlformats.org/officeDocument/2006/relationships/hyperlink" Target="http://andrew-dev.ucoz.ru/_nw/0/12655862.jpg" TargetMode="External"/><Relationship Id="rId6" Type="http://schemas.openxmlformats.org/officeDocument/2006/relationships/hyperlink" Target="http://andrew-dev.ucoz.ru/_nw/0/25448076.jpg" TargetMode="External"/><Relationship Id="rId7" Type="http://schemas.openxmlformats.org/officeDocument/2006/relationships/hyperlink" Target="http://andrew-dev.ucoz.ru/_nw/0/s85772720.jpg" TargetMode="External"/><Relationship Id="rId8" Type="http://schemas.openxmlformats.org/officeDocument/2006/relationships/hyperlink" Target="http://andrew-dev.ucoz.ru/_nw/0/82958120.jpg" TargetMode="External"/><Relationship Id="rId9" Type="http://schemas.openxmlformats.org/officeDocument/2006/relationships/hyperlink" Target="http://andrew-dev.ucoz.ru/_nw/0/17784395.jpg" TargetMode="External"/><Relationship Id="rId10" Type="http://schemas.openxmlformats.org/officeDocument/2006/relationships/hyperlink" Target="http://andrew-dev.ucoz.ru/_nw/0/84533365.jpg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1052640"/>
            <a:ext cx="77011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Monotype Corsiva"/>
                <a:ea typeface="Arial"/>
              </a:rPr>
              <a:t>Верблю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2708280"/>
            <a:ext cx="475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Поэтапное ри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124080" y="3200400"/>
            <a:ext cx="307368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Используемые 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219320"/>
            <a:ext cx="7543800" cy="72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Monotype Corsiva"/>
                <a:hlinkClick r:id="rId2"/>
              </a:rPr>
              <a:t>http://onurilhan.files.wordpress.com/2011/08/deve-1.jpg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верблю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Monotype Corsiva"/>
                <a:hlinkClick r:id="rId3"/>
              </a:rPr>
              <a:t>http://serezhenka.my1.ru/publ/poehzija/svoi_zagadki_dlja_malyshej/zagadka_pro_verbljuda/26-1-0-91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зага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Monotype Corsiva"/>
                <a:hlinkClick r:id="rId4"/>
              </a:rPr>
              <a:t>http://setimodia.files.wordpress.com/2011/05/camelo.jpg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верблю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Monotype Corsiva"/>
                <a:hlinkClick r:id="rId5"/>
              </a:rPr>
              <a:t>http://andrew-dev.ucoz.ru/_nw/0/12655862.jpg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верблюд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Monotype Corsiva"/>
                <a:hlinkClick r:id="rId6"/>
              </a:rPr>
              <a:t>http://andrew-dev.ucoz.ru/_nw/0/25448076.jpg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этап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Monotype Corsiva"/>
                <a:hlinkClick r:id="rId7"/>
              </a:rPr>
              <a:t>http://andrew-dev.ucoz.ru/_nw/0/s85772720.jpg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этап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Monotype Corsiva"/>
                <a:hlinkClick r:id="rId8"/>
              </a:rPr>
              <a:t>http://andrew-dev.ucoz.ru/_nw/0/82958120.jpg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этап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Monotype Corsiva"/>
                <a:hlinkClick r:id="rId9"/>
              </a:rPr>
              <a:t>http://andrew-dev.ucoz.ru/_nw/0/17784395.jpg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этап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Monotype Corsiva"/>
                <a:hlinkClick r:id="rId10"/>
              </a:rPr>
              <a:t>http://andrew-dev.ucoz.ru/_nw/0/84533365.jpg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этап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457200"/>
            <a:ext cx="6172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одногорбый и двугорб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 у обоих горд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ылые времена и ны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менимый он в пусты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ёт он долго без во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щё дольше - без 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еде, вообще, неприхотли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у не нужно сладких сли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ючка – лучшее из блю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вут животно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16320" y="2971800"/>
            <a:ext cx="44704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724280" y="762120"/>
            <a:ext cx="4024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 не знаете, как нарисовать верблюда? Не отчаивайтесь! Возьмите в руки карандаш. Помните, рисовать нужно плавно, легкими штрихами, едва касаясь бумаги, так как часть линий у нас будет вспомогательными, и в конце работы нам придется их стереть. Итак, приступим к обучению поэтапного рис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4343400" cy="50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33336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Этап 1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исуем туловище, голову, шею и мордо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5951520" cy="52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457200"/>
            <a:ext cx="83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Этап 2:</a:t>
            </a:r>
            <a:r>
              <a:rPr b="1" lang="ru-RU" sz="2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ем передние н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438280" y="762120"/>
            <a:ext cx="4202280" cy="56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38088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Этап 3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исуем задние ноги и хвост. Намечаем глаза, нос и уш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0" y="1295280"/>
            <a:ext cx="4444920" cy="51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876920" y="2438280"/>
            <a:ext cx="3795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Этап 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дин из наиболее важных. Здесь мы поэтапно прорисовываем каждую деталь. Плавными дугами дорисовываем линию рта. Рисуем копыта и шер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747720"/>
            <a:ext cx="4953240" cy="565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343400" y="2971800"/>
            <a:ext cx="4172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Этап 5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ираем все вспомогательные и уже не нужные нам линии. Теперь можно обвести верблюда поярче и даже красиво разукрас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5079960" cy="588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03280" y="404640"/>
            <a:ext cx="65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 верблюд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905120" y="838080"/>
            <a:ext cx="4935240" cy="571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мпас</dc:creator>
  <dc:description/>
  <dc:language>en-US</dc:language>
  <cp:lastModifiedBy>Компас</cp:lastModifiedBy>
  <dcterms:modified xsi:type="dcterms:W3CDTF">2012-03-10T10:56:4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