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A4A-F01F-45B1-B23B-FC462C43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586-3218-498C-8975-C7255F3A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68E-6520-409A-850E-9B5260DD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B74-0067-4924-85BD-88E132BE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E3FC-3115-48F4-AE92-E1A4AA99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5C38-F2CD-469D-940D-E480D9F3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B85C-F7ED-40B7-A940-1ED6D029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DCBF-350F-4D18-82AB-CB66AB95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35AE-2EBE-422D-B8B9-5CF9ED88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C14E-EB26-437C-8F2C-63DEE8FB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D4F4-B8BA-42F1-9851-AC917543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BC4-F945-43AF-A8FC-F33E271D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EF49-67B9-4A06-A5E2-7E714DDF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15C2-1215-4687-ACFE-058A4D74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5935-26A0-435B-AAEE-18A59783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14F9-7A87-4501-9355-8AA81833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B9F-1B2F-4BE6-B29F-1A69B83A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89F97-9B20-4891-A28A-92A6F28F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61829-211C-4DD1-806A-3BBD79BB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9493B-F855-4443-96EE-8F85120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D7703-5CBF-46F0-BA80-5F7D85EA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38F19-5036-47A6-B00F-C961DACE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BA8-22E7-4E9D-9FB4-79FE864E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4BBC4-3F0F-4FD5-8CB3-57D44F03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DD850-C43C-4CE2-970F-A59AEA3A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C7112-9218-46C3-BF52-411D02E2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C3C73-5CA8-493B-8F95-2FFA7E16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5AEC7-FF17-4307-BEDA-2F5A8AE6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BFFE6-C802-4879-84D6-903F7EAD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80012-88F9-467B-A725-3D9267E0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8D4E6-C9BD-4117-BC13-AD97AC2B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6ED6B-EBDA-4F3B-91A2-CD5AC1E2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0CA8-4A25-482A-A11E-5DAC7395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76E-878D-437C-A47F-99BFC7A1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FC3C-871F-4D9A-A246-F7F819EB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43DE-499B-4138-BED9-81178AEA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D92F-0D9E-461E-810D-26456996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A8DD-E6E6-4EF5-BE3B-9A2622A5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78A57-3D8F-465A-8F17-101CA15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4E317-EEB4-454E-A92E-3C4B43E4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B7F83-F048-489F-B0A3-169480D4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FE59-6EF2-4C80-A19A-4A935B39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9F45F-B3B1-420D-8F6B-90E8980E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C9E1D-5B64-4C88-A559-0B960194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143-64A6-40C6-B51B-A979CEAC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C1E79-7009-4747-AB6F-4468973C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618D8-814D-444B-ACA3-E3881AAF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099A8-A1EB-4A25-804A-E200BB81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8C015-5038-4A10-82DB-4A46177E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E795C7-A8AF-4155-971A-D321C71E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CE6DF-7FA7-4BBD-A9D3-856B883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881F3-7E3F-4FF7-A43A-7AC99AB3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4CC44-2A9B-4966-BF3C-157AA6D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E4549-5F33-4A1C-B91F-0A8E27A0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AD5A5-E5DE-411A-9048-92E5073B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BEB-5DD4-425C-9158-07597EE3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D16DB-AD3B-4E60-A470-E0966D0D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168F2-5FD8-4612-ADCF-2B6EFB62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9DB8D-C7FA-4218-B477-23D169AC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D4578-F3A8-4930-B052-0E8DE9D4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2A49C-578C-4DE6-89E6-5F921400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21F25-2503-4EF8-AB21-04EB56DA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83AC1-7BA7-4D25-B908-156CFB4E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0C2F8-1C67-4AAF-87C8-8214864C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6ADB3-40AB-4A28-9E25-870C2C8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961BC-8A25-4A4D-B171-A226B72C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1A0-E3A1-4786-8DC6-B17A414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788D3-AF22-4789-A3F4-24E0380A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31E69-B9DD-4D3F-B09E-18AA8E48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34BC1-E71D-46F6-8B74-142ECCCB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02BD4-9A75-41D8-8192-ED439892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7B93E-3A29-4A07-8232-50407F39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8E929-1ADD-43EC-822B-B2A65989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C56BA-E30D-4990-B80B-83A9C015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F9A51-B4E0-49BE-BC58-3090B8B4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05F6F-D20D-48D7-867A-403D0BC7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67175-894D-4123-9B46-40B710DE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5AD-BB61-47C6-8FFE-CA72AE72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AE62C-AD75-493E-8D8B-F68D1542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CE852-7DCC-418C-B5C1-5146683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95099-B98D-4CC2-9C27-6714D9DE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94FD0-C59F-43CB-A5AA-360BCD4C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46C8F-15B2-4EB1-922C-A3EC9F59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B9D-63EA-4587-B368-FC16A3CC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6A20-2BCE-4EFE-9D46-5DF5FC27FC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73DB-FFD9-40E5-A884-ADA520104C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E1BE-CEAC-4E5F-9BD6-034B9421FE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AFE1-4701-483D-8D10-19C7BEC42E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F5E9-409F-439F-9B50-91676EECEA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F6A-AFDA-410A-AF46-7141C42380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6C10-7647-4F4F-A36F-FA0DED4574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75f6d"/>
                </a:solidFill>
                <a:latin typeface="Century Schoolbook"/>
              </a:rPr>
              <a:t>ЗАЧЕМ ЧЕЛОВЕКУ НУЖНЫ ИЗМЕРЕНИЯ?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971640" y="148680"/>
            <a:ext cx="691344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вес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уд = 16,3811229 килограмма 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т = 0,409528 килограмм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1 золотник = 4,2659174 грамм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1 доля = 44,436640 миллиграмма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илограмм = 0,9373912 версты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1 килограмм = 2,44183504 фунт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1 грамм = 0,23441616 золотник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1 миллиграмм = 0,02250395 дол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уд = 40 фунтов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уд = 1280 лотов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ерков = 10 пудов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ласт = 2025 и 4/9 килограм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AutoShape 2"/>
          <p:cNvSpPr/>
          <p:nvPr/>
        </p:nvSpPr>
        <p:spPr>
          <a:xfrm>
            <a:off x="63360" y="-2448000"/>
            <a:ext cx="24004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Рисунок 4" descr="Ez5-gSx89c8.jpg"/>
          <p:cNvPicPr/>
          <p:nvPr/>
        </p:nvPicPr>
        <p:blipFill>
          <a:blip r:embed="rId1"/>
          <a:stretch/>
        </p:blipFill>
        <p:spPr>
          <a:xfrm>
            <a:off x="5651640" y="765000"/>
            <a:ext cx="2655720" cy="31467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6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333" dur="2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334" dur="2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4067280" y="260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Денежные мер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рубль = 2 полтинам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полтина = 50 копейкам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пятиалтынный = 15 копейкам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алтын = 3 копейкам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гривенник = 10 копейка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 деньги =1копейке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грош = 0.5 копейки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полушка = 0.25 копей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Рисунок 3" descr="52396_html_m1ffc3571.jpg"/>
          <p:cNvPicPr/>
          <p:nvPr/>
        </p:nvPicPr>
        <p:blipFill>
          <a:blip r:embed="rId1"/>
          <a:stretch/>
        </p:blipFill>
        <p:spPr>
          <a:xfrm>
            <a:off x="539640" y="4149720"/>
            <a:ext cx="3618000" cy="177156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0_7e770_e13e2073_XL.jpg"/>
          <p:cNvPicPr/>
          <p:nvPr/>
        </p:nvPicPr>
        <p:blipFill>
          <a:blip r:embed="rId2"/>
          <a:stretch/>
        </p:blipFill>
        <p:spPr>
          <a:xfrm>
            <a:off x="395280" y="1052640"/>
            <a:ext cx="3382920" cy="1636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1"/>
          <p:cNvSpPr/>
          <p:nvPr/>
        </p:nvSpPr>
        <p:spPr>
          <a:xfrm>
            <a:off x="3338280" y="5661000"/>
            <a:ext cx="473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Работу выполнила: Ученица7 «Б» класс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пова Анастас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Учитель: Стребкова Н.С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TextBox 2"/>
          <p:cNvSpPr/>
          <p:nvPr/>
        </p:nvSpPr>
        <p:spPr>
          <a:xfrm>
            <a:off x="1042920" y="62064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8637"/>
                </a:solidFill>
                <a:latin typeface="Century Schoolbook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Рисунок 3" descr="89013789_7.jpg"/>
          <p:cNvPicPr/>
          <p:nvPr/>
        </p:nvPicPr>
        <p:blipFill>
          <a:blip r:embed="rId1"/>
          <a:stretch/>
        </p:blipFill>
        <p:spPr>
          <a:xfrm>
            <a:off x="2124000" y="1700280"/>
            <a:ext cx="4319640" cy="32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4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44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79280" y="189000"/>
            <a:ext cx="518472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Измерения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- одно из важнейших дел в современной жизни. Но не всегда было так.  Когда первобытный человек убивал медведя в неравном поединке он, конечно, радовался, если тот оказывался достаточно большим. Это обещало сытую жизнь ему и всему племени на долгое время. Но он не тащил тушу медведя на весы: в то время никаких весов не было. Не было особой нужды в измерениях когда человек делал каменный топор: технических условий на такие топоры не существовало и все определялось размером подходящего камня, который удавалась найти. Все делалось на глаз, так, как подсказывало чутье мастер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3" descr="geometry.jpg"/>
          <p:cNvPicPr/>
          <p:nvPr/>
        </p:nvPicPr>
        <p:blipFill>
          <a:blip r:embed="rId1"/>
          <a:stretch/>
        </p:blipFill>
        <p:spPr>
          <a:xfrm>
            <a:off x="5364000" y="1413000"/>
            <a:ext cx="3281400" cy="26226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3419640" y="62064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зднее люди стали жить большими группами. Начался обмен товарами, перешедшими потом в торговлю, возникли первые государства. Тогда появилась нужда в измерениях. Царские песцы должны были знать, какова площадь поля у каждого крестьянина. Этим определялось, сколько зерна он должен отдать царю. Надо было измерить урожай с каждого поля, а при продаже льняного мяса, вина и других жидкостей – объем проданного товара. Когда начали строить корабли, нужно было заранее наметить правильные размеры: иначе корабль затонул бы. И уж, конечно, не могли обойтись без измерений древние строители пирамид, дворцов и храмов, до сих пор поражают нас своей соразмерностью и красото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Рисунок 2" descr="111111111.gif"/>
          <p:cNvPicPr/>
          <p:nvPr/>
        </p:nvPicPr>
        <p:blipFill>
          <a:blip r:embed="rId1"/>
          <a:stretch/>
        </p:blipFill>
        <p:spPr>
          <a:xfrm>
            <a:off x="395280" y="1989000"/>
            <a:ext cx="2955960" cy="239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61" dur="2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2" dur="2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395280" y="115920"/>
            <a:ext cx="3870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Меры длины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Древнейшими из них являются локоть и сажень. Точной первоначальной длинны той и другой меры мы не знаем; некий англичанин, путешествовавший по России в 1554 году, свидетельствует, что русский локоть равнялся половине английского ярда. Согласно «Торговой книге», составленной для русских купцов на рубеже XVI и XVII веков, три локтя были равны двум аршинам. Название «аршин» происходит от персидского слова «арш», что значит локоть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ервое упоминание сажени встречается в летописи ХI века, составленной киевским монахом Нестором.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Рисунок 2" descr="8.jpg"/>
          <p:cNvPicPr/>
          <p:nvPr/>
        </p:nvPicPr>
        <p:blipFill>
          <a:blip r:embed="rId1"/>
          <a:stretch/>
        </p:blipFill>
        <p:spPr>
          <a:xfrm>
            <a:off x="4716360" y="836640"/>
            <a:ext cx="3810240" cy="306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6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3 0.075 -0.08261 0.125 -0.08261 C 0.175 -0.08261 0.22 -0.05063 0.25 0 C 0.22 0.05063 0.175 0.08261 0.125 0.08261 C 0.075 0.08261 0.03 0.05063 0 0 Z">
                                      <p:cBhvr>
                                        <p:cTn id="9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4140360" y="3333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эпоху раздробленности Руси не было единой системы мер. В ХV и XVI веках происходит объединение русских земель вокруг Москвы. С возникновением и ростом общегосударственной торговли и с установлением для казны сборов со всего населения объединенной страны встает вопрос о единой системе мер для всего государства. Мера аршин, возникшая при торговли с восточными народами, входит в употребление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Рисунок 2" descr="9733_html_m3daf6865.jpg"/>
          <p:cNvPicPr/>
          <p:nvPr/>
        </p:nvPicPr>
        <p:blipFill>
          <a:blip r:embed="rId1"/>
          <a:stretch/>
        </p:blipFill>
        <p:spPr>
          <a:xfrm>
            <a:off x="900000" y="3933720"/>
            <a:ext cx="4480200" cy="237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6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100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179280" y="11592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XVIII веке меры уточнялись. Петр 1 указом установил равенство трехаршинной сажени семи английским футам. Прежняя русская система мер длины, дополненная новыми мерами, получила окончательный вид: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79280" y="1484280"/>
            <a:ext cx="46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Миля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= 7 верстам (= 7,47 километра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Верста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= 500 саженям (= 1,07 километра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Сажень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3 аршинам = 7 футам (= 2,13 метра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Арши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16 вершкам = 28 дюймам (= 71,12 сантиметр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Фут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12 дюймам (= 30,48 сантиметра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Дюйм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10 линиям (2,54 сантиметра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Линия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10 точкам (2,54 миллиметра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250920" y="530064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Когда говорили о росте человека, то указывали лишь, на сколько вершков он превышает 2 аршина. Поэтому слова «человек 12 вершков роста» означали, что его рост равен 2 аршинам 12 вершкам, то есть 196 с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Рисунок 4" descr="0_81e20_c39f430d_XL.jpeg"/>
          <p:cNvPicPr/>
          <p:nvPr/>
        </p:nvPicPr>
        <p:blipFill>
          <a:blip r:embed="rId1"/>
          <a:stretch/>
        </p:blipFill>
        <p:spPr>
          <a:xfrm>
            <a:off x="4932360" y="1484280"/>
            <a:ext cx="366084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9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9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179280" y="260280"/>
            <a:ext cx="87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Меры площадей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«Русской правде» - законодательном памятнике, который относиться к ХI - XIII векам, употребляется земельная мера плуг. Это была мера земли, с которой платили дань. Есть некоторые основания считать плуг равным 8-9 гектарам. Как и во многих странах, за меру площади часто принимали количество ржи необходимой для засева этой площади. В ХIII- ХV веках основной единицей площади была кадь-площадь, для засева каждой нужно была примерно 24 пуда (то есть 400 кг. ) ржи . Половина этой площади, получившая название 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десятины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стала основной мерой площади в дореволюционной России. Она ровнялась примерно 1,1 гектара. Десятина иногда называлась 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коробьей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Другая единица для измерений площадей, равная половине десятины называлась (четверть) четь. В дальнейшем размер десятины был приведен в соответствие не с мерами объема и массы, а с мерами длины. В «Книге сонного письма» в качестве руководства для учета налогов с земли устанавливается десятина ровная 80*30=2400 квадратным саженям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Налоговой единицы земли была с о х а (это количество пахотной земли, которое был в состоянии обработать один пахарь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"/>
          <p:cNvSpPr/>
          <p:nvPr/>
        </p:nvSpPr>
        <p:spPr>
          <a:xfrm>
            <a:off x="395280" y="306720"/>
            <a:ext cx="4681440" cy="64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СРАВНЕНИЯ МЕР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еры длин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верста = 1,06679 километр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сажень = 2,1335808 метр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аршин = 0,7111936 метр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вершок = 0,0444496 метр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фут = 0,304797264 метр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дюйм = 0,025399772 метра    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километр = 0,9373912 версты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метр = 0,4686956 сажени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метр = 1,40609 аршин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метр = 22,4974 вершк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метр = 3,2808693 фут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 1 метр = 39,3704320 дюйм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4500720" y="1557360"/>
            <a:ext cx="367164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 сажень = 7 футов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 сажень = 3 аршина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 сажень = 48 вершков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 миля = 7 верст 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 верста = 1,06679 километр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3" descr="dnepropetrovsk-vypolnyayu_kontrolnye_raboty_po_matematike_i_informatike_3578.gif"/>
          <p:cNvPicPr/>
          <p:nvPr/>
        </p:nvPicPr>
        <p:blipFill>
          <a:blip r:embed="rId1"/>
          <a:stretch/>
        </p:blipFill>
        <p:spPr>
          <a:xfrm>
            <a:off x="4356000" y="4076640"/>
            <a:ext cx="3606840" cy="229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6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4140360" y="47628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^ Меры объема и площад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 четверик = 26,2384491 литр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1 четверть = 209,90759 литр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1 ведро = 12,299273 литр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1 десятина = 1,09252014 гектара 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 1 литр = 0,03811201 четверик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1 литр = 0,00952800 четверти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1 литр = 0,08130562 ведра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   1 гектар = 0,91531493 десятины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 бочка = 40 ведер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 бочка = 400 штофов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 бочка = 4000 чаро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 четверть = 8 четвериков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 четверть = 64 гарнц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Рисунок 2" descr="9456928_4f62dd0da7d32.jpg"/>
          <p:cNvPicPr/>
          <p:nvPr/>
        </p:nvPicPr>
        <p:blipFill>
          <a:blip r:embed="rId1"/>
          <a:stretch/>
        </p:blipFill>
        <p:spPr>
          <a:xfrm>
            <a:off x="324000" y="220500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294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8:35:26Z</dcterms:created>
  <dc:creator>админ</dc:creator>
  <dc:description/>
  <dc:language>en-US</dc:language>
  <cp:lastModifiedBy>админ</cp:lastModifiedBy>
  <dcterms:modified xsi:type="dcterms:W3CDTF">2013-04-14T10:04:05Z</dcterms:modified>
  <cp:revision>9</cp:revision>
  <dc:subject/>
  <dc:title>Зачем человеку нужны измерения?</dc:title>
</cp:coreProperties>
</file>