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4948-B03B-4A18-BF66-ED3D5BAD03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ваще крут 6 файлов напеча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9036-81D2-4E3A-B107-60AA404384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5D6-D184-4B05-AC30-97F5428C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B04-76CC-46B5-AAAB-04348A2F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A69-D0B0-4EC6-8FB7-F1FA585C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266-5836-4DCC-B315-8F81C907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D12-54EA-4CB6-ADCB-BA04F5F9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CE5-4540-470F-ADD0-714AFAA4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7AA-9771-4F22-A7CF-EEBF6495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7F2-91E2-4EF8-99D0-7B3EA565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2D4-9A21-45A3-B3C9-C80565A7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6C3-CA64-4EF9-894E-9BA7C570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361-BDE4-42F2-8C06-8D092B1C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EC3-CD0A-434B-9D18-2632672D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28CF-8827-42C7-9A58-0CCD0F3E7C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360"/>
            <a:ext cx="38577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ою бабушку зовут Александра Александровна Жар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олилиния 4" descr=""/>
          <p:cNvPicPr/>
          <p:nvPr/>
        </p:nvPicPr>
        <p:blipFill>
          <a:blip r:embed="rId2"/>
          <a:stretch/>
        </p:blipFill>
        <p:spPr>
          <a:xfrm>
            <a:off x="3713040" y="30240"/>
            <a:ext cx="3505320" cy="1116000"/>
          </a:xfrm>
          <a:prstGeom prst="rect">
            <a:avLst/>
          </a:prstGeom>
          <a:ln w="0">
            <a:noFill/>
          </a:ln>
        </p:spPr>
      </p:pic>
      <p:sp>
        <p:nvSpPr>
          <p:cNvPr id="50" name="Ink 5"/>
          <p:cNvSpPr/>
          <p:nvPr/>
        </p:nvSpPr>
        <p:spPr>
          <a:xfrm>
            <a:off x="37517400" y="2295540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9264" y="11787"/>
                </a:moveTo>
                <a:lnTo>
                  <a:pt x="19264" y="1178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Ink 10"/>
          <p:cNvSpPr/>
          <p:nvPr/>
        </p:nvSpPr>
        <p:spPr>
          <a:xfrm>
            <a:off x="22353480" y="277318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1478" y="14240"/>
                </a:moveTo>
                <a:lnTo>
                  <a:pt x="11478" y="14240"/>
                </a:lnTo>
                <a:lnTo>
                  <a:pt x="11478" y="1424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бабуш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я бабушка работала крановщицей 7 лет она принимала участие в строительстве атомной электростанции в Финлянди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идроэлектростанции в Пакистане и потом до пенсии работала бухгалтеро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После того как моя бабушка ушла на пенсию она стала работать у моей мам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ладит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ыть посуд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помогать мне делать урок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забирать меня с занятий в кружка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а любит работать на даче выращивает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гурц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помидор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кабачк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ухаживает за кустами смородин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обирает ягоды и варит из них варень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которое я очень любл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а очень вкусно готовит я люблю её пирожк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пельмен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блины и пицц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 моей бабуш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бабушка очень общительна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 неё очень много друзей и подруг по всему городу Лобня к друзьям она всегда может прийти на помощ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 друзья помогают е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принимает активное участие в воспитании меня и моего бра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огда я её огорчаю но она меня проща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тство бабуш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бабушка родилась во время войны в1942 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Ярославской области детские годы были очень трудные и тяжёлые в семье она была 5 ребёнком отец её погиб на вой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 увидев свою доч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а закончила среднюю школ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торая находилась в 5 к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её деревни приходилось ходить каждый день в любую по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Юношеские годы бабуш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окончания школы она поступила в Буйский сельскохозяйственный техникум на бухгалтерское отделение которое окончила через 2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!!!!!!!!!!!!!!!!!!!!!!!!!!!!!!!!!!!!!!!!!!!!!!!!!!!!!!СПАСИБО ЗА ВНИМАНИЕ !!!!!!!!!!!!!!!!!!!!!!!!!!!!!!!!!!!!!!!!!!!!!!!!!!!!!!!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428800" y="6000480"/>
            <a:ext cx="37148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Работа была выполнена Жарковым Георгие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5:50:55Z</dcterms:created>
  <dc:creator>Андрей</dc:creator>
  <dc:description/>
  <dc:language>en-US</dc:language>
  <cp:lastModifiedBy>Наталья</cp:lastModifiedBy>
  <dcterms:modified xsi:type="dcterms:W3CDTF">2013-10-03T07:14:05Z</dcterms:modified>
  <cp:revision>20</cp:revision>
  <dc:subject/>
  <dc:title>Слайд 1</dc:title>
</cp:coreProperties>
</file>