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1B1-AD22-4163-9CBB-7C936E27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953-EABC-492A-A3BE-405542A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95B-C741-4FB3-80EB-22582DB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402-75BC-43B8-9A2B-646ED83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5F9B-4B37-42CE-A48F-0E0D4D75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348-19A5-4FB4-90E5-DB0573C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6A1B-0C5F-4758-ACAD-BDD989F2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F098-7E5F-482C-AEB3-6CC1F42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C76E-E0D6-4A47-8250-695F1139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C847-ECA2-4BCF-8DD5-4F577020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D712-EFB5-4DD9-9F66-123AEE3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11D-15A0-4BC8-ABAB-75E420BE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4D14-53BD-40A1-B6D7-4C513B0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34CF-E6BB-4CC0-BEBD-65770FC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6AA-ECC2-4077-83CD-EEC39FC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1FAB-B870-48F3-A5D6-B1CDC8D1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A86-08E7-4A04-BDEB-FCE4F5D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93C9-50C8-4451-997B-71B1DDDB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6EA8-2446-4B89-A0FD-169EC18A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C431-4FF7-4EDA-87ED-8AAD4DEA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AD62-D2F4-4DFD-9929-7C093169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1AF3-71FE-488A-9F1B-0C86BBA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26F-3CF1-47FA-8161-EDC2061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A8AB-7A98-463D-80F0-DA52F847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A39A-C6D5-49CB-933D-079EB4B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2642-8527-4598-83D7-6642C01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FD46-1E22-4B7A-9DF9-021803B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B690-3E04-48E4-955F-AC0A45D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A32A-7BF1-46EC-8A3F-BD89131A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8B1C-203C-4065-85EA-20DA53E1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6533-DA77-4643-8693-69B715F0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23E5-B8E7-407D-92EF-7F0F0EB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55E3-2A2C-4E9C-961E-348C5343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0CB-8492-4F1F-9B3C-B7DC97E7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1C99-EC05-4872-A02C-90B56E2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3A2B-79CA-4C87-B679-A21971F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C3D1-9D08-4B67-9E6C-95F0810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481A-18AE-417C-ACB3-BD48141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7866-862B-4BC4-8368-9ED23B5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2F8E-3A78-4A2D-9356-A7FCBCD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685F-565B-4A63-8FE2-ED6F95C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4247-8C96-4B97-93E0-8E47B79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2BA5-2A7F-48C9-9F90-B67D5988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075-7F22-408C-AE57-474D95B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2EF-2C60-495C-A674-3AC9A226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356-6D31-4E59-83E3-17FFED3D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ECD-90E5-430F-BBC1-CF67DB6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496-5036-4F56-8D79-C03EEFF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3175-015B-499C-9060-63CD9BEA052E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Яковле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9DFB-7508-4CCF-9D5C-F248DC2250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CF6-2542-4BFB-9E35-B11A262F85E7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Яковле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F50-9E03-464F-A15B-4F03642C29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DDF-8FD1-43BA-8B86-51DF6A2E575B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Яковле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DD2F-2AA1-4597-AD2D-1EA2A79331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C22D-8BD5-4412-BA86-5B55AF0C6B72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Яковле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7D1-6BF5-4082-BEFE-57C0680AF1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3AC5-99B6-4771-AE7D-1C64840C41E9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Яковле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4D49-ABFA-4F86-9139-22381F09AC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бакт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1116000" y="19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 бактерий в природе и жизни человек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Йогу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8" descr="Йогурт"/>
          <p:cNvPicPr/>
          <p:nvPr/>
        </p:nvPicPr>
        <p:blipFill>
          <a:blip r:embed="rId1"/>
          <a:stretch/>
        </p:blipFill>
        <p:spPr>
          <a:xfrm>
            <a:off x="468360" y="2349360"/>
            <a:ext cx="4243320" cy="2998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Йо́гур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кисломолочный продукт, который производится из цельного молока путем его сквашивания специальными культурами — Lactobacillus bulgaricus (болгарская палочка) и Streptococcus thermophilus (термофильный стрептококк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941-D4F2-4CDA-BF85-D14F16E003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яж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́же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кисломолочный напиток, получаемый из коровьего топлёного молока совместным молочнокислым и спиртовым брожением. Заквашивание производится термофильными молочнокислыми стрептококками и чистыми культурами болгарской палочки, сквашивается в течение 3—6 часов. Имеет желтовато-буроватый оттенок и традиционный кисломолочный вкус. Фактически является одной из разновидностей йогурта без вкусовых доба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8" descr="Ряженка"/>
          <p:cNvPicPr/>
          <p:nvPr/>
        </p:nvPicPr>
        <p:blipFill>
          <a:blip r:embed="rId1"/>
          <a:stretch/>
        </p:blipFill>
        <p:spPr>
          <a:xfrm>
            <a:off x="4859280" y="1052640"/>
            <a:ext cx="3402000" cy="4763880"/>
          </a:xfrm>
          <a:prstGeom prst="rect">
            <a:avLst/>
          </a:prstGeom>
          <a:ln w="0">
            <a:noFill/>
          </a:ln>
        </p:spPr>
      </p:pic>
      <p:sp>
        <p:nvSpPr>
          <p:cNvPr id="22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941A-DAC7-4A11-B8CD-B14D8CD0AC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е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Варенец"/>
          <p:cNvPicPr/>
          <p:nvPr/>
        </p:nvPicPr>
        <p:blipFill>
          <a:blip r:embed="rId1"/>
          <a:stretch/>
        </p:blipFill>
        <p:spPr>
          <a:xfrm>
            <a:off x="900000" y="1557360"/>
            <a:ext cx="3144960" cy="4403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рен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Топленое молоко, приготавливаемое медленным вытапливанием (выпариванием) молока в глиняных крынках в русской печи так, чтобы оно убавилось минимум на треть своего объема и приобрело красноватый оттенок. Для этого молоко ставят в печь после хлебов на несколько часов, в течение которых оно «усыхает», но не кипит. Затем топленое молоко заправляется (заквашивается) сметаной (из расчета 200 г на литр) и выдерживается в закрытом виде 3—4 часа в теплом помещени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08D-3CF6-4A67-B12A-91B85D8B03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йм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йма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 густые, толстые, как блины, уваренные пенки, приготавливаемые из жирного топленого молока. Молоко для каймака кипятят на слабом огне в плоской посуде и по мере уплотнения пенок снимают их и наслаивают одну на другую, давая затем возможность в течение суток-двух слегка закиснуть. Каймак обладает также и особой микрофлорой, создающейся в нем в результате кислого брожения, что превращает его не только в приятный, вкусный, питательный, но и в полезный продукт, особенно для тех, кто трудно переносит обычные жир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каймак"/>
          <p:cNvPicPr/>
          <p:nvPr/>
        </p:nvPicPr>
        <p:blipFill>
          <a:blip r:embed="rId1"/>
          <a:stretch/>
        </p:blipFill>
        <p:spPr>
          <a:xfrm>
            <a:off x="4643280" y="2565360"/>
            <a:ext cx="400392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695-83F2-416C-88C8-2C2370E3FA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мы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мы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исломолочный напиток беловатого цвета из кобыльего молока, полученный в результате молочнокислого и спиртового брожения при помощи болгарской и ацидофильной молочнокислых палочек и дрож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8" descr="Кумыс"/>
          <p:cNvPicPr/>
          <p:nvPr/>
        </p:nvPicPr>
        <p:blipFill>
          <a:blip r:embed="rId1"/>
          <a:stretch/>
        </p:blipFill>
        <p:spPr>
          <a:xfrm>
            <a:off x="5003640" y="1413000"/>
            <a:ext cx="2913120" cy="4368600"/>
          </a:xfrm>
          <a:prstGeom prst="rect">
            <a:avLst/>
          </a:prstGeom>
          <a:ln w="0">
            <a:noFill/>
          </a:ln>
        </p:spPr>
      </p:pic>
      <p:sp>
        <p:nvSpPr>
          <p:cNvPr id="241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DF0C-1680-4B15-8AF7-693F55394F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нокислые бактер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71760" cy="2867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вуют в заквашивании капусты и солении огурцов и помид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D63-4793-42F3-840E-9EA853DADB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Красные круглые томаты"/>
          <p:cNvPicPr/>
          <p:nvPr/>
        </p:nvPicPr>
        <p:blipFill>
          <a:blip r:embed="rId2"/>
          <a:stretch/>
        </p:blipFill>
        <p:spPr>
          <a:xfrm>
            <a:off x="1476360" y="3357720"/>
            <a:ext cx="345132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стокв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Простокваша"/>
          <p:cNvPicPr/>
          <p:nvPr/>
        </p:nvPicPr>
        <p:blipFill>
          <a:blip r:embed="rId1"/>
          <a:stretch/>
        </p:blipFill>
        <p:spPr>
          <a:xfrm>
            <a:off x="1052640" y="198108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ается при молочнокислом брожении мол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590D-EB70-459B-B498-33155383F7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ы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ыр «Рокфор» получается в результате жизнедеятельности молочнокислых бактерий и особых гриб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6" descr="Сыр рокфор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60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144-D5F7-42B2-9E0E-8C5CB9C9BC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Болезнетворные бак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D11-0544-4EDC-90DB-25DC718025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езнетворные бак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09880" cy="2871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Стафилококк"/>
          <p:cNvPicPr/>
          <p:nvPr/>
        </p:nvPicPr>
        <p:blipFill>
          <a:blip r:embed="rId2"/>
          <a:stretch/>
        </p:blipFill>
        <p:spPr>
          <a:xfrm>
            <a:off x="6095880" y="3479760"/>
            <a:ext cx="1143000" cy="766800"/>
          </a:xfrm>
          <a:prstGeom prst="rect">
            <a:avLst/>
          </a:prstGeom>
          <a:ln w="0">
            <a:noFill/>
          </a:ln>
        </p:spPr>
      </p:pic>
      <p:sp>
        <p:nvSpPr>
          <p:cNvPr id="27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DB41-B030-4FD4-9982-DB9B7A8B53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771640" y="546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филококк золотис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бактер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актерии разложения и гни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чвенные бактер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олочнокислые бактер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лезнетворные бакте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D99-65E9-4253-B033-CB772580E0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птококк и стрептококковая инфек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6" descr="Стрептококковая инфекция"/>
          <p:cNvPicPr/>
          <p:nvPr/>
        </p:nvPicPr>
        <p:blipFill>
          <a:blip r:embed="rId1"/>
          <a:stretch/>
        </p:blipFill>
        <p:spPr>
          <a:xfrm>
            <a:off x="250920" y="2349360"/>
            <a:ext cx="4187880" cy="3127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Стрептококк"/>
          <p:cNvPicPr/>
          <p:nvPr/>
        </p:nvPicPr>
        <p:blipFill>
          <a:blip r:embed="rId2"/>
          <a:stretch/>
        </p:blipFill>
        <p:spPr>
          <a:xfrm>
            <a:off x="4500720" y="2349360"/>
            <a:ext cx="4349520" cy="3143520"/>
          </a:xfrm>
          <a:prstGeom prst="rect">
            <a:avLst/>
          </a:prstGeom>
          <a:ln w="0">
            <a:noFill/>
          </a:ln>
        </p:spPr>
      </p:pic>
      <p:sp>
        <p:nvSpPr>
          <p:cNvPr id="27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FD7-FF78-4A12-8AE0-3F7B5F7430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02280" cy="4524120"/>
          </a:xfrm>
          <a:prstGeom prst="rect">
            <a:avLst/>
          </a:prstGeom>
          <a:ln w="0">
            <a:noFill/>
          </a:ln>
        </p:spPr>
      </p:pic>
      <p:sp>
        <p:nvSpPr>
          <p:cNvPr id="282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E7A-4224-454D-B026-C26488429C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лерный вибр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рьба с болезнетворными бактери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ы предупреждения болезн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крывать рот при кашл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ипятить носовые плат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уществлять врачебный контроль над источниками воды и продуктами пит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зинфицировать поме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ать предупредительные приви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ижний колонтитул 4"/>
          <p:cNvSpPr/>
          <p:nvPr/>
        </p:nvSpPr>
        <p:spPr>
          <a:xfrm>
            <a:off x="3132000" y="6237360"/>
            <a:ext cx="28227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CB8-3776-45A5-856A-DB5FEA32E7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Бактерии разложения и гни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чве содержится огромное число бактерий – сотни миллионов в 1г. В бедных тундровых почвах или песчаных почвах пустыни их насчитывается, в слабоподзолистых – до миллиарда, а в богатом органическим веществом чернозёме – до 2 миллиардов и выше. Это составляет около 35 сухой массы поч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ктерии принимают участие в  выветривании горных пород и минералов. Так, железобактерии сформировали крупные отложения железных 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7DC-7371-43C2-98A7-B111CE9C5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Азотфиксирующие (почвенные) бакте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е поставляет бактериям необходимые им для роста и развития углеводы и минеральные соли, а взамен получает азот, который клубеньковые бактерии способны фиксировать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18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5"/>
          <p:cNvSpPr/>
          <p:nvPr/>
        </p:nvSpPr>
        <p:spPr>
          <a:xfrm>
            <a:off x="305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3C8-6D26-4B8E-AFFE-6007324770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Молочнокислые бак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исломолочных проду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561C-33B7-47AE-BAC6-295D20F6FF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сломолочные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айра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ацидофили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еф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йогур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яж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аренец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йма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ростокваш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у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884-EBBD-4BA7-988C-5CF81E7243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й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новидность кисломолочного напитка на основе катыка или разновидность кефира у тюркских и кавказских народов (в разных языках точный смысл названия и технология приготовления немного отличаются, но общим является то, что это молочный продукт, получаемый при помощи молочно-кислых бактер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6" descr="Айран"/>
          <p:cNvPicPr/>
          <p:nvPr/>
        </p:nvPicPr>
        <p:blipFill>
          <a:blip r:embed="rId1"/>
          <a:stretch/>
        </p:blipFill>
        <p:spPr>
          <a:xfrm>
            <a:off x="4716360" y="2421000"/>
            <a:ext cx="3625920" cy="3038400"/>
          </a:xfrm>
          <a:prstGeom prst="rect">
            <a:avLst/>
          </a:prstGeom>
          <a:ln w="0">
            <a:noFill/>
          </a:ln>
        </p:spPr>
      </p:pic>
      <p:sp>
        <p:nvSpPr>
          <p:cNvPr id="199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31F-1E9C-4316-8A4F-0F648778D3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цидофи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8" descr="Ацидофилин"/>
          <p:cNvPicPr/>
          <p:nvPr/>
        </p:nvPicPr>
        <p:blipFill>
          <a:blip r:embed="rId1"/>
          <a:stretch/>
        </p:blipFill>
        <p:spPr>
          <a:xfrm>
            <a:off x="1166760" y="1981080"/>
            <a:ext cx="2847960" cy="4114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етический продукт - молоко, заквашенное особыми (ацидофильными) бактериям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атывается из молока, сквашенного заквасками чистых культур, одна из которых – ацидофильная палочка. В 1910 году русский ученый Гартье Э.Э. доказал, что ацидофильную палочку можно с успехом применять с лечебными профилактическими целями в борьбе с желудочно-кишечными заболеваниями, и что эта бактерия очищает кишечник от гнилостных и некоторых болезнетворных микроб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6A6-B7CC-460A-96BD-5323E1A5F6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еф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ефи́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кисломолочный напиток, получаемый из цельного или обезжиреного коровьего молока путем кисломолочного и спиртового брожения с применением кефирных «грибков» — симбиоза нескольких видов микроорганизмов: молочнокислых стрептококков и палочек, уксуснокислых бактерий и дрожж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8" descr="Кефир"/>
          <p:cNvPicPr/>
          <p:nvPr/>
        </p:nvPicPr>
        <p:blipFill>
          <a:blip r:embed="rId1"/>
          <a:stretch/>
        </p:blipFill>
        <p:spPr>
          <a:xfrm>
            <a:off x="4643280" y="1052640"/>
            <a:ext cx="3613320" cy="4817880"/>
          </a:xfrm>
          <a:prstGeom prst="rect">
            <a:avLst/>
          </a:prstGeom>
          <a:ln w="0">
            <a:noFill/>
          </a:ln>
        </p:spPr>
      </p:pic>
      <p:sp>
        <p:nvSpPr>
          <p:cNvPr id="211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F53D-A17E-44FA-8253-B5497E4FAC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0:00Z</dcterms:created>
  <dc:creator>user</dc:creator>
  <dc:description/>
  <dc:language>en-US</dc:language>
  <cp:lastModifiedBy>Дмитрий</cp:lastModifiedBy>
  <dcterms:modified xsi:type="dcterms:W3CDTF">2013-10-10T08:58:35Z</dcterms:modified>
  <cp:revision>11</cp:revision>
  <dc:subject/>
  <dc:title>Значение бактерий  в природе и жизни человека</dc:title>
</cp:coreProperties>
</file>