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622-4A46-4AB1-97BE-94925075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B4E-DC45-4724-A2F4-314B4760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B2A-418A-4B3C-AD3F-327EE23F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E32-CD97-450C-A3F2-BBCDB568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7B23-9BFA-4D2C-897C-4CCC52A0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903A-289E-4B95-B660-4AC18964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F00D-E1CE-4E1B-B86C-BE5A21C6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326-E04A-4925-8846-690749D5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3C72-B174-4310-8687-08D31665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B3AD-7370-4CCF-9430-84B083C7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2B87-1B52-4233-AC92-AFDCA2DE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372-3B97-4199-B899-A6FF5604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CA79-8185-41B2-993E-A9A7533B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9BFC-B836-4465-B42A-34271877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29DD-E204-462E-9D54-9A5EB8A6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FE8F-ECD3-4A5D-8C0C-D73245DE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7721-CCA5-4BB8-9672-0E941EFE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04D-D0B8-48C9-B9FA-AA743AFF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176-D89F-48D6-A754-5B03B181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EB4-5D37-4074-88F9-B9480BF0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6DD-FCCE-4A86-8954-7D68089A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2DA-B068-4C9A-9292-C2BF543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FAB-13DF-4696-BDE4-E916211C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35A-B453-4AA0-B948-06BFEADD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73AF-ABAF-4F39-9120-567DCD69E1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b7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E802-3763-463B-BDFF-291A36292A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149720"/>
            <a:ext cx="80643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ЗООЛОГИЯ – НАУКА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О ЖИВОТНЫХ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292360" y="1052280"/>
            <a:ext cx="3559320" cy="23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40036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5589720"/>
            <a:ext cx="800748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остраняют плоды и сем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Значен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5" descr="белки"/>
          <p:cNvPicPr/>
          <p:nvPr/>
        </p:nvPicPr>
        <p:blipFill>
          <a:blip r:embed="rId1"/>
          <a:stretch/>
        </p:blipFill>
        <p:spPr>
          <a:xfrm>
            <a:off x="3143160" y="152388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Значен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5229000"/>
            <a:ext cx="800748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редители растен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гусеница"/>
          <p:cNvPicPr/>
          <p:nvPr/>
        </p:nvPicPr>
        <p:blipFill>
          <a:blip r:embed="rId1"/>
          <a:stretch/>
        </p:blipFill>
        <p:spPr>
          <a:xfrm>
            <a:off x="2484360" y="162864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Значен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5373720"/>
            <a:ext cx="80074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азитические животные вызывают заболевания человека и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свинья"/>
          <p:cNvPicPr/>
          <p:nvPr/>
        </p:nvPicPr>
        <p:blipFill>
          <a:blip r:embed="rId1"/>
          <a:stretch/>
        </p:blipFill>
        <p:spPr>
          <a:xfrm>
            <a:off x="2340000" y="1341360"/>
            <a:ext cx="45514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Значен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5300280"/>
            <a:ext cx="80074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кие промысловые животные – белковая пища для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олень"/>
          <p:cNvPicPr/>
          <p:nvPr/>
        </p:nvPicPr>
        <p:blipFill>
          <a:blip r:embed="rId1"/>
          <a:stretch/>
        </p:blipFill>
        <p:spPr>
          <a:xfrm>
            <a:off x="2268360" y="1484280"/>
            <a:ext cx="47149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Значен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5013000"/>
            <a:ext cx="800748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Хищные животные регулируют численность своих жер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волки"/>
          <p:cNvPicPr/>
          <p:nvPr/>
        </p:nvPicPr>
        <p:blipFill>
          <a:blip r:embed="rId1"/>
          <a:stretch/>
        </p:blipFill>
        <p:spPr>
          <a:xfrm>
            <a:off x="2268360" y="1341360"/>
            <a:ext cx="46422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Значен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5373360"/>
            <a:ext cx="85215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машние животные выполняют различную работу; дают продукты питания и сыр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коза"/>
          <p:cNvPicPr/>
          <p:nvPr/>
        </p:nvPicPr>
        <p:blipFill>
          <a:blip r:embed="rId1"/>
          <a:stretch/>
        </p:blipFill>
        <p:spPr>
          <a:xfrm>
            <a:off x="2268360" y="1268280"/>
            <a:ext cx="506916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Значен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5640" y="2420640"/>
            <a:ext cx="48499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и просто наши друзья и даже часто часть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4" descr="обжора"/>
          <p:cNvPicPr/>
          <p:nvPr/>
        </p:nvPicPr>
        <p:blipFill>
          <a:blip r:embed="rId1"/>
          <a:stretch/>
        </p:blipFill>
        <p:spPr>
          <a:xfrm>
            <a:off x="755640" y="1197000"/>
            <a:ext cx="291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Структура учебника, работа с ним. Ведение тетра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йте на с.3 учебника пояснения – как пользоваться учеб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и как выделяется в тексте учебника красным цвет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отдельные слова выделены жирным шрифт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заключается в тексте, заключенном в рам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де находятся вопросы и задания для повторения и проверки задани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читать параграф 1, ответить на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читать параграф 1 в пособии «Экология животных», ответить на вопросы 1 и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Задач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формировать общие представления о многообразии животного мира и интерес к изучению зоолог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лан урока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3059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оология – система наук о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рты сходства и различия животных и раст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ие и многообразие животных на Земле (бесе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животных (бесе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а учебника, работа с ним. Ведение тетра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95280" y="260280"/>
            <a:ext cx="1800360" cy="216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о внутреннем строении животных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томия</a:t>
            </a:r>
            <a:endParaRPr b="1" lang="en-US" sz="2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24000" y="2637000"/>
            <a:ext cx="2303280" cy="172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о многообразии животного мира (биоразнообразие)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тика</a:t>
            </a:r>
            <a:endParaRPr b="1" lang="en-US" sz="2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11280" y="260280"/>
            <a:ext cx="2016360" cy="216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о внешнем строении животных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орфология</a:t>
            </a:r>
            <a:endParaRPr b="1" lang="en-US" sz="2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788000" y="260280"/>
            <a:ext cx="1944720" cy="216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об историческом развитии животных (филогенез)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леозоология</a:t>
            </a:r>
            <a:endParaRPr b="1" lang="en-US" sz="2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95280" y="4797360"/>
            <a:ext cx="2232000" cy="180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о связи животных со средой обитания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логия</a:t>
            </a:r>
            <a:endParaRPr b="1" lang="en-US" sz="2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276720" y="4797360"/>
            <a:ext cx="2447640" cy="180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об индивидуальном развитии животных (онтогенезе)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мбриология</a:t>
            </a:r>
            <a:endParaRPr b="1" lang="en-US" sz="2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6443640" y="4797360"/>
            <a:ext cx="2376360" cy="180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о распространении животных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оогеография</a:t>
            </a:r>
            <a:endParaRPr b="1" lang="en-US" sz="2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6516720" y="2708280"/>
            <a:ext cx="2232000" cy="1657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о поведении животных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логия животных</a:t>
            </a:r>
            <a:endParaRPr b="1" lang="en-US" sz="2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132000" y="2708280"/>
            <a:ext cx="3025800" cy="151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ОЛОГИЯ –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КА О ЖИВОТНЫХ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6948360" y="260280"/>
            <a:ext cx="1800360" cy="216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о жизнедеятельности животных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ология животных</a:t>
            </a:r>
            <a:endParaRPr b="1" lang="en-US" sz="2000" spc="-1" strike="noStrike">
              <a:solidFill>
                <a:srgbClr val="ffffb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ходства  растений и животных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3059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ее происхож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еточное 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имический соста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органические веществ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личие обмена веще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множение, рост, разви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личие кодирования, передачи и реализации наследственно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лотос из Вьетнама"/>
          <p:cNvPicPr/>
          <p:nvPr/>
        </p:nvPicPr>
        <p:blipFill>
          <a:blip r:embed="rId1"/>
          <a:stretch/>
        </p:blipFill>
        <p:spPr>
          <a:xfrm>
            <a:off x="5651640" y="1125360"/>
            <a:ext cx="3174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Отличие животных от расте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етки не имеют твердой целлюлозной обол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теротрофное пит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ны воспринимать раздражения и реагировать на 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о передвигаю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шинство сами добывают сами пищу, преследуют добы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сутствуют ткани, органы, системы орг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воили все среды об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мышь"/>
          <p:cNvPicPr/>
          <p:nvPr/>
        </p:nvPicPr>
        <p:blipFill>
          <a:blip r:embed="rId1"/>
          <a:stretch/>
        </p:blipFill>
        <p:spPr>
          <a:xfrm>
            <a:off x="6372360" y="4975200"/>
            <a:ext cx="25207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Распространение животны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6" descr="акула серая"/>
          <p:cNvPicPr/>
          <p:nvPr/>
        </p:nvPicPr>
        <p:blipFill>
          <a:blip r:embed="rId1"/>
          <a:stretch/>
        </p:blipFill>
        <p:spPr>
          <a:xfrm>
            <a:off x="5435640" y="1268280"/>
            <a:ext cx="3378240" cy="2476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серая ворона"/>
          <p:cNvPicPr/>
          <p:nvPr/>
        </p:nvPicPr>
        <p:blipFill>
          <a:blip r:embed="rId2"/>
          <a:stretch/>
        </p:blipFill>
        <p:spPr>
          <a:xfrm>
            <a:off x="324000" y="1197000"/>
            <a:ext cx="2214360" cy="295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муравей лесной"/>
          <p:cNvPicPr/>
          <p:nvPr/>
        </p:nvPicPr>
        <p:blipFill>
          <a:blip r:embed="rId3"/>
          <a:stretch/>
        </p:blipFill>
        <p:spPr>
          <a:xfrm>
            <a:off x="4932360" y="3860640"/>
            <a:ext cx="3521160" cy="2694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1820-1.jpg"/>
          <p:cNvPicPr/>
          <p:nvPr/>
        </p:nvPicPr>
        <p:blipFill>
          <a:blip r:embed="rId4"/>
          <a:stretch/>
        </p:blipFill>
        <p:spPr>
          <a:xfrm>
            <a:off x="826920" y="3933720"/>
            <a:ext cx="3327480" cy="2463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2700360" y="1197000"/>
            <a:ext cx="259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ная среда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емно-воздушная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енная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менная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71640" y="244440"/>
            <a:ext cx="3384720" cy="39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Многообразие животных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95280" y="1557360"/>
            <a:ext cx="266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50920" y="333360"/>
            <a:ext cx="2303280" cy="172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ейшие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0 тысяч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ов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300720" y="476280"/>
            <a:ext cx="2303640" cy="172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люски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оло 120 тысяч видов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372360" y="2565360"/>
            <a:ext cx="2303280" cy="172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ленистоногие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оло 2 млн.видов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50920" y="2492280"/>
            <a:ext cx="2303280" cy="172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убки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00 видов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24000" y="4724280"/>
            <a:ext cx="2303280" cy="172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шечно-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стные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 тысяч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ов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516720" y="4724280"/>
            <a:ext cx="2303280" cy="172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довые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ее 36 тысяч видов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3492360" y="4724280"/>
            <a:ext cx="2303640" cy="172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ви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ее 43 тысяч видов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Значен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Parnassius mnemosyne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684360" y="558972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пыляют растения</a:t>
            </a:r>
            <a:endParaRPr b="1" lang="en-US" sz="5400" spc="-1" strike="noStrike">
              <a:solidFill>
                <a:srgbClr val="ffffb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6:28:22Z</dcterms:created>
  <dc:creator>Долгорукова</dc:creator>
  <dc:description/>
  <dc:language>en-US</dc:language>
  <cp:lastModifiedBy>Asus</cp:lastModifiedBy>
  <dcterms:modified xsi:type="dcterms:W3CDTF">2012-09-02T17:45:50Z</dcterms:modified>
  <cp:revision>28</cp:revision>
  <dc:subject/>
  <dc:title>ЗООЛОГИЯ – НАУКА О ЖИВОТНЫХ</dc:title>
</cp:coreProperties>
</file>